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5.jpeg" ContentType="image/jpeg"/>
  <Override PartName="/ppt/media/image32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.png" ContentType="image/png"/>
  <Override PartName="/ppt/media/image31.png" ContentType="image/png"/>
  <Override PartName="/ppt/media/image2.jpeg" ContentType="image/jpeg"/>
  <Override PartName="/ppt/media/image36.jpeg" ContentType="image/jpeg"/>
  <Override PartName="/ppt/media/image3.png" ContentType="image/png"/>
  <Override PartName="/ppt/media/image33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9.png" ContentType="image/png"/>
  <Override PartName="/ppt/media/image46.gif" ContentType="image/gif"/>
  <Override PartName="/ppt/media/image37.jpeg" ContentType="image/jpeg"/>
  <Override PartName="/ppt/media/image30.png" ContentType="image/png"/>
  <Override PartName="/ppt/media/image5.png" ContentType="image/png"/>
  <Override PartName="/ppt/media/image38.jpeg" ContentType="image/jpeg"/>
  <Override PartName="/ppt/media/image28.png" ContentType="image/png"/>
  <Override PartName="/ppt/media/image40.jpeg" ContentType="image/jpeg"/>
  <Override PartName="/ppt/media/image44.png" ContentType="image/png"/>
  <Override PartName="/ppt/media/image45.png" ContentType="image/png"/>
  <Override PartName="/ppt/media/image35.jpeg" ContentType="image/jpeg"/>
  <Override PartName="/ppt/media/image10.png" ContentType="image/png"/>
  <Override PartName="/ppt/media/image50.jpeg" ContentType="image/jpeg"/>
  <Override PartName="/ppt/media/image27.jpeg" ContentType="image/jpeg"/>
  <Override PartName="/ppt/media/image43.png" ContentType="image/png"/>
  <Override PartName="/ppt/media/image47.jpeg" ContentType="image/jpeg"/>
  <Override PartName="/ppt/media/image41.png" ContentType="image/png"/>
  <Override PartName="/ppt/media/image48.jpeg" ContentType="image/jpeg"/>
  <Override PartName="/ppt/media/image49.jpeg" ContentType="image/jpeg"/>
  <Override PartName="/ppt/media/image39.jpeg" ContentType="image/jpeg"/>
  <Override PartName="/ppt/media/image8.png" ContentType="image/png"/>
  <Override PartName="/ppt/media/image14.jpeg" ContentType="image/jpeg"/>
  <Override PartName="/ppt/media/image34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2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A20C-0DC4-4DA7-B670-76D3FE0E4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F315-2BB5-4A18-8E63-FE216E0F5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8B836A-637C-426A-82DE-95C84D412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701286-7502-4393-9302-F28099466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99670C-E8E0-4D9B-B793-1AA76C3E0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8CCAA6-84A1-4E2A-B9F5-5F6E1897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C784A6-BDA0-40D7-BE64-A319FF1D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80FDA2-9264-4E47-9D76-1FFE10F3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EC7CF6-4AC9-43C7-9D9F-9AF33B4D7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6829C1-9EC5-4465-BDEF-ED246F3BC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942A35-4D01-4823-AB6E-87C1C957C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E1AC77-4B52-4881-936D-31676AF53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4826-DC29-4FCB-B2BC-09EBB37F3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3FFB61-AA7A-4D6D-89A7-4C8FB6CC5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5C2C6E-CA7A-42CB-BC04-AFC392D74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C890A8-5362-4E91-A450-970C717DE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0285A4-2078-4B4C-900D-294010E8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B95EAF-B8F3-4F21-A6C7-98E41B423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DBF362-2454-403B-94D8-CC01BAD3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945EFC-E222-4072-A00D-15CE46DF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C0D665-E030-4020-99C6-01D3C3B6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8D9D6D-EDF0-4097-B9CF-CBCA75900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1BA7CB-788B-4439-9CAC-F6927B42C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D185-80DF-42B1-8514-E7DF2F72F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4B9F14-EBEB-4F8A-9B17-AB8AFEC72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7B17B8-5F4B-482B-92CF-0B4B64957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EC6B6B-E9AD-4F09-B566-062BA52B2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203F6B-13F8-45A3-986E-92D55F0FD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1DFE6F-EF9F-4C30-AF9D-73201198A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89F925-033D-41A7-8FD6-8AE0C8936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24E618-1727-4ED7-9C77-B6419BC61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27A014-D102-42E3-BB08-D244804E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55CE8E-F235-440A-9F89-3DC1C00C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B011B3-0F63-447C-980B-DF1F7D92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6E7A7-F726-4715-8D74-F701F2F87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DFF192-65CF-4865-8E73-886F8C02A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026C2C-8EC6-4FA1-AD25-50AC1D20B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41F443-6730-4B42-8C5F-3108E2663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2ECA65-1321-4306-95A6-9AB841D42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12E3CD-563C-4E71-AACE-DD6D94BA3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5116EA-3561-487C-A601-3485D113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F928E6-E4DE-47BB-ADB3-709160B27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664012-7399-413E-9957-E0D2AA812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56D27A-8004-4E00-9C28-28F15BD1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0C9DE0-EACF-420F-97E5-48E36AFB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C9CF1-B407-4642-B21A-0E7113A36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AE7766-B267-4F6A-B711-65F3EE51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4140D6-8E40-43E2-A3D2-373EFAD8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52BFD6-B05A-41F6-9A20-EABD9ECD7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7F5FC6-CF99-467F-9677-7F0CE9FF8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16AAF2-CE6D-482D-A3BE-D0A4C0074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9F413-554E-46A7-BAC8-AC87AE8A5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B3740-4767-438A-A6B1-A7AE03FB5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4DE39-3ED0-4EC2-BC69-F38C0D678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89868-CB63-4E83-9FB8-964061C77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C1ED1-284B-4012-B7EB-DBEFCF90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538A-7D9F-4487-BD21-2EF1AD8C1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CFB75-A1B7-4AE8-A298-250E4740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90F9A-1E91-4538-B8A4-0AB1D965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45867-20A3-4596-AD04-7A597C7AE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5176F-0E60-4708-8513-715774DCB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810BE-47CE-4324-9524-6502534CD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68D11-023E-4725-9D7D-BD2862E04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6CD99-98AB-4C08-ABCF-472F03C85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F1F65-826E-4A7D-89D8-5C35AE313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0873B-B6A7-440B-9DDD-FE6914607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61BCD-C742-4D7C-AAA6-21FFC2A2C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5441-FCD4-4615-AEEA-4315C6643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E126F-FB7B-4ADC-8EDF-DB20C8498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BD942-F537-4358-8113-933F13BD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E5B3C-DA57-4B28-8E51-3D55C981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435B3-6669-4382-B8A8-887AC9D7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A118F-F04A-4A65-89C4-D0DD91C42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9D4DD-4E4D-411E-AF8A-A9FC9B83E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E0633-90AD-4D1C-8D9E-628818185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5C11C-8267-4408-ACC9-5FE3DD64A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CA90B-59A9-4194-BE06-469062049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65DD8-278C-4198-BCF8-408C478D3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F2A2-8656-44DD-8822-922AE1070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29402-9D18-4A23-9935-F49F27DB1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62BAE-99B5-4E31-B397-AB2922125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64A1B-AF08-488A-8690-8AD710003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A6382-5BEE-40BF-B663-1CC5796B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7F77F-B10D-4CC7-AAD2-54866504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BE5CC-3253-477A-9459-7D13B1EA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4D173-F7FD-4FC6-95DB-D425439CB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319A1-9AC2-40DA-9BF6-F32DFC4FD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22ACB-EDCC-4FD3-8943-CD77E793B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75DD0-5B83-4359-8E08-7D08E6D30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37E7-E92C-4B66-985F-FEAC09E32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0ABF1-0FED-46AA-B7B9-FA45DD208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5B066-BC04-4031-BD02-A23749EE2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EE072-7724-4AF5-B617-E4714FDA2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83FD3-9A0E-4FF7-868E-0ADA8F03D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DF619-2A9D-47DF-A865-9B3EACAAA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DEDEF-63A7-4542-868F-DDDC2CD0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6BA4D-6488-4EA1-8472-83BC09AD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39274-ED4E-40C0-95B9-32091E27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F98C6-32BC-4D36-A8A4-93EB17CF4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583B2-ED65-4174-A3BD-E119DD677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9839-EA64-4EDF-B059-15D5B4ACE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D831B-F81C-41F9-BAC5-841E17E15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EC049-37A4-4751-B2F5-2DFF1DA1B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827EA8-DA30-41FF-BD7D-D9145DB8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D079C-6AEE-423C-9BBA-D862A6D45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E9CEE-C7F8-4BA7-B676-4126C28F8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E426B-8FD9-4030-9962-7DB0A43B2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2B64E-8589-4B8E-8395-B477DF9CC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1E7D0-F0F2-4085-8FD2-8A9B4E24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7AAF8-E202-4453-B1CA-B8904036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8FFE5-7A62-4469-8BD4-F58D98E9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E26C-1935-40F6-ADCD-5D8E6DCE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0CFF0-2D2F-4823-9968-260BE1BE2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164C3-B62A-4F29-9CDE-964B2AEEE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367AC-CFF0-410B-B164-ABF736724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88EDB2-A731-4E51-A3E2-B2A6A2E1A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BD9D60-EB7F-4C9C-84D5-F5D8697A5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59D8A2-244E-41E7-B73F-1FC96EC13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528B3-2C35-43B3-B746-842092C97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54CF8-B215-4FB4-824A-1B982EE59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4F458E-0D2F-446A-BD25-C53882D47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38BBC-A3B3-4162-85C9-B3E4DFA7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4E87-D75A-4ECE-B4EC-A87424FC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5C373-A179-4388-969F-18714AC1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8BFC88-2C19-4B8B-BA78-B9CFCB8A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DE2F7-ED8F-46C8-BE6E-01A038A24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A54C5-74C9-4DEA-814F-C6FB55006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BD925-7F2D-4296-9C3F-F1458FC35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AB3989-7C06-4E21-92C8-22E74C3C6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14F314-DED0-4CD2-B734-4FFEEC37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62FAE9-A4BA-488A-A085-7577CE8D5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6199D7-2143-40B5-B454-1E344D2C1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8FEFE3-A14B-43DA-AD67-8A90A80B2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5590-D95A-4531-90EC-09A0ED7C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78B34C-06B6-4FDD-91E5-E781C7748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1D7487-2098-4D6B-ACFA-BBDF4AB3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7260E8-F67A-46E1-89A1-797135ED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1A31C6-BF19-4D08-A0C7-D3734148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F12E3A-6221-4E9E-B2E3-69E26FED4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1B1089-E379-4632-8E14-7BAEB86C9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B9942F-344D-4A67-82EF-0E6768FE8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23D40C-D897-4D4B-A631-4AB2809E4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0BFD59-AA57-4EC8-8230-BABD278BD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FDFB72-86A3-4924-B84A-BB1584E2E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58369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58370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58371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58372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58373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58374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58375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2AEC-B352-4805-8CEE-8186F3509210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C42D9-B946-4294-9612-3EAF306D2E3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6DD11-B4D6-46B6-9C0F-ECC7D6DAC59A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9BB9C-A821-4A81-9ABA-A53C7A2AD70A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59393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49" name="椭圆 59394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椭圆 59395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椭圆 59396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59397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59398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" name="椭圆 59399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D2E40-D2B6-47B1-8AE2-6501DE49C22D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E7906-16CB-442D-A3DD-3F7CD99A593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905B9-55CC-4574-BC20-9699358980B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5BA24-7BE7-4AB9-982F-D54B285E04AD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5422C-D9D7-4501-B467-4B4C6A0D0E51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CBBA1-A880-4985-875F-6C2CFD3F6E6E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D18BB-C10F-4D11-955F-5F75301AB92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F06EB-82EE-4AF7-965A-701B25A52F45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gif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7"/>
          <p:cNvGrpSpPr/>
          <p:nvPr/>
        </p:nvGrpSpPr>
        <p:grpSpPr>
          <a:xfrm>
            <a:off x="1476360" y="4005360"/>
            <a:ext cx="2664000" cy="2520720"/>
            <a:chOff x="1476360" y="4005360"/>
            <a:chExt cx="2664000" cy="2520720"/>
          </a:xfrm>
        </p:grpSpPr>
        <p:sp>
          <p:nvSpPr>
            <p:cNvPr id="507" name="Rectangle 4"/>
            <p:cNvSpPr/>
            <p:nvPr/>
          </p:nvSpPr>
          <p:spPr>
            <a:xfrm>
              <a:off x="1476360" y="4005360"/>
              <a:ext cx="2664000" cy="252072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8" name="Line 5"/>
            <p:cNvSpPr/>
            <p:nvPr/>
          </p:nvSpPr>
          <p:spPr>
            <a:xfrm>
              <a:off x="1476360" y="5265000"/>
              <a:ext cx="262368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9" name="Line 6"/>
            <p:cNvSpPr/>
            <p:nvPr/>
          </p:nvSpPr>
          <p:spPr>
            <a:xfrm>
              <a:off x="2808360" y="4005360"/>
              <a:ext cx="0" cy="252072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10" name="Text Box 15"/>
          <p:cNvSpPr/>
          <p:nvPr/>
        </p:nvSpPr>
        <p:spPr>
          <a:xfrm>
            <a:off x="1838160" y="4075200"/>
            <a:ext cx="2086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5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水</a:t>
            </a:r>
            <a:endParaRPr b="0" i="1" lang="en-US" sz="15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11" name="Group 7"/>
          <p:cNvGrpSpPr/>
          <p:nvPr/>
        </p:nvGrpSpPr>
        <p:grpSpPr>
          <a:xfrm>
            <a:off x="4930920" y="4005360"/>
            <a:ext cx="2736720" cy="2592360"/>
            <a:chOff x="4930920" y="4005360"/>
            <a:chExt cx="2736720" cy="2592360"/>
          </a:xfrm>
        </p:grpSpPr>
        <p:sp>
          <p:nvSpPr>
            <p:cNvPr id="512" name="Rectangle 4"/>
            <p:cNvSpPr/>
            <p:nvPr/>
          </p:nvSpPr>
          <p:spPr>
            <a:xfrm>
              <a:off x="4930920" y="4005360"/>
              <a:ext cx="2736720" cy="259236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3" name="Line 5"/>
            <p:cNvSpPr/>
            <p:nvPr/>
          </p:nvSpPr>
          <p:spPr>
            <a:xfrm>
              <a:off x="4930920" y="5301000"/>
              <a:ext cx="2695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4" name="Line 6"/>
            <p:cNvSpPr/>
            <p:nvPr/>
          </p:nvSpPr>
          <p:spPr>
            <a:xfrm>
              <a:off x="6299280" y="4005360"/>
              <a:ext cx="0" cy="259236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15" name="Text Box 15"/>
          <p:cNvSpPr/>
          <p:nvPr/>
        </p:nvSpPr>
        <p:spPr>
          <a:xfrm>
            <a:off x="5381640" y="4075200"/>
            <a:ext cx="2143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5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火</a:t>
            </a:r>
            <a:endParaRPr b="0" i="1" lang="en-US" sz="15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16" name="Group 30"/>
          <p:cNvGrpSpPr/>
          <p:nvPr/>
        </p:nvGrpSpPr>
        <p:grpSpPr>
          <a:xfrm>
            <a:off x="1474920" y="522360"/>
            <a:ext cx="2592360" cy="2837160"/>
            <a:chOff x="1474920" y="522360"/>
            <a:chExt cx="2592360" cy="2837160"/>
          </a:xfrm>
        </p:grpSpPr>
        <p:grpSp>
          <p:nvGrpSpPr>
            <p:cNvPr id="517" name="Group 7"/>
            <p:cNvGrpSpPr/>
            <p:nvPr/>
          </p:nvGrpSpPr>
          <p:grpSpPr>
            <a:xfrm>
              <a:off x="1474920" y="711360"/>
              <a:ext cx="2592360" cy="2557440"/>
              <a:chOff x="1474920" y="711360"/>
              <a:chExt cx="2592360" cy="2557440"/>
            </a:xfrm>
          </p:grpSpPr>
          <p:sp>
            <p:nvSpPr>
              <p:cNvPr id="518" name="Rectangle 4"/>
              <p:cNvSpPr/>
              <p:nvPr/>
            </p:nvSpPr>
            <p:spPr>
              <a:xfrm>
                <a:off x="1474920" y="711360"/>
                <a:ext cx="2592360" cy="2557440"/>
              </a:xfrm>
              <a:prstGeom prst="rect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19" name="Line 5"/>
              <p:cNvSpPr/>
              <p:nvPr/>
            </p:nvSpPr>
            <p:spPr>
              <a:xfrm>
                <a:off x="1474920" y="1989360"/>
                <a:ext cx="25531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20" name="Line 6"/>
              <p:cNvSpPr/>
              <p:nvPr/>
            </p:nvSpPr>
            <p:spPr>
              <a:xfrm>
                <a:off x="2771280" y="711360"/>
                <a:ext cx="0" cy="2557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521" name="Text Box 8"/>
            <p:cNvSpPr/>
            <p:nvPr/>
          </p:nvSpPr>
          <p:spPr>
            <a:xfrm>
              <a:off x="1614600" y="522360"/>
              <a:ext cx="230976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8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日</a:t>
              </a:r>
              <a:endParaRPr b="0" i="1" lang="en-US" sz="18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22" name="Group 31"/>
          <p:cNvGrpSpPr/>
          <p:nvPr/>
        </p:nvGrpSpPr>
        <p:grpSpPr>
          <a:xfrm>
            <a:off x="4930920" y="620640"/>
            <a:ext cx="2665440" cy="2652840"/>
            <a:chOff x="4930920" y="620640"/>
            <a:chExt cx="2665440" cy="2652840"/>
          </a:xfrm>
        </p:grpSpPr>
        <p:grpSp>
          <p:nvGrpSpPr>
            <p:cNvPr id="523" name="Group 7"/>
            <p:cNvGrpSpPr/>
            <p:nvPr/>
          </p:nvGrpSpPr>
          <p:grpSpPr>
            <a:xfrm>
              <a:off x="4930920" y="711360"/>
              <a:ext cx="2665440" cy="2562120"/>
              <a:chOff x="4930920" y="711360"/>
              <a:chExt cx="2665440" cy="2562120"/>
            </a:xfrm>
          </p:grpSpPr>
          <p:sp>
            <p:nvSpPr>
              <p:cNvPr id="524" name="Rectangle 4"/>
              <p:cNvSpPr/>
              <p:nvPr/>
            </p:nvSpPr>
            <p:spPr>
              <a:xfrm>
                <a:off x="4930920" y="711360"/>
                <a:ext cx="2665440" cy="2562120"/>
              </a:xfrm>
              <a:prstGeom prst="rect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25" name="Line 5"/>
              <p:cNvSpPr/>
              <p:nvPr/>
            </p:nvSpPr>
            <p:spPr>
              <a:xfrm>
                <a:off x="4930920" y="1991880"/>
                <a:ext cx="26251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26" name="Line 6"/>
              <p:cNvSpPr/>
              <p:nvPr/>
            </p:nvSpPr>
            <p:spPr>
              <a:xfrm>
                <a:off x="6263640" y="711360"/>
                <a:ext cx="0" cy="256212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527" name="Text Box 8"/>
            <p:cNvSpPr/>
            <p:nvPr/>
          </p:nvSpPr>
          <p:spPr>
            <a:xfrm>
              <a:off x="5221440" y="620640"/>
              <a:ext cx="237492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6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月</a:t>
              </a:r>
              <a:endParaRPr b="0" i="1" lang="en-US" sz="16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8" descr=""/>
          <p:cNvPicPr/>
          <p:nvPr/>
        </p:nvPicPr>
        <p:blipFill>
          <a:blip r:embed="rId1"/>
          <a:srcRect l="17967" t="11366" r="15684" b="9098"/>
          <a:stretch/>
        </p:blipFill>
        <p:spPr>
          <a:xfrm>
            <a:off x="1300320" y="493560"/>
            <a:ext cx="1618920" cy="188784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4" descr=""/>
          <p:cNvPicPr/>
          <p:nvPr/>
        </p:nvPicPr>
        <p:blipFill>
          <a:blip r:embed="rId2"/>
          <a:srcRect l="33351" t="0" r="14278" b="0"/>
          <a:stretch/>
        </p:blipFill>
        <p:spPr>
          <a:xfrm>
            <a:off x="3429000" y="493560"/>
            <a:ext cx="1143000" cy="2221200"/>
          </a:xfrm>
          <a:prstGeom prst="rect">
            <a:avLst/>
          </a:prstGeom>
          <a:ln w="0">
            <a:noFill/>
          </a:ln>
        </p:spPr>
      </p:pic>
      <p:pic>
        <p:nvPicPr>
          <p:cNvPr id="584" name="图片 5" descr=""/>
          <p:cNvPicPr/>
          <p:nvPr/>
        </p:nvPicPr>
        <p:blipFill>
          <a:blip r:embed="rId3">
            <a:lum contrast="40000"/>
          </a:blip>
          <a:stretch/>
        </p:blipFill>
        <p:spPr>
          <a:xfrm>
            <a:off x="5143680" y="701640"/>
            <a:ext cx="1236600" cy="1870200"/>
          </a:xfrm>
          <a:prstGeom prst="rect">
            <a:avLst/>
          </a:prstGeom>
          <a:ln w="0">
            <a:noFill/>
          </a:ln>
        </p:spPr>
      </p:pic>
      <p:sp>
        <p:nvSpPr>
          <p:cNvPr id="585" name="TextBox 6"/>
          <p:cNvSpPr/>
          <p:nvPr/>
        </p:nvSpPr>
        <p:spPr>
          <a:xfrm>
            <a:off x="6929280" y="304920"/>
            <a:ext cx="18576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3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月</a:t>
            </a:r>
            <a:endParaRPr b="0" i="1" lang="en-US" sz="13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6" name="TextBox 7"/>
          <p:cNvSpPr/>
          <p:nvPr/>
        </p:nvSpPr>
        <p:spPr>
          <a:xfrm>
            <a:off x="1979640" y="2709720"/>
            <a:ext cx="1428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000000"/>
                </a:solidFill>
                <a:uFillTx/>
                <a:latin typeface="方正姚体"/>
                <a:ea typeface="方正姚体"/>
              </a:rPr>
              <a:t>yuè  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7" name="TextBox 13"/>
          <p:cNvSpPr/>
          <p:nvPr/>
        </p:nvSpPr>
        <p:spPr>
          <a:xfrm>
            <a:off x="6227640" y="3573360"/>
            <a:ext cx="2374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liɑng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8" name="TextBox 6"/>
          <p:cNvSpPr/>
          <p:nvPr/>
        </p:nvSpPr>
        <p:spPr>
          <a:xfrm>
            <a:off x="4573440" y="4221000"/>
            <a:ext cx="43196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3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月亮</a:t>
            </a:r>
            <a:endParaRPr b="0" i="1" lang="en-US" sz="13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89" name="Group 18"/>
          <p:cNvGrpSpPr/>
          <p:nvPr/>
        </p:nvGrpSpPr>
        <p:grpSpPr>
          <a:xfrm>
            <a:off x="1187280" y="3600360"/>
            <a:ext cx="2953080" cy="3142080"/>
            <a:chOff x="1187280" y="3600360"/>
            <a:chExt cx="2953080" cy="3142080"/>
          </a:xfrm>
        </p:grpSpPr>
        <p:grpSp>
          <p:nvGrpSpPr>
            <p:cNvPr id="590" name="Group 7"/>
            <p:cNvGrpSpPr/>
            <p:nvPr/>
          </p:nvGrpSpPr>
          <p:grpSpPr>
            <a:xfrm>
              <a:off x="1187280" y="3789360"/>
              <a:ext cx="2953080" cy="2952720"/>
              <a:chOff x="1187280" y="3789360"/>
              <a:chExt cx="2953080" cy="2952720"/>
            </a:xfrm>
          </p:grpSpPr>
          <p:sp>
            <p:nvSpPr>
              <p:cNvPr id="591" name="Rectangle 4"/>
              <p:cNvSpPr/>
              <p:nvPr/>
            </p:nvSpPr>
            <p:spPr>
              <a:xfrm>
                <a:off x="1187280" y="3789360"/>
                <a:ext cx="2953080" cy="2952720"/>
              </a:xfrm>
              <a:prstGeom prst="rect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92" name="Line 5"/>
              <p:cNvSpPr/>
              <p:nvPr/>
            </p:nvSpPr>
            <p:spPr>
              <a:xfrm>
                <a:off x="1187280" y="5265000"/>
                <a:ext cx="29084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93" name="Line 6"/>
              <p:cNvSpPr/>
              <p:nvPr/>
            </p:nvSpPr>
            <p:spPr>
              <a:xfrm>
                <a:off x="2664000" y="3789360"/>
                <a:ext cx="0" cy="2952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594" name="Text Box 8"/>
            <p:cNvSpPr/>
            <p:nvPr/>
          </p:nvSpPr>
          <p:spPr>
            <a:xfrm>
              <a:off x="1332000" y="3600360"/>
              <a:ext cx="2630520" cy="31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月</a:t>
              </a:r>
              <a:endParaRPr b="0" i="1" lang="en-US" sz="20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95" name="Freeform 20"/>
          <p:cNvSpPr/>
          <p:nvPr/>
        </p:nvSpPr>
        <p:spPr>
          <a:xfrm>
            <a:off x="1692360" y="4365720"/>
            <a:ext cx="718920" cy="2098440"/>
          </a:xfrm>
          <a:custGeom>
            <a:avLst/>
            <a:gdLst/>
            <a:ahLst/>
            <a:rect l="l" t="t" r="r" b="b"/>
            <a:pathLst>
              <a:path w="494" h="1322">
                <a:moveTo>
                  <a:pt x="437" y="762"/>
                </a:moveTo>
                <a:lnTo>
                  <a:pt x="423" y="815"/>
                </a:lnTo>
                <a:lnTo>
                  <a:pt x="416" y="840"/>
                </a:lnTo>
                <a:lnTo>
                  <a:pt x="408" y="867"/>
                </a:lnTo>
                <a:lnTo>
                  <a:pt x="398" y="892"/>
                </a:lnTo>
                <a:lnTo>
                  <a:pt x="389" y="919"/>
                </a:lnTo>
                <a:lnTo>
                  <a:pt x="379" y="946"/>
                </a:lnTo>
                <a:lnTo>
                  <a:pt x="368" y="971"/>
                </a:lnTo>
                <a:lnTo>
                  <a:pt x="354" y="997"/>
                </a:lnTo>
                <a:lnTo>
                  <a:pt x="341" y="1022"/>
                </a:lnTo>
                <a:lnTo>
                  <a:pt x="326" y="1047"/>
                </a:lnTo>
                <a:lnTo>
                  <a:pt x="310" y="1070"/>
                </a:lnTo>
                <a:lnTo>
                  <a:pt x="293" y="1093"/>
                </a:lnTo>
                <a:lnTo>
                  <a:pt x="276" y="1116"/>
                </a:lnTo>
                <a:lnTo>
                  <a:pt x="258" y="1139"/>
                </a:lnTo>
                <a:lnTo>
                  <a:pt x="239" y="1161"/>
                </a:lnTo>
                <a:lnTo>
                  <a:pt x="220" y="1182"/>
                </a:lnTo>
                <a:lnTo>
                  <a:pt x="201" y="1201"/>
                </a:lnTo>
                <a:lnTo>
                  <a:pt x="182" y="1218"/>
                </a:lnTo>
                <a:lnTo>
                  <a:pt x="164" y="1233"/>
                </a:lnTo>
                <a:lnTo>
                  <a:pt x="145" y="1249"/>
                </a:lnTo>
                <a:lnTo>
                  <a:pt x="126" y="1262"/>
                </a:lnTo>
                <a:lnTo>
                  <a:pt x="109" y="1276"/>
                </a:lnTo>
                <a:lnTo>
                  <a:pt x="92" y="1287"/>
                </a:lnTo>
                <a:lnTo>
                  <a:pt x="84" y="1293"/>
                </a:lnTo>
                <a:lnTo>
                  <a:pt x="76" y="1299"/>
                </a:lnTo>
                <a:lnTo>
                  <a:pt x="69" y="1303"/>
                </a:lnTo>
                <a:lnTo>
                  <a:pt x="61" y="1306"/>
                </a:lnTo>
                <a:lnTo>
                  <a:pt x="55" y="1310"/>
                </a:lnTo>
                <a:lnTo>
                  <a:pt x="47" y="1314"/>
                </a:lnTo>
                <a:lnTo>
                  <a:pt x="42" y="1316"/>
                </a:lnTo>
                <a:lnTo>
                  <a:pt x="36" y="1318"/>
                </a:lnTo>
                <a:lnTo>
                  <a:pt x="24" y="1320"/>
                </a:lnTo>
                <a:lnTo>
                  <a:pt x="17" y="1322"/>
                </a:lnTo>
                <a:lnTo>
                  <a:pt x="9" y="1322"/>
                </a:lnTo>
                <a:lnTo>
                  <a:pt x="3" y="1320"/>
                </a:lnTo>
                <a:lnTo>
                  <a:pt x="1" y="1316"/>
                </a:lnTo>
                <a:lnTo>
                  <a:pt x="0" y="1314"/>
                </a:lnTo>
                <a:lnTo>
                  <a:pt x="0" y="1310"/>
                </a:lnTo>
                <a:lnTo>
                  <a:pt x="0" y="1306"/>
                </a:lnTo>
                <a:lnTo>
                  <a:pt x="0" y="1303"/>
                </a:lnTo>
                <a:lnTo>
                  <a:pt x="1" y="1297"/>
                </a:lnTo>
                <a:lnTo>
                  <a:pt x="5" y="1291"/>
                </a:lnTo>
                <a:lnTo>
                  <a:pt x="7" y="1285"/>
                </a:lnTo>
                <a:lnTo>
                  <a:pt x="11" y="1280"/>
                </a:lnTo>
                <a:lnTo>
                  <a:pt x="17" y="1272"/>
                </a:lnTo>
                <a:lnTo>
                  <a:pt x="23" y="1264"/>
                </a:lnTo>
                <a:lnTo>
                  <a:pt x="28" y="1257"/>
                </a:lnTo>
                <a:lnTo>
                  <a:pt x="36" y="1247"/>
                </a:lnTo>
                <a:lnTo>
                  <a:pt x="44" y="1239"/>
                </a:lnTo>
                <a:lnTo>
                  <a:pt x="51" y="1228"/>
                </a:lnTo>
                <a:lnTo>
                  <a:pt x="61" y="1218"/>
                </a:lnTo>
                <a:lnTo>
                  <a:pt x="80" y="1193"/>
                </a:lnTo>
                <a:lnTo>
                  <a:pt x="99" y="1168"/>
                </a:lnTo>
                <a:lnTo>
                  <a:pt x="118" y="1143"/>
                </a:lnTo>
                <a:lnTo>
                  <a:pt x="138" y="1116"/>
                </a:lnTo>
                <a:lnTo>
                  <a:pt x="157" y="1090"/>
                </a:lnTo>
                <a:lnTo>
                  <a:pt x="176" y="1059"/>
                </a:lnTo>
                <a:lnTo>
                  <a:pt x="195" y="1028"/>
                </a:lnTo>
                <a:lnTo>
                  <a:pt x="214" y="997"/>
                </a:lnTo>
                <a:lnTo>
                  <a:pt x="230" y="963"/>
                </a:lnTo>
                <a:lnTo>
                  <a:pt x="245" y="928"/>
                </a:lnTo>
                <a:lnTo>
                  <a:pt x="260" y="894"/>
                </a:lnTo>
                <a:lnTo>
                  <a:pt x="276" y="857"/>
                </a:lnTo>
                <a:lnTo>
                  <a:pt x="289" y="821"/>
                </a:lnTo>
                <a:lnTo>
                  <a:pt x="301" y="785"/>
                </a:lnTo>
                <a:lnTo>
                  <a:pt x="312" y="746"/>
                </a:lnTo>
                <a:lnTo>
                  <a:pt x="322" y="706"/>
                </a:lnTo>
                <a:lnTo>
                  <a:pt x="329" y="664"/>
                </a:lnTo>
                <a:lnTo>
                  <a:pt x="333" y="643"/>
                </a:lnTo>
                <a:lnTo>
                  <a:pt x="335" y="621"/>
                </a:lnTo>
                <a:lnTo>
                  <a:pt x="339" y="598"/>
                </a:lnTo>
                <a:lnTo>
                  <a:pt x="341" y="575"/>
                </a:lnTo>
                <a:lnTo>
                  <a:pt x="343" y="552"/>
                </a:lnTo>
                <a:lnTo>
                  <a:pt x="345" y="527"/>
                </a:lnTo>
                <a:lnTo>
                  <a:pt x="347" y="504"/>
                </a:lnTo>
                <a:lnTo>
                  <a:pt x="349" y="478"/>
                </a:lnTo>
                <a:lnTo>
                  <a:pt x="350" y="453"/>
                </a:lnTo>
                <a:lnTo>
                  <a:pt x="352" y="426"/>
                </a:lnTo>
                <a:lnTo>
                  <a:pt x="352" y="399"/>
                </a:lnTo>
                <a:lnTo>
                  <a:pt x="354" y="370"/>
                </a:lnTo>
                <a:lnTo>
                  <a:pt x="354" y="343"/>
                </a:lnTo>
                <a:lnTo>
                  <a:pt x="354" y="313"/>
                </a:lnTo>
                <a:lnTo>
                  <a:pt x="354" y="286"/>
                </a:lnTo>
                <a:lnTo>
                  <a:pt x="354" y="259"/>
                </a:lnTo>
                <a:lnTo>
                  <a:pt x="354" y="234"/>
                </a:lnTo>
                <a:lnTo>
                  <a:pt x="352" y="211"/>
                </a:lnTo>
                <a:lnTo>
                  <a:pt x="352" y="190"/>
                </a:lnTo>
                <a:lnTo>
                  <a:pt x="352" y="169"/>
                </a:lnTo>
                <a:lnTo>
                  <a:pt x="350" y="149"/>
                </a:lnTo>
                <a:lnTo>
                  <a:pt x="350" y="132"/>
                </a:lnTo>
                <a:lnTo>
                  <a:pt x="349" y="117"/>
                </a:lnTo>
                <a:lnTo>
                  <a:pt x="349" y="103"/>
                </a:lnTo>
                <a:lnTo>
                  <a:pt x="347" y="90"/>
                </a:lnTo>
                <a:lnTo>
                  <a:pt x="347" y="78"/>
                </a:lnTo>
                <a:lnTo>
                  <a:pt x="345" y="69"/>
                </a:lnTo>
                <a:lnTo>
                  <a:pt x="345" y="59"/>
                </a:lnTo>
                <a:lnTo>
                  <a:pt x="343" y="54"/>
                </a:lnTo>
                <a:lnTo>
                  <a:pt x="341" y="48"/>
                </a:lnTo>
                <a:lnTo>
                  <a:pt x="337" y="40"/>
                </a:lnTo>
                <a:lnTo>
                  <a:pt x="335" y="32"/>
                </a:lnTo>
                <a:lnTo>
                  <a:pt x="333" y="27"/>
                </a:lnTo>
                <a:lnTo>
                  <a:pt x="331" y="21"/>
                </a:lnTo>
                <a:lnTo>
                  <a:pt x="331" y="15"/>
                </a:lnTo>
                <a:lnTo>
                  <a:pt x="331" y="9"/>
                </a:lnTo>
                <a:lnTo>
                  <a:pt x="333" y="6"/>
                </a:lnTo>
                <a:lnTo>
                  <a:pt x="335" y="4"/>
                </a:lnTo>
                <a:lnTo>
                  <a:pt x="337" y="2"/>
                </a:lnTo>
                <a:lnTo>
                  <a:pt x="341" y="2"/>
                </a:lnTo>
                <a:lnTo>
                  <a:pt x="345" y="0"/>
                </a:lnTo>
                <a:lnTo>
                  <a:pt x="349" y="0"/>
                </a:lnTo>
                <a:lnTo>
                  <a:pt x="356" y="2"/>
                </a:lnTo>
                <a:lnTo>
                  <a:pt x="364" y="2"/>
                </a:lnTo>
                <a:lnTo>
                  <a:pt x="372" y="2"/>
                </a:lnTo>
                <a:lnTo>
                  <a:pt x="381" y="4"/>
                </a:lnTo>
                <a:lnTo>
                  <a:pt x="393" y="6"/>
                </a:lnTo>
                <a:lnTo>
                  <a:pt x="404" y="7"/>
                </a:lnTo>
                <a:lnTo>
                  <a:pt x="418" y="9"/>
                </a:lnTo>
                <a:lnTo>
                  <a:pt x="431" y="13"/>
                </a:lnTo>
                <a:lnTo>
                  <a:pt x="444" y="15"/>
                </a:lnTo>
                <a:lnTo>
                  <a:pt x="462" y="19"/>
                </a:lnTo>
                <a:lnTo>
                  <a:pt x="477" y="23"/>
                </a:lnTo>
                <a:lnTo>
                  <a:pt x="494" y="29"/>
                </a:lnTo>
                <a:lnTo>
                  <a:pt x="494" y="48"/>
                </a:lnTo>
                <a:lnTo>
                  <a:pt x="494" y="67"/>
                </a:lnTo>
                <a:lnTo>
                  <a:pt x="494" y="88"/>
                </a:lnTo>
                <a:lnTo>
                  <a:pt x="494" y="109"/>
                </a:lnTo>
                <a:lnTo>
                  <a:pt x="494" y="130"/>
                </a:lnTo>
                <a:lnTo>
                  <a:pt x="492" y="153"/>
                </a:lnTo>
                <a:lnTo>
                  <a:pt x="492" y="176"/>
                </a:lnTo>
                <a:lnTo>
                  <a:pt x="490" y="199"/>
                </a:lnTo>
                <a:lnTo>
                  <a:pt x="490" y="224"/>
                </a:lnTo>
                <a:lnTo>
                  <a:pt x="489" y="249"/>
                </a:lnTo>
                <a:lnTo>
                  <a:pt x="489" y="274"/>
                </a:lnTo>
                <a:lnTo>
                  <a:pt x="487" y="301"/>
                </a:lnTo>
                <a:lnTo>
                  <a:pt x="487" y="328"/>
                </a:lnTo>
                <a:lnTo>
                  <a:pt x="485" y="357"/>
                </a:lnTo>
                <a:lnTo>
                  <a:pt x="483" y="385"/>
                </a:lnTo>
                <a:lnTo>
                  <a:pt x="483" y="414"/>
                </a:lnTo>
                <a:lnTo>
                  <a:pt x="481" y="443"/>
                </a:lnTo>
                <a:lnTo>
                  <a:pt x="479" y="472"/>
                </a:lnTo>
                <a:lnTo>
                  <a:pt x="477" y="499"/>
                </a:lnTo>
                <a:lnTo>
                  <a:pt x="475" y="526"/>
                </a:lnTo>
                <a:lnTo>
                  <a:pt x="473" y="550"/>
                </a:lnTo>
                <a:lnTo>
                  <a:pt x="471" y="573"/>
                </a:lnTo>
                <a:lnTo>
                  <a:pt x="467" y="597"/>
                </a:lnTo>
                <a:lnTo>
                  <a:pt x="466" y="620"/>
                </a:lnTo>
                <a:lnTo>
                  <a:pt x="462" y="641"/>
                </a:lnTo>
                <a:lnTo>
                  <a:pt x="458" y="660"/>
                </a:lnTo>
                <a:lnTo>
                  <a:pt x="456" y="679"/>
                </a:lnTo>
                <a:lnTo>
                  <a:pt x="452" y="698"/>
                </a:lnTo>
                <a:lnTo>
                  <a:pt x="448" y="715"/>
                </a:lnTo>
                <a:lnTo>
                  <a:pt x="444" y="733"/>
                </a:lnTo>
                <a:lnTo>
                  <a:pt x="441" y="748"/>
                </a:lnTo>
                <a:lnTo>
                  <a:pt x="437" y="762"/>
                </a:lnTo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6" name="Freeform 22"/>
          <p:cNvSpPr/>
          <p:nvPr/>
        </p:nvSpPr>
        <p:spPr>
          <a:xfrm rot="21467400">
            <a:off x="2340000" y="4849560"/>
            <a:ext cx="576360" cy="163440"/>
          </a:xfrm>
          <a:custGeom>
            <a:avLst/>
            <a:gdLst/>
            <a:ahLst/>
            <a:rect l="l" t="t" r="r" b="b"/>
            <a:pathLst>
              <a:path w="408" h="148">
                <a:moveTo>
                  <a:pt x="173" y="29"/>
                </a:moveTo>
                <a:lnTo>
                  <a:pt x="201" y="20"/>
                </a:lnTo>
                <a:lnTo>
                  <a:pt x="217" y="16"/>
                </a:lnTo>
                <a:lnTo>
                  <a:pt x="230" y="12"/>
                </a:lnTo>
                <a:lnTo>
                  <a:pt x="243" y="10"/>
                </a:lnTo>
                <a:lnTo>
                  <a:pt x="257" y="8"/>
                </a:lnTo>
                <a:lnTo>
                  <a:pt x="270" y="6"/>
                </a:lnTo>
                <a:lnTo>
                  <a:pt x="282" y="4"/>
                </a:lnTo>
                <a:lnTo>
                  <a:pt x="293" y="2"/>
                </a:lnTo>
                <a:lnTo>
                  <a:pt x="303" y="2"/>
                </a:lnTo>
                <a:lnTo>
                  <a:pt x="314" y="0"/>
                </a:lnTo>
                <a:lnTo>
                  <a:pt x="324" y="0"/>
                </a:lnTo>
                <a:lnTo>
                  <a:pt x="334" y="0"/>
                </a:lnTo>
                <a:lnTo>
                  <a:pt x="341" y="0"/>
                </a:lnTo>
                <a:lnTo>
                  <a:pt x="349" y="2"/>
                </a:lnTo>
                <a:lnTo>
                  <a:pt x="357" y="2"/>
                </a:lnTo>
                <a:lnTo>
                  <a:pt x="368" y="8"/>
                </a:lnTo>
                <a:lnTo>
                  <a:pt x="380" y="12"/>
                </a:lnTo>
                <a:lnTo>
                  <a:pt x="387" y="18"/>
                </a:lnTo>
                <a:lnTo>
                  <a:pt x="395" y="23"/>
                </a:lnTo>
                <a:lnTo>
                  <a:pt x="401" y="29"/>
                </a:lnTo>
                <a:lnTo>
                  <a:pt x="405" y="35"/>
                </a:lnTo>
                <a:lnTo>
                  <a:pt x="408" y="41"/>
                </a:lnTo>
                <a:lnTo>
                  <a:pt x="408" y="46"/>
                </a:lnTo>
                <a:lnTo>
                  <a:pt x="408" y="54"/>
                </a:lnTo>
                <a:lnTo>
                  <a:pt x="407" y="60"/>
                </a:lnTo>
                <a:lnTo>
                  <a:pt x="403" y="66"/>
                </a:lnTo>
                <a:lnTo>
                  <a:pt x="399" y="71"/>
                </a:lnTo>
                <a:lnTo>
                  <a:pt x="395" y="77"/>
                </a:lnTo>
                <a:lnTo>
                  <a:pt x="389" y="81"/>
                </a:lnTo>
                <a:lnTo>
                  <a:pt x="383" y="87"/>
                </a:lnTo>
                <a:lnTo>
                  <a:pt x="376" y="93"/>
                </a:lnTo>
                <a:lnTo>
                  <a:pt x="374" y="93"/>
                </a:lnTo>
                <a:lnTo>
                  <a:pt x="372" y="94"/>
                </a:lnTo>
                <a:lnTo>
                  <a:pt x="368" y="94"/>
                </a:lnTo>
                <a:lnTo>
                  <a:pt x="364" y="96"/>
                </a:lnTo>
                <a:lnTo>
                  <a:pt x="360" y="98"/>
                </a:lnTo>
                <a:lnTo>
                  <a:pt x="355" y="100"/>
                </a:lnTo>
                <a:lnTo>
                  <a:pt x="349" y="100"/>
                </a:lnTo>
                <a:lnTo>
                  <a:pt x="341" y="102"/>
                </a:lnTo>
                <a:lnTo>
                  <a:pt x="336" y="104"/>
                </a:lnTo>
                <a:lnTo>
                  <a:pt x="326" y="106"/>
                </a:lnTo>
                <a:lnTo>
                  <a:pt x="318" y="106"/>
                </a:lnTo>
                <a:lnTo>
                  <a:pt x="309" y="108"/>
                </a:lnTo>
                <a:lnTo>
                  <a:pt x="299" y="110"/>
                </a:lnTo>
                <a:lnTo>
                  <a:pt x="290" y="112"/>
                </a:lnTo>
                <a:lnTo>
                  <a:pt x="278" y="114"/>
                </a:lnTo>
                <a:lnTo>
                  <a:pt x="267" y="116"/>
                </a:lnTo>
                <a:lnTo>
                  <a:pt x="255" y="117"/>
                </a:lnTo>
                <a:lnTo>
                  <a:pt x="242" y="119"/>
                </a:lnTo>
                <a:lnTo>
                  <a:pt x="228" y="121"/>
                </a:lnTo>
                <a:lnTo>
                  <a:pt x="215" y="123"/>
                </a:lnTo>
                <a:lnTo>
                  <a:pt x="199" y="125"/>
                </a:lnTo>
                <a:lnTo>
                  <a:pt x="184" y="127"/>
                </a:lnTo>
                <a:lnTo>
                  <a:pt x="169" y="129"/>
                </a:lnTo>
                <a:lnTo>
                  <a:pt x="153" y="131"/>
                </a:lnTo>
                <a:lnTo>
                  <a:pt x="136" y="133"/>
                </a:lnTo>
                <a:lnTo>
                  <a:pt x="119" y="135"/>
                </a:lnTo>
                <a:lnTo>
                  <a:pt x="100" y="137"/>
                </a:lnTo>
                <a:lnTo>
                  <a:pt x="80" y="139"/>
                </a:lnTo>
                <a:lnTo>
                  <a:pt x="61" y="142"/>
                </a:lnTo>
                <a:lnTo>
                  <a:pt x="42" y="144"/>
                </a:lnTo>
                <a:lnTo>
                  <a:pt x="21" y="146"/>
                </a:lnTo>
                <a:lnTo>
                  <a:pt x="0" y="148"/>
                </a:lnTo>
                <a:lnTo>
                  <a:pt x="0" y="66"/>
                </a:lnTo>
                <a:lnTo>
                  <a:pt x="6" y="66"/>
                </a:lnTo>
                <a:lnTo>
                  <a:pt x="13" y="66"/>
                </a:lnTo>
                <a:lnTo>
                  <a:pt x="21" y="66"/>
                </a:lnTo>
                <a:lnTo>
                  <a:pt x="29" y="64"/>
                </a:lnTo>
                <a:lnTo>
                  <a:pt x="36" y="62"/>
                </a:lnTo>
                <a:lnTo>
                  <a:pt x="46" y="62"/>
                </a:lnTo>
                <a:lnTo>
                  <a:pt x="56" y="60"/>
                </a:lnTo>
                <a:lnTo>
                  <a:pt x="67" y="58"/>
                </a:lnTo>
                <a:lnTo>
                  <a:pt x="79" y="54"/>
                </a:lnTo>
                <a:lnTo>
                  <a:pt x="90" y="52"/>
                </a:lnTo>
                <a:lnTo>
                  <a:pt x="102" y="48"/>
                </a:lnTo>
                <a:lnTo>
                  <a:pt x="115" y="45"/>
                </a:lnTo>
                <a:lnTo>
                  <a:pt x="128" y="41"/>
                </a:lnTo>
                <a:lnTo>
                  <a:pt x="142" y="37"/>
                </a:lnTo>
                <a:lnTo>
                  <a:pt x="157" y="33"/>
                </a:lnTo>
                <a:lnTo>
                  <a:pt x="173" y="29"/>
                </a:lnTo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7" name="Freeform 23"/>
          <p:cNvSpPr/>
          <p:nvPr/>
        </p:nvSpPr>
        <p:spPr>
          <a:xfrm rot="21450600">
            <a:off x="2268000" y="5300280"/>
            <a:ext cx="648000" cy="144360"/>
          </a:xfrm>
          <a:custGeom>
            <a:avLst/>
            <a:gdLst/>
            <a:ahLst/>
            <a:rect l="l" t="t" r="r" b="b"/>
            <a:pathLst>
              <a:path w="441" h="135">
                <a:moveTo>
                  <a:pt x="0" y="133"/>
                </a:moveTo>
                <a:lnTo>
                  <a:pt x="0" y="50"/>
                </a:lnTo>
                <a:lnTo>
                  <a:pt x="25" y="48"/>
                </a:lnTo>
                <a:lnTo>
                  <a:pt x="52" y="45"/>
                </a:lnTo>
                <a:lnTo>
                  <a:pt x="76" y="43"/>
                </a:lnTo>
                <a:lnTo>
                  <a:pt x="99" y="39"/>
                </a:lnTo>
                <a:lnTo>
                  <a:pt x="124" y="35"/>
                </a:lnTo>
                <a:lnTo>
                  <a:pt x="147" y="31"/>
                </a:lnTo>
                <a:lnTo>
                  <a:pt x="169" y="25"/>
                </a:lnTo>
                <a:lnTo>
                  <a:pt x="192" y="18"/>
                </a:lnTo>
                <a:lnTo>
                  <a:pt x="213" y="14"/>
                </a:lnTo>
                <a:lnTo>
                  <a:pt x="232" y="10"/>
                </a:lnTo>
                <a:lnTo>
                  <a:pt x="253" y="6"/>
                </a:lnTo>
                <a:lnTo>
                  <a:pt x="270" y="4"/>
                </a:lnTo>
                <a:lnTo>
                  <a:pt x="287" y="2"/>
                </a:lnTo>
                <a:lnTo>
                  <a:pt x="305" y="0"/>
                </a:lnTo>
                <a:lnTo>
                  <a:pt x="318" y="0"/>
                </a:lnTo>
                <a:lnTo>
                  <a:pt x="332" y="0"/>
                </a:lnTo>
                <a:lnTo>
                  <a:pt x="343" y="0"/>
                </a:lnTo>
                <a:lnTo>
                  <a:pt x="355" y="0"/>
                </a:lnTo>
                <a:lnTo>
                  <a:pt x="364" y="2"/>
                </a:lnTo>
                <a:lnTo>
                  <a:pt x="376" y="4"/>
                </a:lnTo>
                <a:lnTo>
                  <a:pt x="383" y="6"/>
                </a:lnTo>
                <a:lnTo>
                  <a:pt x="393" y="10"/>
                </a:lnTo>
                <a:lnTo>
                  <a:pt x="401" y="14"/>
                </a:lnTo>
                <a:lnTo>
                  <a:pt x="408" y="18"/>
                </a:lnTo>
                <a:lnTo>
                  <a:pt x="416" y="25"/>
                </a:lnTo>
                <a:lnTo>
                  <a:pt x="422" y="31"/>
                </a:lnTo>
                <a:lnTo>
                  <a:pt x="427" y="37"/>
                </a:lnTo>
                <a:lnTo>
                  <a:pt x="431" y="43"/>
                </a:lnTo>
                <a:lnTo>
                  <a:pt x="435" y="48"/>
                </a:lnTo>
                <a:lnTo>
                  <a:pt x="437" y="54"/>
                </a:lnTo>
                <a:lnTo>
                  <a:pt x="439" y="58"/>
                </a:lnTo>
                <a:lnTo>
                  <a:pt x="441" y="64"/>
                </a:lnTo>
                <a:lnTo>
                  <a:pt x="439" y="66"/>
                </a:lnTo>
                <a:lnTo>
                  <a:pt x="439" y="70"/>
                </a:lnTo>
                <a:lnTo>
                  <a:pt x="435" y="73"/>
                </a:lnTo>
                <a:lnTo>
                  <a:pt x="431" y="75"/>
                </a:lnTo>
                <a:lnTo>
                  <a:pt x="427" y="79"/>
                </a:lnTo>
                <a:lnTo>
                  <a:pt x="422" y="83"/>
                </a:lnTo>
                <a:lnTo>
                  <a:pt x="414" y="85"/>
                </a:lnTo>
                <a:lnTo>
                  <a:pt x="406" y="89"/>
                </a:lnTo>
                <a:lnTo>
                  <a:pt x="397" y="91"/>
                </a:lnTo>
                <a:lnTo>
                  <a:pt x="387" y="94"/>
                </a:lnTo>
                <a:lnTo>
                  <a:pt x="378" y="96"/>
                </a:lnTo>
                <a:lnTo>
                  <a:pt x="364" y="100"/>
                </a:lnTo>
                <a:lnTo>
                  <a:pt x="351" y="104"/>
                </a:lnTo>
                <a:lnTo>
                  <a:pt x="337" y="106"/>
                </a:lnTo>
                <a:lnTo>
                  <a:pt x="322" y="110"/>
                </a:lnTo>
                <a:lnTo>
                  <a:pt x="307" y="114"/>
                </a:lnTo>
                <a:lnTo>
                  <a:pt x="270" y="119"/>
                </a:lnTo>
                <a:lnTo>
                  <a:pt x="234" y="125"/>
                </a:lnTo>
                <a:lnTo>
                  <a:pt x="195" y="129"/>
                </a:lnTo>
                <a:lnTo>
                  <a:pt x="157" y="133"/>
                </a:lnTo>
                <a:lnTo>
                  <a:pt x="119" y="135"/>
                </a:lnTo>
                <a:lnTo>
                  <a:pt x="80" y="135"/>
                </a:lnTo>
                <a:lnTo>
                  <a:pt x="40" y="135"/>
                </a:lnTo>
                <a:lnTo>
                  <a:pt x="0" y="133"/>
                </a:lnTo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8" name="Oval 24"/>
          <p:cNvSpPr/>
          <p:nvPr/>
        </p:nvSpPr>
        <p:spPr>
          <a:xfrm>
            <a:off x="4211640" y="6453360"/>
            <a:ext cx="576360" cy="287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9" name="Freeform 27"/>
          <p:cNvSpPr/>
          <p:nvPr/>
        </p:nvSpPr>
        <p:spPr>
          <a:xfrm>
            <a:off x="2195640" y="4292640"/>
            <a:ext cx="1079280" cy="2160720"/>
          </a:xfrm>
          <a:custGeom>
            <a:avLst/>
            <a:gdLst/>
            <a:ahLst/>
            <a:rect l="l" t="t" r="r" b="b"/>
            <a:pathLst>
              <a:path w="845" h="1706">
                <a:moveTo>
                  <a:pt x="502" y="1488"/>
                </a:moveTo>
                <a:lnTo>
                  <a:pt x="486" y="1478"/>
                </a:lnTo>
                <a:lnTo>
                  <a:pt x="473" y="1470"/>
                </a:lnTo>
                <a:lnTo>
                  <a:pt x="461" y="1463"/>
                </a:lnTo>
                <a:lnTo>
                  <a:pt x="450" y="1455"/>
                </a:lnTo>
                <a:lnTo>
                  <a:pt x="438" y="1447"/>
                </a:lnTo>
                <a:lnTo>
                  <a:pt x="429" y="1442"/>
                </a:lnTo>
                <a:lnTo>
                  <a:pt x="419" y="1436"/>
                </a:lnTo>
                <a:lnTo>
                  <a:pt x="412" y="1430"/>
                </a:lnTo>
                <a:lnTo>
                  <a:pt x="404" y="1424"/>
                </a:lnTo>
                <a:lnTo>
                  <a:pt x="398" y="1419"/>
                </a:lnTo>
                <a:lnTo>
                  <a:pt x="394" y="1415"/>
                </a:lnTo>
                <a:lnTo>
                  <a:pt x="390" y="1411"/>
                </a:lnTo>
                <a:lnTo>
                  <a:pt x="387" y="1409"/>
                </a:lnTo>
                <a:lnTo>
                  <a:pt x="387" y="1405"/>
                </a:lnTo>
                <a:lnTo>
                  <a:pt x="387" y="1403"/>
                </a:lnTo>
                <a:lnTo>
                  <a:pt x="387" y="1401"/>
                </a:lnTo>
                <a:lnTo>
                  <a:pt x="387" y="1399"/>
                </a:lnTo>
                <a:lnTo>
                  <a:pt x="389" y="1399"/>
                </a:lnTo>
                <a:lnTo>
                  <a:pt x="390" y="1398"/>
                </a:lnTo>
                <a:lnTo>
                  <a:pt x="394" y="1398"/>
                </a:lnTo>
                <a:lnTo>
                  <a:pt x="398" y="1396"/>
                </a:lnTo>
                <a:lnTo>
                  <a:pt x="402" y="1396"/>
                </a:lnTo>
                <a:lnTo>
                  <a:pt x="408" y="1396"/>
                </a:lnTo>
                <a:lnTo>
                  <a:pt x="413" y="1396"/>
                </a:lnTo>
                <a:lnTo>
                  <a:pt x="421" y="1396"/>
                </a:lnTo>
                <a:lnTo>
                  <a:pt x="429" y="1396"/>
                </a:lnTo>
                <a:lnTo>
                  <a:pt x="436" y="1396"/>
                </a:lnTo>
                <a:lnTo>
                  <a:pt x="446" y="1398"/>
                </a:lnTo>
                <a:lnTo>
                  <a:pt x="458" y="1398"/>
                </a:lnTo>
                <a:lnTo>
                  <a:pt x="467" y="1399"/>
                </a:lnTo>
                <a:lnTo>
                  <a:pt x="481" y="1399"/>
                </a:lnTo>
                <a:lnTo>
                  <a:pt x="492" y="1401"/>
                </a:lnTo>
                <a:lnTo>
                  <a:pt x="515" y="1407"/>
                </a:lnTo>
                <a:lnTo>
                  <a:pt x="536" y="1411"/>
                </a:lnTo>
                <a:lnTo>
                  <a:pt x="555" y="1415"/>
                </a:lnTo>
                <a:lnTo>
                  <a:pt x="573" y="1419"/>
                </a:lnTo>
                <a:lnTo>
                  <a:pt x="588" y="1421"/>
                </a:lnTo>
                <a:lnTo>
                  <a:pt x="601" y="1421"/>
                </a:lnTo>
                <a:lnTo>
                  <a:pt x="615" y="1419"/>
                </a:lnTo>
                <a:lnTo>
                  <a:pt x="624" y="1417"/>
                </a:lnTo>
                <a:lnTo>
                  <a:pt x="632" y="1417"/>
                </a:lnTo>
                <a:lnTo>
                  <a:pt x="638" y="1415"/>
                </a:lnTo>
                <a:lnTo>
                  <a:pt x="643" y="1411"/>
                </a:lnTo>
                <a:lnTo>
                  <a:pt x="651" y="1407"/>
                </a:lnTo>
                <a:lnTo>
                  <a:pt x="657" y="1401"/>
                </a:lnTo>
                <a:lnTo>
                  <a:pt x="661" y="1394"/>
                </a:lnTo>
                <a:lnTo>
                  <a:pt x="665" y="1386"/>
                </a:lnTo>
                <a:lnTo>
                  <a:pt x="668" y="1378"/>
                </a:lnTo>
                <a:lnTo>
                  <a:pt x="670" y="1373"/>
                </a:lnTo>
                <a:lnTo>
                  <a:pt x="672" y="1367"/>
                </a:lnTo>
                <a:lnTo>
                  <a:pt x="672" y="1359"/>
                </a:lnTo>
                <a:lnTo>
                  <a:pt x="674" y="1350"/>
                </a:lnTo>
                <a:lnTo>
                  <a:pt x="674" y="1340"/>
                </a:lnTo>
                <a:lnTo>
                  <a:pt x="676" y="1329"/>
                </a:lnTo>
                <a:lnTo>
                  <a:pt x="676" y="1315"/>
                </a:lnTo>
                <a:lnTo>
                  <a:pt x="676" y="1300"/>
                </a:lnTo>
                <a:lnTo>
                  <a:pt x="678" y="1284"/>
                </a:lnTo>
                <a:lnTo>
                  <a:pt x="678" y="1267"/>
                </a:lnTo>
                <a:lnTo>
                  <a:pt x="678" y="1248"/>
                </a:lnTo>
                <a:lnTo>
                  <a:pt x="678" y="1227"/>
                </a:lnTo>
                <a:lnTo>
                  <a:pt x="678" y="1204"/>
                </a:lnTo>
                <a:lnTo>
                  <a:pt x="678" y="1181"/>
                </a:lnTo>
                <a:lnTo>
                  <a:pt x="678" y="1156"/>
                </a:lnTo>
                <a:lnTo>
                  <a:pt x="678" y="1129"/>
                </a:lnTo>
                <a:lnTo>
                  <a:pt x="678" y="1074"/>
                </a:lnTo>
                <a:lnTo>
                  <a:pt x="678" y="1016"/>
                </a:lnTo>
                <a:lnTo>
                  <a:pt x="678" y="958"/>
                </a:lnTo>
                <a:lnTo>
                  <a:pt x="676" y="901"/>
                </a:lnTo>
                <a:lnTo>
                  <a:pt x="676" y="842"/>
                </a:lnTo>
                <a:lnTo>
                  <a:pt x="674" y="782"/>
                </a:lnTo>
                <a:lnTo>
                  <a:pt x="672" y="723"/>
                </a:lnTo>
                <a:lnTo>
                  <a:pt x="668" y="661"/>
                </a:lnTo>
                <a:lnTo>
                  <a:pt x="668" y="631"/>
                </a:lnTo>
                <a:lnTo>
                  <a:pt x="666" y="604"/>
                </a:lnTo>
                <a:lnTo>
                  <a:pt x="665" y="575"/>
                </a:lnTo>
                <a:lnTo>
                  <a:pt x="665" y="550"/>
                </a:lnTo>
                <a:lnTo>
                  <a:pt x="663" y="527"/>
                </a:lnTo>
                <a:lnTo>
                  <a:pt x="663" y="504"/>
                </a:lnTo>
                <a:lnTo>
                  <a:pt x="663" y="483"/>
                </a:lnTo>
                <a:lnTo>
                  <a:pt x="661" y="462"/>
                </a:lnTo>
                <a:lnTo>
                  <a:pt x="661" y="445"/>
                </a:lnTo>
                <a:lnTo>
                  <a:pt x="661" y="427"/>
                </a:lnTo>
                <a:lnTo>
                  <a:pt x="661" y="412"/>
                </a:lnTo>
                <a:lnTo>
                  <a:pt x="661" y="399"/>
                </a:lnTo>
                <a:lnTo>
                  <a:pt x="661" y="385"/>
                </a:lnTo>
                <a:lnTo>
                  <a:pt x="661" y="376"/>
                </a:lnTo>
                <a:lnTo>
                  <a:pt x="661" y="366"/>
                </a:lnTo>
                <a:lnTo>
                  <a:pt x="661" y="358"/>
                </a:lnTo>
                <a:lnTo>
                  <a:pt x="661" y="345"/>
                </a:lnTo>
                <a:lnTo>
                  <a:pt x="661" y="332"/>
                </a:lnTo>
                <a:lnTo>
                  <a:pt x="659" y="316"/>
                </a:lnTo>
                <a:lnTo>
                  <a:pt x="659" y="301"/>
                </a:lnTo>
                <a:lnTo>
                  <a:pt x="659" y="284"/>
                </a:lnTo>
                <a:lnTo>
                  <a:pt x="657" y="264"/>
                </a:lnTo>
                <a:lnTo>
                  <a:pt x="655" y="245"/>
                </a:lnTo>
                <a:lnTo>
                  <a:pt x="651" y="224"/>
                </a:lnTo>
                <a:lnTo>
                  <a:pt x="649" y="215"/>
                </a:lnTo>
                <a:lnTo>
                  <a:pt x="647" y="205"/>
                </a:lnTo>
                <a:lnTo>
                  <a:pt x="645" y="197"/>
                </a:lnTo>
                <a:lnTo>
                  <a:pt x="643" y="188"/>
                </a:lnTo>
                <a:lnTo>
                  <a:pt x="642" y="180"/>
                </a:lnTo>
                <a:lnTo>
                  <a:pt x="638" y="172"/>
                </a:lnTo>
                <a:lnTo>
                  <a:pt x="634" y="167"/>
                </a:lnTo>
                <a:lnTo>
                  <a:pt x="632" y="159"/>
                </a:lnTo>
                <a:lnTo>
                  <a:pt x="624" y="147"/>
                </a:lnTo>
                <a:lnTo>
                  <a:pt x="617" y="138"/>
                </a:lnTo>
                <a:lnTo>
                  <a:pt x="607" y="130"/>
                </a:lnTo>
                <a:lnTo>
                  <a:pt x="599" y="124"/>
                </a:lnTo>
                <a:lnTo>
                  <a:pt x="596" y="123"/>
                </a:lnTo>
                <a:lnTo>
                  <a:pt x="592" y="121"/>
                </a:lnTo>
                <a:lnTo>
                  <a:pt x="586" y="121"/>
                </a:lnTo>
                <a:lnTo>
                  <a:pt x="580" y="119"/>
                </a:lnTo>
                <a:lnTo>
                  <a:pt x="574" y="119"/>
                </a:lnTo>
                <a:lnTo>
                  <a:pt x="565" y="119"/>
                </a:lnTo>
                <a:lnTo>
                  <a:pt x="557" y="119"/>
                </a:lnTo>
                <a:lnTo>
                  <a:pt x="548" y="119"/>
                </a:lnTo>
                <a:lnTo>
                  <a:pt x="536" y="119"/>
                </a:lnTo>
                <a:lnTo>
                  <a:pt x="525" y="121"/>
                </a:lnTo>
                <a:lnTo>
                  <a:pt x="511" y="121"/>
                </a:lnTo>
                <a:lnTo>
                  <a:pt x="498" y="123"/>
                </a:lnTo>
                <a:lnTo>
                  <a:pt x="482" y="124"/>
                </a:lnTo>
                <a:lnTo>
                  <a:pt x="465" y="124"/>
                </a:lnTo>
                <a:lnTo>
                  <a:pt x="450" y="126"/>
                </a:lnTo>
                <a:lnTo>
                  <a:pt x="431" y="128"/>
                </a:lnTo>
                <a:lnTo>
                  <a:pt x="412" y="132"/>
                </a:lnTo>
                <a:lnTo>
                  <a:pt x="392" y="134"/>
                </a:lnTo>
                <a:lnTo>
                  <a:pt x="369" y="136"/>
                </a:lnTo>
                <a:lnTo>
                  <a:pt x="348" y="140"/>
                </a:lnTo>
                <a:lnTo>
                  <a:pt x="325" y="144"/>
                </a:lnTo>
                <a:lnTo>
                  <a:pt x="300" y="146"/>
                </a:lnTo>
                <a:lnTo>
                  <a:pt x="276" y="149"/>
                </a:lnTo>
                <a:lnTo>
                  <a:pt x="249" y="153"/>
                </a:lnTo>
                <a:lnTo>
                  <a:pt x="222" y="157"/>
                </a:lnTo>
                <a:lnTo>
                  <a:pt x="193" y="163"/>
                </a:lnTo>
                <a:lnTo>
                  <a:pt x="162" y="167"/>
                </a:lnTo>
                <a:lnTo>
                  <a:pt x="132" y="172"/>
                </a:lnTo>
                <a:lnTo>
                  <a:pt x="101" y="176"/>
                </a:lnTo>
                <a:lnTo>
                  <a:pt x="67" y="182"/>
                </a:lnTo>
                <a:lnTo>
                  <a:pt x="34" y="188"/>
                </a:lnTo>
                <a:lnTo>
                  <a:pt x="0" y="193"/>
                </a:lnTo>
                <a:lnTo>
                  <a:pt x="0" y="117"/>
                </a:lnTo>
                <a:lnTo>
                  <a:pt x="11" y="115"/>
                </a:lnTo>
                <a:lnTo>
                  <a:pt x="24" y="115"/>
                </a:lnTo>
                <a:lnTo>
                  <a:pt x="38" y="115"/>
                </a:lnTo>
                <a:lnTo>
                  <a:pt x="53" y="113"/>
                </a:lnTo>
                <a:lnTo>
                  <a:pt x="69" y="111"/>
                </a:lnTo>
                <a:lnTo>
                  <a:pt x="88" y="109"/>
                </a:lnTo>
                <a:lnTo>
                  <a:pt x="105" y="107"/>
                </a:lnTo>
                <a:lnTo>
                  <a:pt x="124" y="105"/>
                </a:lnTo>
                <a:lnTo>
                  <a:pt x="145" y="103"/>
                </a:lnTo>
                <a:lnTo>
                  <a:pt x="166" y="100"/>
                </a:lnTo>
                <a:lnTo>
                  <a:pt x="189" y="96"/>
                </a:lnTo>
                <a:lnTo>
                  <a:pt x="212" y="94"/>
                </a:lnTo>
                <a:lnTo>
                  <a:pt x="237" y="90"/>
                </a:lnTo>
                <a:lnTo>
                  <a:pt x="262" y="86"/>
                </a:lnTo>
                <a:lnTo>
                  <a:pt x="289" y="82"/>
                </a:lnTo>
                <a:lnTo>
                  <a:pt x="316" y="77"/>
                </a:lnTo>
                <a:lnTo>
                  <a:pt x="345" y="73"/>
                </a:lnTo>
                <a:lnTo>
                  <a:pt x="369" y="69"/>
                </a:lnTo>
                <a:lnTo>
                  <a:pt x="392" y="65"/>
                </a:lnTo>
                <a:lnTo>
                  <a:pt x="415" y="61"/>
                </a:lnTo>
                <a:lnTo>
                  <a:pt x="436" y="57"/>
                </a:lnTo>
                <a:lnTo>
                  <a:pt x="456" y="54"/>
                </a:lnTo>
                <a:lnTo>
                  <a:pt x="473" y="50"/>
                </a:lnTo>
                <a:lnTo>
                  <a:pt x="490" y="46"/>
                </a:lnTo>
                <a:lnTo>
                  <a:pt x="504" y="44"/>
                </a:lnTo>
                <a:lnTo>
                  <a:pt x="517" y="40"/>
                </a:lnTo>
                <a:lnTo>
                  <a:pt x="528" y="38"/>
                </a:lnTo>
                <a:lnTo>
                  <a:pt x="538" y="34"/>
                </a:lnTo>
                <a:lnTo>
                  <a:pt x="548" y="31"/>
                </a:lnTo>
                <a:lnTo>
                  <a:pt x="553" y="29"/>
                </a:lnTo>
                <a:lnTo>
                  <a:pt x="559" y="25"/>
                </a:lnTo>
                <a:lnTo>
                  <a:pt x="563" y="23"/>
                </a:lnTo>
                <a:lnTo>
                  <a:pt x="567" y="17"/>
                </a:lnTo>
                <a:lnTo>
                  <a:pt x="573" y="11"/>
                </a:lnTo>
                <a:lnTo>
                  <a:pt x="580" y="8"/>
                </a:lnTo>
                <a:lnTo>
                  <a:pt x="588" y="6"/>
                </a:lnTo>
                <a:lnTo>
                  <a:pt x="596" y="2"/>
                </a:lnTo>
                <a:lnTo>
                  <a:pt x="605" y="0"/>
                </a:lnTo>
                <a:lnTo>
                  <a:pt x="615" y="0"/>
                </a:lnTo>
                <a:lnTo>
                  <a:pt x="624" y="0"/>
                </a:lnTo>
                <a:lnTo>
                  <a:pt x="636" y="0"/>
                </a:lnTo>
                <a:lnTo>
                  <a:pt x="647" y="2"/>
                </a:lnTo>
                <a:lnTo>
                  <a:pt x="663" y="6"/>
                </a:lnTo>
                <a:lnTo>
                  <a:pt x="678" y="11"/>
                </a:lnTo>
                <a:lnTo>
                  <a:pt x="695" y="17"/>
                </a:lnTo>
                <a:lnTo>
                  <a:pt x="714" y="25"/>
                </a:lnTo>
                <a:lnTo>
                  <a:pt x="735" y="34"/>
                </a:lnTo>
                <a:lnTo>
                  <a:pt x="757" y="46"/>
                </a:lnTo>
                <a:lnTo>
                  <a:pt x="768" y="52"/>
                </a:lnTo>
                <a:lnTo>
                  <a:pt x="780" y="57"/>
                </a:lnTo>
                <a:lnTo>
                  <a:pt x="789" y="63"/>
                </a:lnTo>
                <a:lnTo>
                  <a:pt x="797" y="67"/>
                </a:lnTo>
                <a:lnTo>
                  <a:pt x="804" y="73"/>
                </a:lnTo>
                <a:lnTo>
                  <a:pt x="812" y="78"/>
                </a:lnTo>
                <a:lnTo>
                  <a:pt x="818" y="82"/>
                </a:lnTo>
                <a:lnTo>
                  <a:pt x="824" y="86"/>
                </a:lnTo>
                <a:lnTo>
                  <a:pt x="829" y="92"/>
                </a:lnTo>
                <a:lnTo>
                  <a:pt x="833" y="96"/>
                </a:lnTo>
                <a:lnTo>
                  <a:pt x="837" y="100"/>
                </a:lnTo>
                <a:lnTo>
                  <a:pt x="841" y="103"/>
                </a:lnTo>
                <a:lnTo>
                  <a:pt x="843" y="107"/>
                </a:lnTo>
                <a:lnTo>
                  <a:pt x="845" y="109"/>
                </a:lnTo>
                <a:lnTo>
                  <a:pt x="845" y="113"/>
                </a:lnTo>
                <a:lnTo>
                  <a:pt x="845" y="117"/>
                </a:lnTo>
                <a:lnTo>
                  <a:pt x="845" y="123"/>
                </a:lnTo>
                <a:lnTo>
                  <a:pt x="845" y="128"/>
                </a:lnTo>
                <a:lnTo>
                  <a:pt x="841" y="132"/>
                </a:lnTo>
                <a:lnTo>
                  <a:pt x="839" y="138"/>
                </a:lnTo>
                <a:lnTo>
                  <a:pt x="835" y="144"/>
                </a:lnTo>
                <a:lnTo>
                  <a:pt x="831" y="147"/>
                </a:lnTo>
                <a:lnTo>
                  <a:pt x="826" y="151"/>
                </a:lnTo>
                <a:lnTo>
                  <a:pt x="820" y="155"/>
                </a:lnTo>
                <a:lnTo>
                  <a:pt x="814" y="159"/>
                </a:lnTo>
                <a:lnTo>
                  <a:pt x="810" y="165"/>
                </a:lnTo>
                <a:lnTo>
                  <a:pt x="806" y="170"/>
                </a:lnTo>
                <a:lnTo>
                  <a:pt x="803" y="180"/>
                </a:lnTo>
                <a:lnTo>
                  <a:pt x="799" y="190"/>
                </a:lnTo>
                <a:lnTo>
                  <a:pt x="797" y="201"/>
                </a:lnTo>
                <a:lnTo>
                  <a:pt x="795" y="215"/>
                </a:lnTo>
                <a:lnTo>
                  <a:pt x="793" y="230"/>
                </a:lnTo>
                <a:lnTo>
                  <a:pt x="791" y="247"/>
                </a:lnTo>
                <a:lnTo>
                  <a:pt x="791" y="264"/>
                </a:lnTo>
                <a:lnTo>
                  <a:pt x="789" y="284"/>
                </a:lnTo>
                <a:lnTo>
                  <a:pt x="789" y="305"/>
                </a:lnTo>
                <a:lnTo>
                  <a:pt x="789" y="328"/>
                </a:lnTo>
                <a:lnTo>
                  <a:pt x="791" y="351"/>
                </a:lnTo>
                <a:lnTo>
                  <a:pt x="791" y="378"/>
                </a:lnTo>
                <a:lnTo>
                  <a:pt x="793" y="404"/>
                </a:lnTo>
                <a:lnTo>
                  <a:pt x="795" y="433"/>
                </a:lnTo>
                <a:lnTo>
                  <a:pt x="795" y="462"/>
                </a:lnTo>
                <a:lnTo>
                  <a:pt x="797" y="491"/>
                </a:lnTo>
                <a:lnTo>
                  <a:pt x="799" y="521"/>
                </a:lnTo>
                <a:lnTo>
                  <a:pt x="801" y="552"/>
                </a:lnTo>
                <a:lnTo>
                  <a:pt x="803" y="583"/>
                </a:lnTo>
                <a:lnTo>
                  <a:pt x="804" y="615"/>
                </a:lnTo>
                <a:lnTo>
                  <a:pt x="806" y="648"/>
                </a:lnTo>
                <a:lnTo>
                  <a:pt x="808" y="682"/>
                </a:lnTo>
                <a:lnTo>
                  <a:pt x="808" y="717"/>
                </a:lnTo>
                <a:lnTo>
                  <a:pt x="810" y="751"/>
                </a:lnTo>
                <a:lnTo>
                  <a:pt x="812" y="786"/>
                </a:lnTo>
                <a:lnTo>
                  <a:pt x="814" y="822"/>
                </a:lnTo>
                <a:lnTo>
                  <a:pt x="816" y="859"/>
                </a:lnTo>
                <a:lnTo>
                  <a:pt x="818" y="895"/>
                </a:lnTo>
                <a:lnTo>
                  <a:pt x="820" y="934"/>
                </a:lnTo>
                <a:lnTo>
                  <a:pt x="820" y="972"/>
                </a:lnTo>
                <a:lnTo>
                  <a:pt x="822" y="1010"/>
                </a:lnTo>
                <a:lnTo>
                  <a:pt x="824" y="1047"/>
                </a:lnTo>
                <a:lnTo>
                  <a:pt x="824" y="1081"/>
                </a:lnTo>
                <a:lnTo>
                  <a:pt x="826" y="1116"/>
                </a:lnTo>
                <a:lnTo>
                  <a:pt x="826" y="1148"/>
                </a:lnTo>
                <a:lnTo>
                  <a:pt x="826" y="1179"/>
                </a:lnTo>
                <a:lnTo>
                  <a:pt x="826" y="1210"/>
                </a:lnTo>
                <a:lnTo>
                  <a:pt x="826" y="1238"/>
                </a:lnTo>
                <a:lnTo>
                  <a:pt x="826" y="1267"/>
                </a:lnTo>
                <a:lnTo>
                  <a:pt x="826" y="1292"/>
                </a:lnTo>
                <a:lnTo>
                  <a:pt x="824" y="1319"/>
                </a:lnTo>
                <a:lnTo>
                  <a:pt x="824" y="1342"/>
                </a:lnTo>
                <a:lnTo>
                  <a:pt x="822" y="1367"/>
                </a:lnTo>
                <a:lnTo>
                  <a:pt x="820" y="1388"/>
                </a:lnTo>
                <a:lnTo>
                  <a:pt x="820" y="1409"/>
                </a:lnTo>
                <a:lnTo>
                  <a:pt x="818" y="1428"/>
                </a:lnTo>
                <a:lnTo>
                  <a:pt x="816" y="1449"/>
                </a:lnTo>
                <a:lnTo>
                  <a:pt x="812" y="1467"/>
                </a:lnTo>
                <a:lnTo>
                  <a:pt x="810" y="1486"/>
                </a:lnTo>
                <a:lnTo>
                  <a:pt x="806" y="1503"/>
                </a:lnTo>
                <a:lnTo>
                  <a:pt x="803" y="1518"/>
                </a:lnTo>
                <a:lnTo>
                  <a:pt x="799" y="1534"/>
                </a:lnTo>
                <a:lnTo>
                  <a:pt x="795" y="1549"/>
                </a:lnTo>
                <a:lnTo>
                  <a:pt x="791" y="1564"/>
                </a:lnTo>
                <a:lnTo>
                  <a:pt x="785" y="1578"/>
                </a:lnTo>
                <a:lnTo>
                  <a:pt x="781" y="1589"/>
                </a:lnTo>
                <a:lnTo>
                  <a:pt x="778" y="1603"/>
                </a:lnTo>
                <a:lnTo>
                  <a:pt x="772" y="1612"/>
                </a:lnTo>
                <a:lnTo>
                  <a:pt x="768" y="1624"/>
                </a:lnTo>
                <a:lnTo>
                  <a:pt x="762" y="1633"/>
                </a:lnTo>
                <a:lnTo>
                  <a:pt x="757" y="1643"/>
                </a:lnTo>
                <a:lnTo>
                  <a:pt x="745" y="1656"/>
                </a:lnTo>
                <a:lnTo>
                  <a:pt x="734" y="1670"/>
                </a:lnTo>
                <a:lnTo>
                  <a:pt x="722" y="1679"/>
                </a:lnTo>
                <a:lnTo>
                  <a:pt x="711" y="1689"/>
                </a:lnTo>
                <a:lnTo>
                  <a:pt x="707" y="1693"/>
                </a:lnTo>
                <a:lnTo>
                  <a:pt x="701" y="1697"/>
                </a:lnTo>
                <a:lnTo>
                  <a:pt x="697" y="1699"/>
                </a:lnTo>
                <a:lnTo>
                  <a:pt x="693" y="1700"/>
                </a:lnTo>
                <a:lnTo>
                  <a:pt x="689" y="1702"/>
                </a:lnTo>
                <a:lnTo>
                  <a:pt x="686" y="1704"/>
                </a:lnTo>
                <a:lnTo>
                  <a:pt x="682" y="1704"/>
                </a:lnTo>
                <a:lnTo>
                  <a:pt x="678" y="1706"/>
                </a:lnTo>
                <a:lnTo>
                  <a:pt x="668" y="1702"/>
                </a:lnTo>
                <a:lnTo>
                  <a:pt x="661" y="1697"/>
                </a:lnTo>
                <a:lnTo>
                  <a:pt x="655" y="1689"/>
                </a:lnTo>
                <a:lnTo>
                  <a:pt x="649" y="1681"/>
                </a:lnTo>
                <a:lnTo>
                  <a:pt x="645" y="1670"/>
                </a:lnTo>
                <a:lnTo>
                  <a:pt x="643" y="1664"/>
                </a:lnTo>
                <a:lnTo>
                  <a:pt x="642" y="1658"/>
                </a:lnTo>
                <a:lnTo>
                  <a:pt x="640" y="1651"/>
                </a:lnTo>
                <a:lnTo>
                  <a:pt x="638" y="1643"/>
                </a:lnTo>
                <a:lnTo>
                  <a:pt x="636" y="1635"/>
                </a:lnTo>
                <a:lnTo>
                  <a:pt x="634" y="1628"/>
                </a:lnTo>
                <a:lnTo>
                  <a:pt x="632" y="1618"/>
                </a:lnTo>
                <a:lnTo>
                  <a:pt x="628" y="1610"/>
                </a:lnTo>
                <a:lnTo>
                  <a:pt x="624" y="1601"/>
                </a:lnTo>
                <a:lnTo>
                  <a:pt x="620" y="1593"/>
                </a:lnTo>
                <a:lnTo>
                  <a:pt x="615" y="1584"/>
                </a:lnTo>
                <a:lnTo>
                  <a:pt x="609" y="1574"/>
                </a:lnTo>
                <a:lnTo>
                  <a:pt x="601" y="1566"/>
                </a:lnTo>
                <a:lnTo>
                  <a:pt x="594" y="1557"/>
                </a:lnTo>
                <a:lnTo>
                  <a:pt x="586" y="1549"/>
                </a:lnTo>
                <a:lnTo>
                  <a:pt x="576" y="1539"/>
                </a:lnTo>
                <a:lnTo>
                  <a:pt x="565" y="1532"/>
                </a:lnTo>
                <a:lnTo>
                  <a:pt x="553" y="1522"/>
                </a:lnTo>
                <a:lnTo>
                  <a:pt x="542" y="1513"/>
                </a:lnTo>
                <a:lnTo>
                  <a:pt x="530" y="1505"/>
                </a:lnTo>
                <a:lnTo>
                  <a:pt x="515" y="1495"/>
                </a:lnTo>
                <a:lnTo>
                  <a:pt x="502" y="1488"/>
                </a:lnTo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598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598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0"/>
                            </p:stCondLst>
                            <p:childTnLst>
                              <p:par>
                                <p:cTn id="17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Box 3"/>
          <p:cNvSpPr/>
          <p:nvPr/>
        </p:nvSpPr>
        <p:spPr>
          <a:xfrm>
            <a:off x="5857920" y="2502000"/>
            <a:ext cx="292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月牙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1" name="TextBox 4"/>
          <p:cNvSpPr/>
          <p:nvPr/>
        </p:nvSpPr>
        <p:spPr>
          <a:xfrm>
            <a:off x="7308720" y="1773360"/>
            <a:ext cx="1785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000000"/>
                </a:solidFill>
                <a:uFillTx/>
                <a:latin typeface="方正姚体"/>
                <a:ea typeface="方正姚体"/>
              </a:rPr>
              <a:t>yá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02" name="图片 5" descr="月牙.jpg"/>
          <p:cNvPicPr/>
          <p:nvPr/>
        </p:nvPicPr>
        <p:blipFill>
          <a:blip r:embed="rId1"/>
          <a:srcRect l="7756" t="5207" r="5672" b="5207"/>
          <a:stretch/>
        </p:blipFill>
        <p:spPr>
          <a:xfrm>
            <a:off x="1317600" y="1690560"/>
            <a:ext cx="4025880" cy="516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TextBox 3"/>
          <p:cNvSpPr/>
          <p:nvPr/>
        </p:nvSpPr>
        <p:spPr>
          <a:xfrm>
            <a:off x="3419640" y="5157720"/>
            <a:ext cx="385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圆月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4" name="TextBox 4"/>
          <p:cNvSpPr/>
          <p:nvPr/>
        </p:nvSpPr>
        <p:spPr>
          <a:xfrm>
            <a:off x="3419640" y="4581360"/>
            <a:ext cx="1643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 u="sng">
                <a:solidFill>
                  <a:srgbClr val="000000"/>
                </a:solidFill>
                <a:uFillTx/>
                <a:latin typeface="方正姚体"/>
                <a:ea typeface="方正姚体"/>
              </a:rPr>
              <a:t>yuán 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05" name="图片 5" descr="圆月.jpg"/>
          <p:cNvPicPr/>
          <p:nvPr/>
        </p:nvPicPr>
        <p:blipFill>
          <a:blip r:embed="rId1"/>
          <a:srcRect l="0" t="6249" r="0" b="21876"/>
          <a:stretch/>
        </p:blipFill>
        <p:spPr>
          <a:xfrm>
            <a:off x="2155680" y="1062000"/>
            <a:ext cx="6988320" cy="3767040"/>
          </a:xfrm>
          <a:prstGeom prst="rect">
            <a:avLst/>
          </a:prstGeom>
          <a:ln w="0">
            <a:noFill/>
          </a:ln>
        </p:spPr>
      </p:pic>
      <p:sp>
        <p:nvSpPr>
          <p:cNvPr id="606" name="TextBox 3"/>
          <p:cNvSpPr/>
          <p:nvPr/>
        </p:nvSpPr>
        <p:spPr>
          <a:xfrm>
            <a:off x="6300720" y="793800"/>
            <a:ext cx="3857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 u="sng">
                <a:solidFill>
                  <a:srgbClr val="ffff99"/>
                </a:solidFill>
                <a:uFillTx/>
                <a:latin typeface="楷体_GB2312"/>
                <a:ea typeface="楷体_GB2312"/>
              </a:rPr>
              <a:t>满月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7" name="TextBox 4"/>
          <p:cNvSpPr/>
          <p:nvPr/>
        </p:nvSpPr>
        <p:spPr>
          <a:xfrm>
            <a:off x="6372360" y="115920"/>
            <a:ext cx="201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ffff99"/>
                </a:solidFill>
                <a:uFillTx/>
                <a:latin typeface="方正姚体"/>
                <a:ea typeface="方正姚体"/>
              </a:rPr>
              <a:t>m</a:t>
            </a:r>
            <a:r>
              <a:rPr b="0" i="1" lang="en-US" sz="6000" spc="-1" strike="noStrike" u="sng">
                <a:solidFill>
                  <a:srgbClr val="ffff99"/>
                </a:solidFill>
                <a:uFillTx/>
                <a:latin typeface="Arial"/>
                <a:ea typeface="迷你简彩云"/>
              </a:rPr>
              <a:t>ǎ</a:t>
            </a:r>
            <a:r>
              <a:rPr b="0" i="1" lang="en-US" sz="6000" spc="-1" strike="noStrike" u="sng">
                <a:solidFill>
                  <a:srgbClr val="ffff99"/>
                </a:solidFill>
                <a:uFillTx/>
                <a:latin typeface="方正姚体"/>
                <a:ea typeface="方正姚体"/>
              </a:rPr>
              <a:t>n 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7" descr="3033852_182918504362_2"/>
          <p:cNvPicPr/>
          <p:nvPr/>
        </p:nvPicPr>
        <p:blipFill>
          <a:blip r:embed="rId1"/>
          <a:srcRect l="8391" t="0" r="6378" b="5689"/>
          <a:stretch/>
        </p:blipFill>
        <p:spPr>
          <a:xfrm>
            <a:off x="1755720" y="1317600"/>
            <a:ext cx="7388280" cy="5540400"/>
          </a:xfrm>
          <a:prstGeom prst="rect">
            <a:avLst/>
          </a:prstGeom>
          <a:ln w="0">
            <a:noFill/>
          </a:ln>
        </p:spPr>
      </p:pic>
      <p:sp>
        <p:nvSpPr>
          <p:cNvPr id="609" name="TextBox 3"/>
          <p:cNvSpPr/>
          <p:nvPr/>
        </p:nvSpPr>
        <p:spPr>
          <a:xfrm>
            <a:off x="179280" y="4365720"/>
            <a:ext cx="6840720" cy="1922400"/>
          </a:xfrm>
          <a:prstGeom prst="rect">
            <a:avLst/>
          </a:prstGeom>
          <a:solidFill>
            <a:srgbClr val="676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0" spc="-1" strike="noStrike" u="sng">
                <a:solidFill>
                  <a:srgbClr val="ffff99"/>
                </a:solidFill>
                <a:uFillTx/>
                <a:latin typeface="楷体_GB2312"/>
                <a:ea typeface="楷体_GB2312"/>
              </a:rPr>
              <a:t>花好月圆</a:t>
            </a:r>
            <a:endParaRPr b="0" i="1" lang="en-US" sz="1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Box 7"/>
          <p:cNvSpPr/>
          <p:nvPr/>
        </p:nvSpPr>
        <p:spPr>
          <a:xfrm>
            <a:off x="5364000" y="228600"/>
            <a:ext cx="24480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0" spc="-1" strike="noStrike" u="sng">
                <a:solidFill>
                  <a:srgbClr val="000000"/>
                </a:solidFill>
                <a:uFillTx/>
                <a:latin typeface="方正姚体"/>
                <a:ea typeface="方正姚体"/>
              </a:rPr>
              <a:t>yuè  </a:t>
            </a:r>
            <a:endParaRPr b="0" i="1" lang="en-US" sz="10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1" name="Rectangle 10"/>
          <p:cNvSpPr/>
          <p:nvPr/>
        </p:nvSpPr>
        <p:spPr>
          <a:xfrm>
            <a:off x="1619280" y="372960"/>
            <a:ext cx="1606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0" spc="-1" strike="noStrike" u="sng">
                <a:solidFill>
                  <a:srgbClr val="000000"/>
                </a:solidFill>
                <a:uFillTx/>
                <a:latin typeface="Arial"/>
                <a:ea typeface="迷你简彩云"/>
              </a:rPr>
              <a:t>rì</a:t>
            </a:r>
            <a:endParaRPr b="0" i="1" lang="en-US" sz="10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612" name="Group 23"/>
          <p:cNvGrpSpPr/>
          <p:nvPr/>
        </p:nvGrpSpPr>
        <p:grpSpPr>
          <a:xfrm>
            <a:off x="468360" y="1855800"/>
            <a:ext cx="3311640" cy="3446640"/>
            <a:chOff x="468360" y="1855800"/>
            <a:chExt cx="3311640" cy="3446640"/>
          </a:xfrm>
        </p:grpSpPr>
        <p:grpSp>
          <p:nvGrpSpPr>
            <p:cNvPr id="613" name="Group 7"/>
            <p:cNvGrpSpPr/>
            <p:nvPr/>
          </p:nvGrpSpPr>
          <p:grpSpPr>
            <a:xfrm>
              <a:off x="468360" y="2060640"/>
              <a:ext cx="3311640" cy="3240000"/>
              <a:chOff x="468360" y="2060640"/>
              <a:chExt cx="3311640" cy="3240000"/>
            </a:xfrm>
          </p:grpSpPr>
          <p:sp>
            <p:nvSpPr>
              <p:cNvPr id="614" name="Rectangle 4"/>
              <p:cNvSpPr/>
              <p:nvPr/>
            </p:nvSpPr>
            <p:spPr>
              <a:xfrm>
                <a:off x="468360" y="2060640"/>
                <a:ext cx="3311640" cy="3240000"/>
              </a:xfrm>
              <a:prstGeom prst="rect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15" name="Line 5"/>
              <p:cNvSpPr/>
              <p:nvPr/>
            </p:nvSpPr>
            <p:spPr>
              <a:xfrm>
                <a:off x="468360" y="3679920"/>
                <a:ext cx="32616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16" name="Line 6"/>
              <p:cNvSpPr/>
              <p:nvPr/>
            </p:nvSpPr>
            <p:spPr>
              <a:xfrm>
                <a:off x="2124360" y="2060640"/>
                <a:ext cx="0" cy="3240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617" name="Text Box 8"/>
            <p:cNvSpPr/>
            <p:nvPr/>
          </p:nvSpPr>
          <p:spPr>
            <a:xfrm>
              <a:off x="684360" y="1855800"/>
              <a:ext cx="2950920" cy="344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日</a:t>
              </a:r>
              <a:endParaRPr b="0" i="1" lang="en-US" sz="2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618" name="Group 24"/>
          <p:cNvGrpSpPr/>
          <p:nvPr/>
        </p:nvGrpSpPr>
        <p:grpSpPr>
          <a:xfrm>
            <a:off x="4788000" y="1855800"/>
            <a:ext cx="3313080" cy="3446640"/>
            <a:chOff x="4788000" y="1855800"/>
            <a:chExt cx="3313080" cy="3446640"/>
          </a:xfrm>
        </p:grpSpPr>
        <p:grpSp>
          <p:nvGrpSpPr>
            <p:cNvPr id="619" name="Group 7"/>
            <p:cNvGrpSpPr/>
            <p:nvPr/>
          </p:nvGrpSpPr>
          <p:grpSpPr>
            <a:xfrm>
              <a:off x="4788000" y="2060640"/>
              <a:ext cx="3313080" cy="3240000"/>
              <a:chOff x="4788000" y="2060640"/>
              <a:chExt cx="3313080" cy="3240000"/>
            </a:xfrm>
          </p:grpSpPr>
          <p:sp>
            <p:nvSpPr>
              <p:cNvPr id="620" name="Rectangle 4"/>
              <p:cNvSpPr/>
              <p:nvPr/>
            </p:nvSpPr>
            <p:spPr>
              <a:xfrm>
                <a:off x="4788000" y="2060640"/>
                <a:ext cx="3313080" cy="3240000"/>
              </a:xfrm>
              <a:prstGeom prst="rect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21" name="Line 5"/>
              <p:cNvSpPr/>
              <p:nvPr/>
            </p:nvSpPr>
            <p:spPr>
              <a:xfrm>
                <a:off x="4788000" y="3679920"/>
                <a:ext cx="32630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22" name="Line 6"/>
              <p:cNvSpPr/>
              <p:nvPr/>
            </p:nvSpPr>
            <p:spPr>
              <a:xfrm>
                <a:off x="6444720" y="2060640"/>
                <a:ext cx="0" cy="3240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623" name="Text Box 8"/>
            <p:cNvSpPr/>
            <p:nvPr/>
          </p:nvSpPr>
          <p:spPr>
            <a:xfrm>
              <a:off x="4932360" y="1855800"/>
              <a:ext cx="2951280" cy="344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月</a:t>
              </a:r>
              <a:endParaRPr b="0" i="1" lang="en-US" sz="2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Box 3"/>
          <p:cNvSpPr/>
          <p:nvPr/>
        </p:nvSpPr>
        <p:spPr>
          <a:xfrm>
            <a:off x="2050920" y="149076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六月一日</a:t>
            </a:r>
            <a:endParaRPr b="0" i="1" lang="en-US" sz="8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7" name="TextBox 4"/>
          <p:cNvSpPr/>
          <p:nvPr/>
        </p:nvSpPr>
        <p:spPr>
          <a:xfrm>
            <a:off x="2050920" y="293220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十月一日</a:t>
            </a:r>
            <a:endParaRPr b="0" i="1" lang="en-US" sz="8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8" name="TextBox 3"/>
          <p:cNvSpPr/>
          <p:nvPr/>
        </p:nvSpPr>
        <p:spPr>
          <a:xfrm>
            <a:off x="2124000" y="12384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一月一日</a:t>
            </a:r>
            <a:endParaRPr b="0" i="1" lang="en-US" sz="8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9" name="Text Box 6"/>
          <p:cNvSpPr/>
          <p:nvPr/>
        </p:nvSpPr>
        <p:spPr>
          <a:xfrm>
            <a:off x="0" y="4672080"/>
            <a:ext cx="997272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（  ）月（  ）日是 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（         ）节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。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1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7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Picture 2" descr="机器猫2"/>
          <p:cNvPicPr/>
          <p:nvPr/>
        </p:nvPicPr>
        <p:blipFill>
          <a:blip r:embed="rId1"/>
          <a:stretch/>
        </p:blipFill>
        <p:spPr>
          <a:xfrm>
            <a:off x="2190600" y="1643040"/>
            <a:ext cx="6953400" cy="5216400"/>
          </a:xfrm>
          <a:prstGeom prst="rect">
            <a:avLst/>
          </a:prstGeom>
          <a:ln w="0">
            <a:noFill/>
          </a:ln>
        </p:spPr>
      </p:pic>
      <p:grpSp>
        <p:nvGrpSpPr>
          <p:cNvPr id="631" name="Group 35"/>
          <p:cNvGrpSpPr/>
          <p:nvPr/>
        </p:nvGrpSpPr>
        <p:grpSpPr>
          <a:xfrm>
            <a:off x="179280" y="2346480"/>
            <a:ext cx="8893440" cy="868680"/>
            <a:chOff x="179280" y="2346480"/>
            <a:chExt cx="8893440" cy="868680"/>
          </a:xfrm>
        </p:grpSpPr>
        <p:sp>
          <p:nvSpPr>
            <p:cNvPr id="632" name="Text Box 4"/>
            <p:cNvSpPr/>
            <p:nvPr/>
          </p:nvSpPr>
          <p:spPr>
            <a:xfrm>
              <a:off x="179280" y="2633760"/>
              <a:ext cx="8893440" cy="581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（六 ）月（一）日是 </a:t>
              </a:r>
              <a:r>
                <a:rPr b="0" i="1" lang="zh-CN" sz="28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（儿童节） </a:t>
              </a:r>
              <a:r>
                <a:rPr b="0" i="1" lang="zh-CN" sz="28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。</a:t>
              </a:r>
              <a:r>
                <a:rPr b="0" i="1" lang="zh-CN" sz="32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      </a:t>
              </a:r>
              <a:r>
                <a:rPr b="0" i="1" lang="zh-CN" sz="32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      </a:t>
              </a:r>
              <a:endParaRPr b="0" i="1" lang="en-US" sz="32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33" name="Text Box 5"/>
            <p:cNvSpPr/>
            <p:nvPr/>
          </p:nvSpPr>
          <p:spPr>
            <a:xfrm>
              <a:off x="3780000" y="2346480"/>
              <a:ext cx="39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 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宋体"/>
                  <a:ea typeface="楷体_GB2312"/>
                </a:rPr>
                <a:t>é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r t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宋体"/>
                  <a:ea typeface="楷体_GB2312"/>
                </a:rPr>
                <a:t>ó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ng ji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宋体"/>
                  <a:ea typeface="楷体_GB2312"/>
                </a:rPr>
                <a:t>é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634" name="Group 40"/>
          <p:cNvGrpSpPr/>
          <p:nvPr/>
        </p:nvGrpSpPr>
        <p:grpSpPr>
          <a:xfrm>
            <a:off x="179280" y="5708520"/>
            <a:ext cx="8893440" cy="817920"/>
            <a:chOff x="179280" y="5708520"/>
            <a:chExt cx="8893440" cy="817920"/>
          </a:xfrm>
        </p:grpSpPr>
        <p:sp>
          <p:nvSpPr>
            <p:cNvPr id="635" name="Text Box 7"/>
            <p:cNvSpPr/>
            <p:nvPr/>
          </p:nvSpPr>
          <p:spPr>
            <a:xfrm>
              <a:off x="179280" y="5945040"/>
              <a:ext cx="8893440" cy="581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（十 ）月（一）日是 </a:t>
              </a:r>
              <a:r>
                <a:rPr b="0" i="1" lang="zh-CN" sz="28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（国庆节） </a:t>
              </a:r>
              <a:r>
                <a:rPr b="0" i="1" lang="zh-CN" sz="28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。</a:t>
              </a:r>
              <a:r>
                <a:rPr b="0" i="1" lang="zh-CN" sz="32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      </a:t>
              </a:r>
              <a:r>
                <a:rPr b="0" i="1" lang="zh-CN" sz="32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      </a:t>
              </a:r>
              <a:endParaRPr b="0" i="1" lang="en-US" sz="32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36" name="Text Box 8"/>
            <p:cNvSpPr/>
            <p:nvPr/>
          </p:nvSpPr>
          <p:spPr>
            <a:xfrm>
              <a:off x="3780000" y="5708520"/>
              <a:ext cx="39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gu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ó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 q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宋体"/>
                  <a:ea typeface="楷体_GB2312"/>
                </a:rPr>
                <a:t>ì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ng ji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宋体"/>
                  <a:ea typeface="楷体_GB2312"/>
                </a:rPr>
                <a:t>é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637" name="Group 34"/>
          <p:cNvGrpSpPr/>
          <p:nvPr/>
        </p:nvGrpSpPr>
        <p:grpSpPr>
          <a:xfrm>
            <a:off x="179280" y="1568520"/>
            <a:ext cx="8893440" cy="854640"/>
            <a:chOff x="179280" y="1568520"/>
            <a:chExt cx="8893440" cy="854640"/>
          </a:xfrm>
        </p:grpSpPr>
        <p:sp>
          <p:nvSpPr>
            <p:cNvPr id="638" name="Text Box 10"/>
            <p:cNvSpPr/>
            <p:nvPr/>
          </p:nvSpPr>
          <p:spPr>
            <a:xfrm>
              <a:off x="179280" y="1841760"/>
              <a:ext cx="8893440" cy="581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（五 ）月（一）日是 </a:t>
              </a:r>
              <a:r>
                <a:rPr b="0" i="1" lang="zh-CN" sz="28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（劳动节） </a:t>
              </a:r>
              <a:r>
                <a:rPr b="0" i="1" lang="zh-CN" sz="28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。</a:t>
              </a:r>
              <a:r>
                <a:rPr b="0" i="1" lang="zh-CN" sz="32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      </a:t>
              </a:r>
              <a:r>
                <a:rPr b="0" i="1" lang="zh-CN" sz="32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      </a:t>
              </a:r>
              <a:endParaRPr b="0" i="1" lang="en-US" sz="32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39" name="Text Box 11"/>
            <p:cNvSpPr/>
            <p:nvPr/>
          </p:nvSpPr>
          <p:spPr>
            <a:xfrm>
              <a:off x="3706920" y="1568520"/>
              <a:ext cx="39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l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宋体"/>
                  <a:ea typeface="楷体_GB2312"/>
                </a:rPr>
                <a:t>á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o dòng ji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宋体"/>
                  <a:ea typeface="楷体_GB2312"/>
                </a:rPr>
                <a:t>é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640" name="Group 32"/>
          <p:cNvGrpSpPr/>
          <p:nvPr/>
        </p:nvGrpSpPr>
        <p:grpSpPr>
          <a:xfrm>
            <a:off x="1398600" y="-171360"/>
            <a:ext cx="8893080" cy="963360"/>
            <a:chOff x="1398600" y="-171360"/>
            <a:chExt cx="8893080" cy="963360"/>
          </a:xfrm>
        </p:grpSpPr>
        <p:sp>
          <p:nvSpPr>
            <p:cNvPr id="641" name="Text Box 15"/>
            <p:cNvSpPr/>
            <p:nvPr/>
          </p:nvSpPr>
          <p:spPr>
            <a:xfrm>
              <a:off x="1398600" y="271440"/>
              <a:ext cx="8893080" cy="520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（一）月（一）日是 </a:t>
              </a:r>
              <a:r>
                <a:rPr b="0" i="1" lang="zh-CN" sz="28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（元旦节 ） </a:t>
              </a:r>
              <a:r>
                <a:rPr b="0" i="1" lang="zh-CN" sz="28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。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      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      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42" name="Text Box 16"/>
            <p:cNvSpPr/>
            <p:nvPr/>
          </p:nvSpPr>
          <p:spPr>
            <a:xfrm>
              <a:off x="4784400" y="-171360"/>
              <a:ext cx="215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 u="sng">
                  <a:solidFill>
                    <a:srgbClr val="000000"/>
                  </a:solidFill>
                  <a:uFillTx/>
                  <a:latin typeface="宋体"/>
                  <a:ea typeface="迷你简彩云"/>
                </a:rPr>
                <a:t>yuán d</a:t>
              </a:r>
              <a:r>
                <a:rPr b="0" i="1" lang="en-US" sz="2800" spc="-1" strike="noStrike" u="sng">
                  <a:solidFill>
                    <a:srgbClr val="000000"/>
                  </a:solidFill>
                  <a:uFillTx/>
                  <a:latin typeface="宋体"/>
                  <a:ea typeface="Arial"/>
                </a:rPr>
                <a:t>à</a:t>
              </a:r>
              <a:r>
                <a:rPr b="0" i="1" lang="en-US" sz="2800" spc="-1" strike="noStrike" u="sng">
                  <a:solidFill>
                    <a:srgbClr val="000000"/>
                  </a:solidFill>
                  <a:uFillTx/>
                  <a:latin typeface="宋体"/>
                  <a:ea typeface="迷你简彩云"/>
                </a:rPr>
                <a:t>njié</a:t>
              </a:r>
              <a:endParaRPr b="0" i="1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643" name="Group 33"/>
          <p:cNvGrpSpPr/>
          <p:nvPr/>
        </p:nvGrpSpPr>
        <p:grpSpPr>
          <a:xfrm>
            <a:off x="1255680" y="692280"/>
            <a:ext cx="8893080" cy="891720"/>
            <a:chOff x="1255680" y="692280"/>
            <a:chExt cx="8893080" cy="891720"/>
          </a:xfrm>
        </p:grpSpPr>
        <p:sp>
          <p:nvSpPr>
            <p:cNvPr id="644" name="Text Box 18"/>
            <p:cNvSpPr/>
            <p:nvPr/>
          </p:nvSpPr>
          <p:spPr>
            <a:xfrm>
              <a:off x="1255680" y="1063440"/>
              <a:ext cx="8893080" cy="520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（三）月（八）日是 </a:t>
              </a:r>
              <a:r>
                <a:rPr b="0" i="1" lang="zh-CN" sz="28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（妇女节 ）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。          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      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45" name="Text Box 19"/>
            <p:cNvSpPr/>
            <p:nvPr/>
          </p:nvSpPr>
          <p:spPr>
            <a:xfrm>
              <a:off x="4784400" y="692280"/>
              <a:ext cx="215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fù nǚ jié</a:t>
              </a:r>
              <a:endParaRPr b="0" i="1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646" name="Group 38"/>
          <p:cNvGrpSpPr/>
          <p:nvPr/>
        </p:nvGrpSpPr>
        <p:grpSpPr>
          <a:xfrm>
            <a:off x="179280" y="4834080"/>
            <a:ext cx="8893440" cy="902160"/>
            <a:chOff x="179280" y="4834080"/>
            <a:chExt cx="8893440" cy="902160"/>
          </a:xfrm>
        </p:grpSpPr>
        <p:sp>
          <p:nvSpPr>
            <p:cNvPr id="647" name="Text Box 21"/>
            <p:cNvSpPr/>
            <p:nvPr/>
          </p:nvSpPr>
          <p:spPr>
            <a:xfrm>
              <a:off x="179280" y="5154840"/>
              <a:ext cx="8893440" cy="581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（九 ）月（十）日是 </a:t>
              </a:r>
              <a:r>
                <a:rPr b="0" i="1" lang="zh-CN" sz="28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（教师节） </a:t>
              </a:r>
              <a:r>
                <a:rPr b="0" i="1" lang="zh-CN" sz="28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。</a:t>
              </a:r>
              <a:r>
                <a:rPr b="0" i="1" lang="zh-CN" sz="32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      </a:t>
              </a:r>
              <a:r>
                <a:rPr b="0" i="1" lang="zh-CN" sz="32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      </a:t>
              </a:r>
              <a:endParaRPr b="0" i="1" lang="en-US" sz="32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48" name="Text Box 22"/>
            <p:cNvSpPr/>
            <p:nvPr/>
          </p:nvSpPr>
          <p:spPr>
            <a:xfrm>
              <a:off x="3706920" y="4834080"/>
              <a:ext cx="39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ji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宋体"/>
                  <a:ea typeface="楷体_GB2312"/>
                </a:rPr>
                <a:t>à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o shī ji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宋体"/>
                  <a:ea typeface="楷体_GB2312"/>
                </a:rPr>
                <a:t>é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649" name="Group 36"/>
          <p:cNvGrpSpPr/>
          <p:nvPr/>
        </p:nvGrpSpPr>
        <p:grpSpPr>
          <a:xfrm>
            <a:off x="179280" y="3105000"/>
            <a:ext cx="8893440" cy="901800"/>
            <a:chOff x="179280" y="3105000"/>
            <a:chExt cx="8893440" cy="901800"/>
          </a:xfrm>
        </p:grpSpPr>
        <p:sp>
          <p:nvSpPr>
            <p:cNvPr id="650" name="Text Box 24"/>
            <p:cNvSpPr/>
            <p:nvPr/>
          </p:nvSpPr>
          <p:spPr>
            <a:xfrm>
              <a:off x="179280" y="3425400"/>
              <a:ext cx="8893440" cy="581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（七 ）月（一）日是 </a:t>
              </a:r>
              <a:r>
                <a:rPr b="0" i="1" lang="zh-CN" sz="28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（党  的 生 日） </a:t>
              </a:r>
              <a:r>
                <a:rPr b="0" i="1" lang="zh-CN" sz="28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。</a:t>
              </a:r>
              <a:r>
                <a:rPr b="0" i="1" lang="zh-CN" sz="32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      </a:t>
              </a:r>
              <a:r>
                <a:rPr b="0" i="1" lang="zh-CN" sz="32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      </a:t>
              </a:r>
              <a:endParaRPr b="0" i="1" lang="en-US" sz="32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51" name="Text Box 25"/>
            <p:cNvSpPr/>
            <p:nvPr/>
          </p:nvSpPr>
          <p:spPr>
            <a:xfrm>
              <a:off x="3924360" y="3105000"/>
              <a:ext cx="39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dǎng de shēng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652" name="Group 37"/>
          <p:cNvGrpSpPr/>
          <p:nvPr/>
        </p:nvGrpSpPr>
        <p:grpSpPr>
          <a:xfrm>
            <a:off x="179280" y="4041720"/>
            <a:ext cx="8893440" cy="829080"/>
            <a:chOff x="179280" y="4041720"/>
            <a:chExt cx="8893440" cy="829080"/>
          </a:xfrm>
        </p:grpSpPr>
        <p:sp>
          <p:nvSpPr>
            <p:cNvPr id="653" name="Text Box 27"/>
            <p:cNvSpPr/>
            <p:nvPr/>
          </p:nvSpPr>
          <p:spPr>
            <a:xfrm>
              <a:off x="179280" y="4289400"/>
              <a:ext cx="8893440" cy="581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（八 ）月（一）日是 </a:t>
              </a:r>
              <a:r>
                <a:rPr b="0" i="1" lang="zh-CN" sz="28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（建军节） </a:t>
              </a:r>
              <a:r>
                <a:rPr b="0" i="1" lang="zh-CN" sz="28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。</a:t>
              </a:r>
              <a:r>
                <a:rPr b="0" i="1" lang="zh-CN" sz="32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      </a:t>
              </a:r>
              <a:r>
                <a:rPr b="0" i="1" lang="zh-CN" sz="32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      </a:t>
              </a:r>
              <a:endParaRPr b="0" i="1" lang="en-US" sz="32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54" name="Text Box 28"/>
            <p:cNvSpPr/>
            <p:nvPr/>
          </p:nvSpPr>
          <p:spPr>
            <a:xfrm>
              <a:off x="3780000" y="4041720"/>
              <a:ext cx="39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ji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宋体"/>
                  <a:ea typeface="楷体_GB2312"/>
                </a:rPr>
                <a:t>à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n jūn ji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宋体"/>
                  <a:ea typeface="楷体_GB2312"/>
                </a:rPr>
                <a:t>é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Picture 2" descr="机器猫2"/>
          <p:cNvPicPr/>
          <p:nvPr/>
        </p:nvPicPr>
        <p:blipFill>
          <a:blip r:embed="rId1"/>
          <a:stretch/>
        </p:blipFill>
        <p:spPr>
          <a:xfrm>
            <a:off x="1515960" y="1136520"/>
            <a:ext cx="7628040" cy="5722920"/>
          </a:xfrm>
          <a:prstGeom prst="rect">
            <a:avLst/>
          </a:prstGeom>
          <a:ln w="0">
            <a:noFill/>
          </a:ln>
        </p:spPr>
      </p:pic>
      <p:sp>
        <p:nvSpPr>
          <p:cNvPr id="656" name="Text Box 3"/>
          <p:cNvSpPr/>
          <p:nvPr/>
        </p:nvSpPr>
        <p:spPr>
          <a:xfrm>
            <a:off x="250920" y="1197000"/>
            <a:ext cx="8893080" cy="119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（  ）月（  ）日是 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（       ）节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。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7" name="Text Box 4"/>
          <p:cNvSpPr/>
          <p:nvPr/>
        </p:nvSpPr>
        <p:spPr>
          <a:xfrm>
            <a:off x="250920" y="3303720"/>
            <a:ext cx="8893080" cy="119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（  ）月（  ）日是 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（         ）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。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58" name="2856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9" dur="6576" fill="hold"/>
                                        <p:tgtEl>
                                          <p:spTgt spid="6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Picture 7" descr=""/>
          <p:cNvPicPr/>
          <p:nvPr/>
        </p:nvPicPr>
        <p:blipFill>
          <a:blip r:embed="rId1">
            <a:lum contrast="12000"/>
          </a:blip>
          <a:srcRect l="6377" t="4537" r="8745" b="4537"/>
          <a:stretch/>
        </p:blipFill>
        <p:spPr>
          <a:xfrm>
            <a:off x="539640" y="2997360"/>
            <a:ext cx="3500640" cy="3500280"/>
          </a:xfrm>
          <a:prstGeom prst="rect">
            <a:avLst/>
          </a:prstGeom>
          <a:ln w="0">
            <a:noFill/>
          </a:ln>
        </p:spPr>
      </p:pic>
      <p:pic>
        <p:nvPicPr>
          <p:cNvPr id="662" name="图片 5" descr=""/>
          <p:cNvPicPr/>
          <p:nvPr/>
        </p:nvPicPr>
        <p:blipFill>
          <a:blip r:embed="rId2"/>
          <a:stretch/>
        </p:blipFill>
        <p:spPr>
          <a:xfrm>
            <a:off x="4500720" y="3860640"/>
            <a:ext cx="1143000" cy="1670040"/>
          </a:xfrm>
          <a:prstGeom prst="rect">
            <a:avLst/>
          </a:prstGeom>
          <a:ln w="0">
            <a:noFill/>
          </a:ln>
        </p:spPr>
      </p:pic>
      <p:sp>
        <p:nvSpPr>
          <p:cNvPr id="663" name="TextBox 7"/>
          <p:cNvSpPr/>
          <p:nvPr/>
        </p:nvSpPr>
        <p:spPr>
          <a:xfrm>
            <a:off x="6877080" y="2997360"/>
            <a:ext cx="14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方正姚体"/>
                <a:ea typeface="方正姚体"/>
              </a:rPr>
              <a:t>shuǐ 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方正姚体"/>
                <a:ea typeface="方正姚体"/>
              </a:rPr>
              <a:t> 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664" name="Group 13"/>
          <p:cNvGrpSpPr/>
          <p:nvPr/>
        </p:nvGrpSpPr>
        <p:grpSpPr>
          <a:xfrm>
            <a:off x="6156360" y="3789360"/>
            <a:ext cx="2448000" cy="2448000"/>
            <a:chOff x="6156360" y="3789360"/>
            <a:chExt cx="2448000" cy="2448000"/>
          </a:xfrm>
        </p:grpSpPr>
        <p:grpSp>
          <p:nvGrpSpPr>
            <p:cNvPr id="665" name="Group 7"/>
            <p:cNvGrpSpPr/>
            <p:nvPr/>
          </p:nvGrpSpPr>
          <p:grpSpPr>
            <a:xfrm>
              <a:off x="6156360" y="3789360"/>
              <a:ext cx="2448000" cy="2448000"/>
              <a:chOff x="6156360" y="3789360"/>
              <a:chExt cx="2448000" cy="2448000"/>
            </a:xfrm>
          </p:grpSpPr>
          <p:sp>
            <p:nvSpPr>
              <p:cNvPr id="666" name="Rectangle 4"/>
              <p:cNvSpPr/>
              <p:nvPr/>
            </p:nvSpPr>
            <p:spPr>
              <a:xfrm>
                <a:off x="6156360" y="3789360"/>
                <a:ext cx="2448000" cy="2448000"/>
              </a:xfrm>
              <a:prstGeom prst="rect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67" name="Line 5"/>
              <p:cNvSpPr/>
              <p:nvPr/>
            </p:nvSpPr>
            <p:spPr>
              <a:xfrm>
                <a:off x="6156360" y="5012640"/>
                <a:ext cx="24109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68" name="Line 6"/>
              <p:cNvSpPr/>
              <p:nvPr/>
            </p:nvSpPr>
            <p:spPr>
              <a:xfrm>
                <a:off x="7380360" y="3789360"/>
                <a:ext cx="0" cy="2448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669" name="Text Box 15"/>
            <p:cNvSpPr/>
            <p:nvPr/>
          </p:nvSpPr>
          <p:spPr>
            <a:xfrm>
              <a:off x="6372360" y="3789360"/>
              <a:ext cx="191592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5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水 </a:t>
              </a:r>
              <a:endParaRPr b="0" i="1" lang="en-US" sz="15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670" name="Oval 14"/>
          <p:cNvSpPr/>
          <p:nvPr/>
        </p:nvSpPr>
        <p:spPr>
          <a:xfrm>
            <a:off x="8028000" y="6308640"/>
            <a:ext cx="576360" cy="287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1" name="Freeform 15"/>
          <p:cNvSpPr/>
          <p:nvPr/>
        </p:nvSpPr>
        <p:spPr>
          <a:xfrm>
            <a:off x="6588000" y="4797360"/>
            <a:ext cx="648000" cy="909720"/>
          </a:xfrm>
          <a:custGeom>
            <a:avLst/>
            <a:gdLst/>
            <a:ahLst/>
            <a:rect l="l" t="t" r="r" b="b"/>
            <a:pathLst>
              <a:path w="421" h="573">
                <a:moveTo>
                  <a:pt x="78" y="538"/>
                </a:moveTo>
                <a:lnTo>
                  <a:pt x="63" y="548"/>
                </a:lnTo>
                <a:lnTo>
                  <a:pt x="49" y="556"/>
                </a:lnTo>
                <a:lnTo>
                  <a:pt x="36" y="563"/>
                </a:lnTo>
                <a:lnTo>
                  <a:pt x="25" y="567"/>
                </a:lnTo>
                <a:lnTo>
                  <a:pt x="19" y="569"/>
                </a:lnTo>
                <a:lnTo>
                  <a:pt x="15" y="571"/>
                </a:lnTo>
                <a:lnTo>
                  <a:pt x="11" y="571"/>
                </a:lnTo>
                <a:lnTo>
                  <a:pt x="7" y="573"/>
                </a:lnTo>
                <a:lnTo>
                  <a:pt x="5" y="573"/>
                </a:lnTo>
                <a:lnTo>
                  <a:pt x="3" y="573"/>
                </a:lnTo>
                <a:lnTo>
                  <a:pt x="2" y="573"/>
                </a:lnTo>
                <a:lnTo>
                  <a:pt x="0" y="571"/>
                </a:lnTo>
                <a:lnTo>
                  <a:pt x="0" y="569"/>
                </a:lnTo>
                <a:lnTo>
                  <a:pt x="0" y="567"/>
                </a:lnTo>
                <a:lnTo>
                  <a:pt x="0" y="565"/>
                </a:lnTo>
                <a:lnTo>
                  <a:pt x="2" y="561"/>
                </a:lnTo>
                <a:lnTo>
                  <a:pt x="3" y="557"/>
                </a:lnTo>
                <a:lnTo>
                  <a:pt x="5" y="556"/>
                </a:lnTo>
                <a:lnTo>
                  <a:pt x="7" y="552"/>
                </a:lnTo>
                <a:lnTo>
                  <a:pt x="11" y="548"/>
                </a:lnTo>
                <a:lnTo>
                  <a:pt x="15" y="542"/>
                </a:lnTo>
                <a:lnTo>
                  <a:pt x="19" y="538"/>
                </a:lnTo>
                <a:lnTo>
                  <a:pt x="25" y="533"/>
                </a:lnTo>
                <a:lnTo>
                  <a:pt x="30" y="527"/>
                </a:lnTo>
                <a:lnTo>
                  <a:pt x="36" y="521"/>
                </a:lnTo>
                <a:lnTo>
                  <a:pt x="42" y="515"/>
                </a:lnTo>
                <a:lnTo>
                  <a:pt x="49" y="510"/>
                </a:lnTo>
                <a:lnTo>
                  <a:pt x="65" y="496"/>
                </a:lnTo>
                <a:lnTo>
                  <a:pt x="78" y="481"/>
                </a:lnTo>
                <a:lnTo>
                  <a:pt x="93" y="465"/>
                </a:lnTo>
                <a:lnTo>
                  <a:pt x="109" y="448"/>
                </a:lnTo>
                <a:lnTo>
                  <a:pt x="126" y="431"/>
                </a:lnTo>
                <a:lnTo>
                  <a:pt x="141" y="410"/>
                </a:lnTo>
                <a:lnTo>
                  <a:pt x="157" y="389"/>
                </a:lnTo>
                <a:lnTo>
                  <a:pt x="174" y="368"/>
                </a:lnTo>
                <a:lnTo>
                  <a:pt x="189" y="345"/>
                </a:lnTo>
                <a:lnTo>
                  <a:pt x="205" y="324"/>
                </a:lnTo>
                <a:lnTo>
                  <a:pt x="218" y="301"/>
                </a:lnTo>
                <a:lnTo>
                  <a:pt x="229" y="278"/>
                </a:lnTo>
                <a:lnTo>
                  <a:pt x="243" y="255"/>
                </a:lnTo>
                <a:lnTo>
                  <a:pt x="252" y="232"/>
                </a:lnTo>
                <a:lnTo>
                  <a:pt x="264" y="209"/>
                </a:lnTo>
                <a:lnTo>
                  <a:pt x="273" y="186"/>
                </a:lnTo>
                <a:lnTo>
                  <a:pt x="277" y="174"/>
                </a:lnTo>
                <a:lnTo>
                  <a:pt x="281" y="165"/>
                </a:lnTo>
                <a:lnTo>
                  <a:pt x="285" y="155"/>
                </a:lnTo>
                <a:lnTo>
                  <a:pt x="289" y="145"/>
                </a:lnTo>
                <a:lnTo>
                  <a:pt x="291" y="136"/>
                </a:lnTo>
                <a:lnTo>
                  <a:pt x="295" y="128"/>
                </a:lnTo>
                <a:lnTo>
                  <a:pt x="296" y="121"/>
                </a:lnTo>
                <a:lnTo>
                  <a:pt x="298" y="115"/>
                </a:lnTo>
                <a:lnTo>
                  <a:pt x="300" y="109"/>
                </a:lnTo>
                <a:lnTo>
                  <a:pt x="302" y="103"/>
                </a:lnTo>
                <a:lnTo>
                  <a:pt x="302" y="99"/>
                </a:lnTo>
                <a:lnTo>
                  <a:pt x="304" y="96"/>
                </a:lnTo>
                <a:lnTo>
                  <a:pt x="304" y="92"/>
                </a:lnTo>
                <a:lnTo>
                  <a:pt x="304" y="90"/>
                </a:lnTo>
                <a:lnTo>
                  <a:pt x="302" y="88"/>
                </a:lnTo>
                <a:lnTo>
                  <a:pt x="302" y="86"/>
                </a:lnTo>
                <a:lnTo>
                  <a:pt x="300" y="86"/>
                </a:lnTo>
                <a:lnTo>
                  <a:pt x="298" y="86"/>
                </a:lnTo>
                <a:lnTo>
                  <a:pt x="296" y="84"/>
                </a:lnTo>
                <a:lnTo>
                  <a:pt x="293" y="86"/>
                </a:lnTo>
                <a:lnTo>
                  <a:pt x="289" y="86"/>
                </a:lnTo>
                <a:lnTo>
                  <a:pt x="285" y="86"/>
                </a:lnTo>
                <a:lnTo>
                  <a:pt x="279" y="88"/>
                </a:lnTo>
                <a:lnTo>
                  <a:pt x="273" y="88"/>
                </a:lnTo>
                <a:lnTo>
                  <a:pt x="268" y="90"/>
                </a:lnTo>
                <a:lnTo>
                  <a:pt x="260" y="92"/>
                </a:lnTo>
                <a:lnTo>
                  <a:pt x="252" y="94"/>
                </a:lnTo>
                <a:lnTo>
                  <a:pt x="245" y="96"/>
                </a:lnTo>
                <a:lnTo>
                  <a:pt x="237" y="98"/>
                </a:lnTo>
                <a:lnTo>
                  <a:pt x="228" y="99"/>
                </a:lnTo>
                <a:lnTo>
                  <a:pt x="218" y="103"/>
                </a:lnTo>
                <a:lnTo>
                  <a:pt x="208" y="105"/>
                </a:lnTo>
                <a:lnTo>
                  <a:pt x="189" y="111"/>
                </a:lnTo>
                <a:lnTo>
                  <a:pt x="180" y="113"/>
                </a:lnTo>
                <a:lnTo>
                  <a:pt x="170" y="115"/>
                </a:lnTo>
                <a:lnTo>
                  <a:pt x="162" y="117"/>
                </a:lnTo>
                <a:lnTo>
                  <a:pt x="155" y="119"/>
                </a:lnTo>
                <a:lnTo>
                  <a:pt x="149" y="121"/>
                </a:lnTo>
                <a:lnTo>
                  <a:pt x="141" y="122"/>
                </a:lnTo>
                <a:lnTo>
                  <a:pt x="136" y="124"/>
                </a:lnTo>
                <a:lnTo>
                  <a:pt x="130" y="126"/>
                </a:lnTo>
                <a:lnTo>
                  <a:pt x="126" y="126"/>
                </a:lnTo>
                <a:lnTo>
                  <a:pt x="120" y="128"/>
                </a:lnTo>
                <a:lnTo>
                  <a:pt x="116" y="128"/>
                </a:lnTo>
                <a:lnTo>
                  <a:pt x="115" y="128"/>
                </a:lnTo>
                <a:lnTo>
                  <a:pt x="111" y="128"/>
                </a:lnTo>
                <a:lnTo>
                  <a:pt x="109" y="128"/>
                </a:lnTo>
                <a:lnTo>
                  <a:pt x="105" y="128"/>
                </a:lnTo>
                <a:lnTo>
                  <a:pt x="99" y="128"/>
                </a:lnTo>
                <a:lnTo>
                  <a:pt x="93" y="124"/>
                </a:lnTo>
                <a:lnTo>
                  <a:pt x="88" y="122"/>
                </a:lnTo>
                <a:lnTo>
                  <a:pt x="80" y="119"/>
                </a:lnTo>
                <a:lnTo>
                  <a:pt x="72" y="113"/>
                </a:lnTo>
                <a:lnTo>
                  <a:pt x="63" y="107"/>
                </a:lnTo>
                <a:lnTo>
                  <a:pt x="55" y="101"/>
                </a:lnTo>
                <a:lnTo>
                  <a:pt x="49" y="98"/>
                </a:lnTo>
                <a:lnTo>
                  <a:pt x="44" y="94"/>
                </a:lnTo>
                <a:lnTo>
                  <a:pt x="40" y="90"/>
                </a:lnTo>
                <a:lnTo>
                  <a:pt x="36" y="88"/>
                </a:lnTo>
                <a:lnTo>
                  <a:pt x="34" y="86"/>
                </a:lnTo>
                <a:lnTo>
                  <a:pt x="30" y="82"/>
                </a:lnTo>
                <a:lnTo>
                  <a:pt x="28" y="80"/>
                </a:lnTo>
                <a:lnTo>
                  <a:pt x="28" y="78"/>
                </a:lnTo>
                <a:lnTo>
                  <a:pt x="26" y="76"/>
                </a:lnTo>
                <a:lnTo>
                  <a:pt x="26" y="75"/>
                </a:lnTo>
                <a:lnTo>
                  <a:pt x="26" y="73"/>
                </a:lnTo>
                <a:lnTo>
                  <a:pt x="28" y="71"/>
                </a:lnTo>
                <a:lnTo>
                  <a:pt x="30" y="69"/>
                </a:lnTo>
                <a:lnTo>
                  <a:pt x="32" y="69"/>
                </a:lnTo>
                <a:lnTo>
                  <a:pt x="34" y="67"/>
                </a:lnTo>
                <a:lnTo>
                  <a:pt x="46" y="67"/>
                </a:lnTo>
                <a:lnTo>
                  <a:pt x="57" y="67"/>
                </a:lnTo>
                <a:lnTo>
                  <a:pt x="71" y="67"/>
                </a:lnTo>
                <a:lnTo>
                  <a:pt x="84" y="67"/>
                </a:lnTo>
                <a:lnTo>
                  <a:pt x="88" y="67"/>
                </a:lnTo>
                <a:lnTo>
                  <a:pt x="92" y="67"/>
                </a:lnTo>
                <a:lnTo>
                  <a:pt x="95" y="67"/>
                </a:lnTo>
                <a:lnTo>
                  <a:pt x="99" y="67"/>
                </a:lnTo>
                <a:lnTo>
                  <a:pt x="105" y="67"/>
                </a:lnTo>
                <a:lnTo>
                  <a:pt x="111" y="65"/>
                </a:lnTo>
                <a:lnTo>
                  <a:pt x="118" y="65"/>
                </a:lnTo>
                <a:lnTo>
                  <a:pt x="124" y="63"/>
                </a:lnTo>
                <a:lnTo>
                  <a:pt x="132" y="63"/>
                </a:lnTo>
                <a:lnTo>
                  <a:pt x="139" y="61"/>
                </a:lnTo>
                <a:lnTo>
                  <a:pt x="149" y="61"/>
                </a:lnTo>
                <a:lnTo>
                  <a:pt x="157" y="59"/>
                </a:lnTo>
                <a:lnTo>
                  <a:pt x="166" y="57"/>
                </a:lnTo>
                <a:lnTo>
                  <a:pt x="176" y="57"/>
                </a:lnTo>
                <a:lnTo>
                  <a:pt x="199" y="53"/>
                </a:lnTo>
                <a:lnTo>
                  <a:pt x="218" y="50"/>
                </a:lnTo>
                <a:lnTo>
                  <a:pt x="235" y="46"/>
                </a:lnTo>
                <a:lnTo>
                  <a:pt x="252" y="42"/>
                </a:lnTo>
                <a:lnTo>
                  <a:pt x="268" y="38"/>
                </a:lnTo>
                <a:lnTo>
                  <a:pt x="273" y="36"/>
                </a:lnTo>
                <a:lnTo>
                  <a:pt x="281" y="34"/>
                </a:lnTo>
                <a:lnTo>
                  <a:pt x="287" y="32"/>
                </a:lnTo>
                <a:lnTo>
                  <a:pt x="293" y="30"/>
                </a:lnTo>
                <a:lnTo>
                  <a:pt x="296" y="27"/>
                </a:lnTo>
                <a:lnTo>
                  <a:pt x="300" y="25"/>
                </a:lnTo>
                <a:lnTo>
                  <a:pt x="304" y="23"/>
                </a:lnTo>
                <a:lnTo>
                  <a:pt x="308" y="19"/>
                </a:lnTo>
                <a:lnTo>
                  <a:pt x="317" y="13"/>
                </a:lnTo>
                <a:lnTo>
                  <a:pt x="325" y="9"/>
                </a:lnTo>
                <a:lnTo>
                  <a:pt x="333" y="4"/>
                </a:lnTo>
                <a:lnTo>
                  <a:pt x="337" y="0"/>
                </a:lnTo>
                <a:lnTo>
                  <a:pt x="339" y="2"/>
                </a:lnTo>
                <a:lnTo>
                  <a:pt x="342" y="2"/>
                </a:lnTo>
                <a:lnTo>
                  <a:pt x="346" y="4"/>
                </a:lnTo>
                <a:lnTo>
                  <a:pt x="352" y="7"/>
                </a:lnTo>
                <a:lnTo>
                  <a:pt x="358" y="11"/>
                </a:lnTo>
                <a:lnTo>
                  <a:pt x="365" y="15"/>
                </a:lnTo>
                <a:lnTo>
                  <a:pt x="373" y="19"/>
                </a:lnTo>
                <a:lnTo>
                  <a:pt x="383" y="25"/>
                </a:lnTo>
                <a:lnTo>
                  <a:pt x="390" y="30"/>
                </a:lnTo>
                <a:lnTo>
                  <a:pt x="398" y="34"/>
                </a:lnTo>
                <a:lnTo>
                  <a:pt x="406" y="40"/>
                </a:lnTo>
                <a:lnTo>
                  <a:pt x="411" y="46"/>
                </a:lnTo>
                <a:lnTo>
                  <a:pt x="415" y="50"/>
                </a:lnTo>
                <a:lnTo>
                  <a:pt x="419" y="55"/>
                </a:lnTo>
                <a:lnTo>
                  <a:pt x="421" y="59"/>
                </a:lnTo>
                <a:lnTo>
                  <a:pt x="421" y="63"/>
                </a:lnTo>
                <a:lnTo>
                  <a:pt x="417" y="73"/>
                </a:lnTo>
                <a:lnTo>
                  <a:pt x="413" y="80"/>
                </a:lnTo>
                <a:lnTo>
                  <a:pt x="407" y="86"/>
                </a:lnTo>
                <a:lnTo>
                  <a:pt x="402" y="92"/>
                </a:lnTo>
                <a:lnTo>
                  <a:pt x="398" y="94"/>
                </a:lnTo>
                <a:lnTo>
                  <a:pt x="396" y="96"/>
                </a:lnTo>
                <a:lnTo>
                  <a:pt x="392" y="99"/>
                </a:lnTo>
                <a:lnTo>
                  <a:pt x="390" y="103"/>
                </a:lnTo>
                <a:lnTo>
                  <a:pt x="386" y="109"/>
                </a:lnTo>
                <a:lnTo>
                  <a:pt x="383" y="115"/>
                </a:lnTo>
                <a:lnTo>
                  <a:pt x="379" y="121"/>
                </a:lnTo>
                <a:lnTo>
                  <a:pt x="375" y="128"/>
                </a:lnTo>
                <a:lnTo>
                  <a:pt x="371" y="136"/>
                </a:lnTo>
                <a:lnTo>
                  <a:pt x="367" y="144"/>
                </a:lnTo>
                <a:lnTo>
                  <a:pt x="363" y="153"/>
                </a:lnTo>
                <a:lnTo>
                  <a:pt x="360" y="163"/>
                </a:lnTo>
                <a:lnTo>
                  <a:pt x="356" y="174"/>
                </a:lnTo>
                <a:lnTo>
                  <a:pt x="350" y="184"/>
                </a:lnTo>
                <a:lnTo>
                  <a:pt x="346" y="197"/>
                </a:lnTo>
                <a:lnTo>
                  <a:pt x="342" y="211"/>
                </a:lnTo>
                <a:lnTo>
                  <a:pt x="331" y="237"/>
                </a:lnTo>
                <a:lnTo>
                  <a:pt x="317" y="262"/>
                </a:lnTo>
                <a:lnTo>
                  <a:pt x="304" y="287"/>
                </a:lnTo>
                <a:lnTo>
                  <a:pt x="291" y="312"/>
                </a:lnTo>
                <a:lnTo>
                  <a:pt x="275" y="337"/>
                </a:lnTo>
                <a:lnTo>
                  <a:pt x="260" y="360"/>
                </a:lnTo>
                <a:lnTo>
                  <a:pt x="245" y="383"/>
                </a:lnTo>
                <a:lnTo>
                  <a:pt x="228" y="404"/>
                </a:lnTo>
                <a:lnTo>
                  <a:pt x="210" y="425"/>
                </a:lnTo>
                <a:lnTo>
                  <a:pt x="191" y="444"/>
                </a:lnTo>
                <a:lnTo>
                  <a:pt x="172" y="464"/>
                </a:lnTo>
                <a:lnTo>
                  <a:pt x="153" y="481"/>
                </a:lnTo>
                <a:lnTo>
                  <a:pt x="136" y="496"/>
                </a:lnTo>
                <a:lnTo>
                  <a:pt x="116" y="511"/>
                </a:lnTo>
                <a:lnTo>
                  <a:pt x="97" y="525"/>
                </a:lnTo>
                <a:lnTo>
                  <a:pt x="78" y="538"/>
                </a:lnTo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2" name="Freeform 16"/>
          <p:cNvSpPr/>
          <p:nvPr/>
        </p:nvSpPr>
        <p:spPr>
          <a:xfrm>
            <a:off x="7020000" y="4294080"/>
            <a:ext cx="431640" cy="1582920"/>
          </a:xfrm>
          <a:custGeom>
            <a:avLst/>
            <a:gdLst/>
            <a:ahLst/>
            <a:rect l="l" t="t" r="r" b="b"/>
            <a:pathLst>
              <a:path w="232" h="1037">
                <a:moveTo>
                  <a:pt x="193" y="989"/>
                </a:moveTo>
                <a:lnTo>
                  <a:pt x="188" y="1000"/>
                </a:lnTo>
                <a:lnTo>
                  <a:pt x="182" y="1010"/>
                </a:lnTo>
                <a:lnTo>
                  <a:pt x="176" y="1017"/>
                </a:lnTo>
                <a:lnTo>
                  <a:pt x="170" y="1025"/>
                </a:lnTo>
                <a:lnTo>
                  <a:pt x="167" y="1029"/>
                </a:lnTo>
                <a:lnTo>
                  <a:pt x="161" y="1033"/>
                </a:lnTo>
                <a:lnTo>
                  <a:pt x="155" y="1035"/>
                </a:lnTo>
                <a:lnTo>
                  <a:pt x="149" y="1037"/>
                </a:lnTo>
                <a:lnTo>
                  <a:pt x="144" y="1035"/>
                </a:lnTo>
                <a:lnTo>
                  <a:pt x="140" y="1035"/>
                </a:lnTo>
                <a:lnTo>
                  <a:pt x="136" y="1031"/>
                </a:lnTo>
                <a:lnTo>
                  <a:pt x="132" y="1029"/>
                </a:lnTo>
                <a:lnTo>
                  <a:pt x="130" y="1023"/>
                </a:lnTo>
                <a:lnTo>
                  <a:pt x="128" y="1017"/>
                </a:lnTo>
                <a:lnTo>
                  <a:pt x="126" y="1012"/>
                </a:lnTo>
                <a:lnTo>
                  <a:pt x="125" y="1002"/>
                </a:lnTo>
                <a:lnTo>
                  <a:pt x="121" y="993"/>
                </a:lnTo>
                <a:lnTo>
                  <a:pt x="117" y="983"/>
                </a:lnTo>
                <a:lnTo>
                  <a:pt x="111" y="973"/>
                </a:lnTo>
                <a:lnTo>
                  <a:pt x="105" y="964"/>
                </a:lnTo>
                <a:lnTo>
                  <a:pt x="96" y="952"/>
                </a:lnTo>
                <a:lnTo>
                  <a:pt x="86" y="941"/>
                </a:lnTo>
                <a:lnTo>
                  <a:pt x="73" y="929"/>
                </a:lnTo>
                <a:lnTo>
                  <a:pt x="59" y="918"/>
                </a:lnTo>
                <a:lnTo>
                  <a:pt x="52" y="910"/>
                </a:lnTo>
                <a:lnTo>
                  <a:pt x="44" y="904"/>
                </a:lnTo>
                <a:lnTo>
                  <a:pt x="36" y="901"/>
                </a:lnTo>
                <a:lnTo>
                  <a:pt x="31" y="895"/>
                </a:lnTo>
                <a:lnTo>
                  <a:pt x="25" y="889"/>
                </a:lnTo>
                <a:lnTo>
                  <a:pt x="19" y="885"/>
                </a:lnTo>
                <a:lnTo>
                  <a:pt x="15" y="881"/>
                </a:lnTo>
                <a:lnTo>
                  <a:pt x="12" y="878"/>
                </a:lnTo>
                <a:lnTo>
                  <a:pt x="8" y="874"/>
                </a:lnTo>
                <a:lnTo>
                  <a:pt x="6" y="872"/>
                </a:lnTo>
                <a:lnTo>
                  <a:pt x="2" y="868"/>
                </a:lnTo>
                <a:lnTo>
                  <a:pt x="2" y="866"/>
                </a:lnTo>
                <a:lnTo>
                  <a:pt x="0" y="864"/>
                </a:lnTo>
                <a:lnTo>
                  <a:pt x="0" y="862"/>
                </a:lnTo>
                <a:lnTo>
                  <a:pt x="0" y="860"/>
                </a:lnTo>
                <a:lnTo>
                  <a:pt x="2" y="858"/>
                </a:lnTo>
                <a:lnTo>
                  <a:pt x="6" y="858"/>
                </a:lnTo>
                <a:lnTo>
                  <a:pt x="10" y="858"/>
                </a:lnTo>
                <a:lnTo>
                  <a:pt x="15" y="858"/>
                </a:lnTo>
                <a:lnTo>
                  <a:pt x="21" y="860"/>
                </a:lnTo>
                <a:lnTo>
                  <a:pt x="29" y="864"/>
                </a:lnTo>
                <a:lnTo>
                  <a:pt x="36" y="866"/>
                </a:lnTo>
                <a:lnTo>
                  <a:pt x="44" y="870"/>
                </a:lnTo>
                <a:lnTo>
                  <a:pt x="63" y="876"/>
                </a:lnTo>
                <a:lnTo>
                  <a:pt x="79" y="879"/>
                </a:lnTo>
                <a:lnTo>
                  <a:pt x="94" y="883"/>
                </a:lnTo>
                <a:lnTo>
                  <a:pt x="109" y="883"/>
                </a:lnTo>
                <a:lnTo>
                  <a:pt x="117" y="883"/>
                </a:lnTo>
                <a:lnTo>
                  <a:pt x="123" y="881"/>
                </a:lnTo>
                <a:lnTo>
                  <a:pt x="128" y="879"/>
                </a:lnTo>
                <a:lnTo>
                  <a:pt x="134" y="876"/>
                </a:lnTo>
                <a:lnTo>
                  <a:pt x="140" y="872"/>
                </a:lnTo>
                <a:lnTo>
                  <a:pt x="144" y="866"/>
                </a:lnTo>
                <a:lnTo>
                  <a:pt x="147" y="858"/>
                </a:lnTo>
                <a:lnTo>
                  <a:pt x="149" y="851"/>
                </a:lnTo>
                <a:lnTo>
                  <a:pt x="149" y="849"/>
                </a:lnTo>
                <a:lnTo>
                  <a:pt x="149" y="845"/>
                </a:lnTo>
                <a:lnTo>
                  <a:pt x="149" y="841"/>
                </a:lnTo>
                <a:lnTo>
                  <a:pt x="151" y="837"/>
                </a:lnTo>
                <a:lnTo>
                  <a:pt x="151" y="832"/>
                </a:lnTo>
                <a:lnTo>
                  <a:pt x="151" y="826"/>
                </a:lnTo>
                <a:lnTo>
                  <a:pt x="151" y="820"/>
                </a:lnTo>
                <a:lnTo>
                  <a:pt x="151" y="814"/>
                </a:lnTo>
                <a:lnTo>
                  <a:pt x="151" y="807"/>
                </a:lnTo>
                <a:lnTo>
                  <a:pt x="151" y="799"/>
                </a:lnTo>
                <a:lnTo>
                  <a:pt x="153" y="791"/>
                </a:lnTo>
                <a:lnTo>
                  <a:pt x="153" y="782"/>
                </a:lnTo>
                <a:lnTo>
                  <a:pt x="153" y="772"/>
                </a:lnTo>
                <a:lnTo>
                  <a:pt x="153" y="763"/>
                </a:lnTo>
                <a:lnTo>
                  <a:pt x="153" y="751"/>
                </a:lnTo>
                <a:lnTo>
                  <a:pt x="153" y="740"/>
                </a:lnTo>
                <a:lnTo>
                  <a:pt x="153" y="728"/>
                </a:lnTo>
                <a:lnTo>
                  <a:pt x="153" y="715"/>
                </a:lnTo>
                <a:lnTo>
                  <a:pt x="153" y="703"/>
                </a:lnTo>
                <a:lnTo>
                  <a:pt x="153" y="690"/>
                </a:lnTo>
                <a:lnTo>
                  <a:pt x="153" y="674"/>
                </a:lnTo>
                <a:lnTo>
                  <a:pt x="153" y="659"/>
                </a:lnTo>
                <a:lnTo>
                  <a:pt x="153" y="644"/>
                </a:lnTo>
                <a:lnTo>
                  <a:pt x="153" y="628"/>
                </a:lnTo>
                <a:lnTo>
                  <a:pt x="153" y="611"/>
                </a:lnTo>
                <a:lnTo>
                  <a:pt x="153" y="594"/>
                </a:lnTo>
                <a:lnTo>
                  <a:pt x="153" y="577"/>
                </a:lnTo>
                <a:lnTo>
                  <a:pt x="153" y="559"/>
                </a:lnTo>
                <a:lnTo>
                  <a:pt x="153" y="540"/>
                </a:lnTo>
                <a:lnTo>
                  <a:pt x="153" y="521"/>
                </a:lnTo>
                <a:lnTo>
                  <a:pt x="153" y="500"/>
                </a:lnTo>
                <a:lnTo>
                  <a:pt x="153" y="479"/>
                </a:lnTo>
                <a:lnTo>
                  <a:pt x="153" y="460"/>
                </a:lnTo>
                <a:lnTo>
                  <a:pt x="153" y="439"/>
                </a:lnTo>
                <a:lnTo>
                  <a:pt x="153" y="420"/>
                </a:lnTo>
                <a:lnTo>
                  <a:pt x="153" y="400"/>
                </a:lnTo>
                <a:lnTo>
                  <a:pt x="153" y="381"/>
                </a:lnTo>
                <a:lnTo>
                  <a:pt x="153" y="364"/>
                </a:lnTo>
                <a:lnTo>
                  <a:pt x="153" y="347"/>
                </a:lnTo>
                <a:lnTo>
                  <a:pt x="153" y="329"/>
                </a:lnTo>
                <a:lnTo>
                  <a:pt x="153" y="314"/>
                </a:lnTo>
                <a:lnTo>
                  <a:pt x="153" y="299"/>
                </a:lnTo>
                <a:lnTo>
                  <a:pt x="153" y="283"/>
                </a:lnTo>
                <a:lnTo>
                  <a:pt x="153" y="268"/>
                </a:lnTo>
                <a:lnTo>
                  <a:pt x="153" y="255"/>
                </a:lnTo>
                <a:lnTo>
                  <a:pt x="153" y="241"/>
                </a:lnTo>
                <a:lnTo>
                  <a:pt x="153" y="228"/>
                </a:lnTo>
                <a:lnTo>
                  <a:pt x="153" y="216"/>
                </a:lnTo>
                <a:lnTo>
                  <a:pt x="153" y="205"/>
                </a:lnTo>
                <a:lnTo>
                  <a:pt x="153" y="193"/>
                </a:lnTo>
                <a:lnTo>
                  <a:pt x="153" y="182"/>
                </a:lnTo>
                <a:lnTo>
                  <a:pt x="153" y="172"/>
                </a:lnTo>
                <a:lnTo>
                  <a:pt x="153" y="163"/>
                </a:lnTo>
                <a:lnTo>
                  <a:pt x="151" y="153"/>
                </a:lnTo>
                <a:lnTo>
                  <a:pt x="151" y="145"/>
                </a:lnTo>
                <a:lnTo>
                  <a:pt x="151" y="138"/>
                </a:lnTo>
                <a:lnTo>
                  <a:pt x="151" y="130"/>
                </a:lnTo>
                <a:lnTo>
                  <a:pt x="151" y="122"/>
                </a:lnTo>
                <a:lnTo>
                  <a:pt x="151" y="117"/>
                </a:lnTo>
                <a:lnTo>
                  <a:pt x="151" y="111"/>
                </a:lnTo>
                <a:lnTo>
                  <a:pt x="149" y="107"/>
                </a:lnTo>
                <a:lnTo>
                  <a:pt x="149" y="101"/>
                </a:lnTo>
                <a:lnTo>
                  <a:pt x="149" y="98"/>
                </a:lnTo>
                <a:lnTo>
                  <a:pt x="149" y="94"/>
                </a:lnTo>
                <a:lnTo>
                  <a:pt x="147" y="82"/>
                </a:lnTo>
                <a:lnTo>
                  <a:pt x="146" y="73"/>
                </a:lnTo>
                <a:lnTo>
                  <a:pt x="144" y="63"/>
                </a:lnTo>
                <a:lnTo>
                  <a:pt x="142" y="53"/>
                </a:lnTo>
                <a:lnTo>
                  <a:pt x="138" y="46"/>
                </a:lnTo>
                <a:lnTo>
                  <a:pt x="136" y="40"/>
                </a:lnTo>
                <a:lnTo>
                  <a:pt x="132" y="34"/>
                </a:lnTo>
                <a:lnTo>
                  <a:pt x="128" y="29"/>
                </a:lnTo>
                <a:lnTo>
                  <a:pt x="126" y="25"/>
                </a:lnTo>
                <a:lnTo>
                  <a:pt x="123" y="21"/>
                </a:lnTo>
                <a:lnTo>
                  <a:pt x="123" y="17"/>
                </a:lnTo>
                <a:lnTo>
                  <a:pt x="121" y="15"/>
                </a:lnTo>
                <a:lnTo>
                  <a:pt x="121" y="11"/>
                </a:lnTo>
                <a:lnTo>
                  <a:pt x="121" y="9"/>
                </a:lnTo>
                <a:lnTo>
                  <a:pt x="123" y="6"/>
                </a:lnTo>
                <a:lnTo>
                  <a:pt x="125" y="4"/>
                </a:lnTo>
                <a:lnTo>
                  <a:pt x="126" y="2"/>
                </a:lnTo>
                <a:lnTo>
                  <a:pt x="130" y="2"/>
                </a:lnTo>
                <a:lnTo>
                  <a:pt x="136" y="2"/>
                </a:lnTo>
                <a:lnTo>
                  <a:pt x="142" y="0"/>
                </a:lnTo>
                <a:lnTo>
                  <a:pt x="149" y="2"/>
                </a:lnTo>
                <a:lnTo>
                  <a:pt x="159" y="2"/>
                </a:lnTo>
                <a:lnTo>
                  <a:pt x="169" y="2"/>
                </a:lnTo>
                <a:lnTo>
                  <a:pt x="178" y="4"/>
                </a:lnTo>
                <a:lnTo>
                  <a:pt x="188" y="7"/>
                </a:lnTo>
                <a:lnTo>
                  <a:pt x="195" y="11"/>
                </a:lnTo>
                <a:lnTo>
                  <a:pt x="203" y="15"/>
                </a:lnTo>
                <a:lnTo>
                  <a:pt x="211" y="19"/>
                </a:lnTo>
                <a:lnTo>
                  <a:pt x="216" y="23"/>
                </a:lnTo>
                <a:lnTo>
                  <a:pt x="222" y="25"/>
                </a:lnTo>
                <a:lnTo>
                  <a:pt x="226" y="29"/>
                </a:lnTo>
                <a:lnTo>
                  <a:pt x="228" y="32"/>
                </a:lnTo>
                <a:lnTo>
                  <a:pt x="232" y="42"/>
                </a:lnTo>
                <a:lnTo>
                  <a:pt x="232" y="52"/>
                </a:lnTo>
                <a:lnTo>
                  <a:pt x="232" y="61"/>
                </a:lnTo>
                <a:lnTo>
                  <a:pt x="228" y="71"/>
                </a:lnTo>
                <a:lnTo>
                  <a:pt x="226" y="76"/>
                </a:lnTo>
                <a:lnTo>
                  <a:pt x="224" y="84"/>
                </a:lnTo>
                <a:lnTo>
                  <a:pt x="222" y="92"/>
                </a:lnTo>
                <a:lnTo>
                  <a:pt x="222" y="99"/>
                </a:lnTo>
                <a:lnTo>
                  <a:pt x="220" y="109"/>
                </a:lnTo>
                <a:lnTo>
                  <a:pt x="218" y="121"/>
                </a:lnTo>
                <a:lnTo>
                  <a:pt x="218" y="134"/>
                </a:lnTo>
                <a:lnTo>
                  <a:pt x="218" y="147"/>
                </a:lnTo>
                <a:lnTo>
                  <a:pt x="216" y="163"/>
                </a:lnTo>
                <a:lnTo>
                  <a:pt x="216" y="180"/>
                </a:lnTo>
                <a:lnTo>
                  <a:pt x="215" y="199"/>
                </a:lnTo>
                <a:lnTo>
                  <a:pt x="215" y="218"/>
                </a:lnTo>
                <a:lnTo>
                  <a:pt x="215" y="239"/>
                </a:lnTo>
                <a:lnTo>
                  <a:pt x="215" y="260"/>
                </a:lnTo>
                <a:lnTo>
                  <a:pt x="213" y="283"/>
                </a:lnTo>
                <a:lnTo>
                  <a:pt x="213" y="308"/>
                </a:lnTo>
                <a:lnTo>
                  <a:pt x="213" y="322"/>
                </a:lnTo>
                <a:lnTo>
                  <a:pt x="213" y="337"/>
                </a:lnTo>
                <a:lnTo>
                  <a:pt x="211" y="354"/>
                </a:lnTo>
                <a:lnTo>
                  <a:pt x="211" y="372"/>
                </a:lnTo>
                <a:lnTo>
                  <a:pt x="211" y="389"/>
                </a:lnTo>
                <a:lnTo>
                  <a:pt x="211" y="410"/>
                </a:lnTo>
                <a:lnTo>
                  <a:pt x="211" y="431"/>
                </a:lnTo>
                <a:lnTo>
                  <a:pt x="211" y="452"/>
                </a:lnTo>
                <a:lnTo>
                  <a:pt x="211" y="475"/>
                </a:lnTo>
                <a:lnTo>
                  <a:pt x="211" y="500"/>
                </a:lnTo>
                <a:lnTo>
                  <a:pt x="211" y="527"/>
                </a:lnTo>
                <a:lnTo>
                  <a:pt x="211" y="554"/>
                </a:lnTo>
                <a:lnTo>
                  <a:pt x="211" y="582"/>
                </a:lnTo>
                <a:lnTo>
                  <a:pt x="213" y="611"/>
                </a:lnTo>
                <a:lnTo>
                  <a:pt x="213" y="642"/>
                </a:lnTo>
                <a:lnTo>
                  <a:pt x="213" y="674"/>
                </a:lnTo>
                <a:lnTo>
                  <a:pt x="215" y="707"/>
                </a:lnTo>
                <a:lnTo>
                  <a:pt x="215" y="738"/>
                </a:lnTo>
                <a:lnTo>
                  <a:pt x="215" y="766"/>
                </a:lnTo>
                <a:lnTo>
                  <a:pt x="215" y="793"/>
                </a:lnTo>
                <a:lnTo>
                  <a:pt x="215" y="818"/>
                </a:lnTo>
                <a:lnTo>
                  <a:pt x="213" y="843"/>
                </a:lnTo>
                <a:lnTo>
                  <a:pt x="213" y="864"/>
                </a:lnTo>
                <a:lnTo>
                  <a:pt x="211" y="885"/>
                </a:lnTo>
                <a:lnTo>
                  <a:pt x="209" y="904"/>
                </a:lnTo>
                <a:lnTo>
                  <a:pt x="207" y="922"/>
                </a:lnTo>
                <a:lnTo>
                  <a:pt x="205" y="937"/>
                </a:lnTo>
                <a:lnTo>
                  <a:pt x="203" y="950"/>
                </a:lnTo>
                <a:lnTo>
                  <a:pt x="201" y="962"/>
                </a:lnTo>
                <a:lnTo>
                  <a:pt x="199" y="973"/>
                </a:lnTo>
                <a:lnTo>
                  <a:pt x="197" y="981"/>
                </a:lnTo>
                <a:lnTo>
                  <a:pt x="193" y="989"/>
                </a:lnTo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3" name="Freeform 17"/>
          <p:cNvSpPr/>
          <p:nvPr/>
        </p:nvSpPr>
        <p:spPr>
          <a:xfrm>
            <a:off x="7451640" y="4492800"/>
            <a:ext cx="505080" cy="520560"/>
          </a:xfrm>
          <a:custGeom>
            <a:avLst/>
            <a:gdLst/>
            <a:ahLst/>
            <a:rect l="l" t="t" r="r" b="b"/>
            <a:pathLst>
              <a:path w="337" h="328">
                <a:moveTo>
                  <a:pt x="337" y="67"/>
                </a:moveTo>
                <a:lnTo>
                  <a:pt x="337" y="69"/>
                </a:lnTo>
                <a:lnTo>
                  <a:pt x="337" y="71"/>
                </a:lnTo>
                <a:lnTo>
                  <a:pt x="335" y="75"/>
                </a:lnTo>
                <a:lnTo>
                  <a:pt x="333" y="77"/>
                </a:lnTo>
                <a:lnTo>
                  <a:pt x="331" y="81"/>
                </a:lnTo>
                <a:lnTo>
                  <a:pt x="330" y="84"/>
                </a:lnTo>
                <a:lnTo>
                  <a:pt x="326" y="88"/>
                </a:lnTo>
                <a:lnTo>
                  <a:pt x="322" y="92"/>
                </a:lnTo>
                <a:lnTo>
                  <a:pt x="318" y="98"/>
                </a:lnTo>
                <a:lnTo>
                  <a:pt x="312" y="104"/>
                </a:lnTo>
                <a:lnTo>
                  <a:pt x="308" y="109"/>
                </a:lnTo>
                <a:lnTo>
                  <a:pt x="301" y="115"/>
                </a:lnTo>
                <a:lnTo>
                  <a:pt x="295" y="121"/>
                </a:lnTo>
                <a:lnTo>
                  <a:pt x="289" y="128"/>
                </a:lnTo>
                <a:lnTo>
                  <a:pt x="282" y="136"/>
                </a:lnTo>
                <a:lnTo>
                  <a:pt x="272" y="144"/>
                </a:lnTo>
                <a:lnTo>
                  <a:pt x="257" y="159"/>
                </a:lnTo>
                <a:lnTo>
                  <a:pt x="240" y="174"/>
                </a:lnTo>
                <a:lnTo>
                  <a:pt x="220" y="192"/>
                </a:lnTo>
                <a:lnTo>
                  <a:pt x="203" y="207"/>
                </a:lnTo>
                <a:lnTo>
                  <a:pt x="184" y="220"/>
                </a:lnTo>
                <a:lnTo>
                  <a:pt x="165" y="236"/>
                </a:lnTo>
                <a:lnTo>
                  <a:pt x="144" y="249"/>
                </a:lnTo>
                <a:lnTo>
                  <a:pt x="125" y="263"/>
                </a:lnTo>
                <a:lnTo>
                  <a:pt x="106" y="276"/>
                </a:lnTo>
                <a:lnTo>
                  <a:pt x="86" y="288"/>
                </a:lnTo>
                <a:lnTo>
                  <a:pt x="69" y="299"/>
                </a:lnTo>
                <a:lnTo>
                  <a:pt x="56" y="309"/>
                </a:lnTo>
                <a:lnTo>
                  <a:pt x="48" y="312"/>
                </a:lnTo>
                <a:lnTo>
                  <a:pt x="42" y="316"/>
                </a:lnTo>
                <a:lnTo>
                  <a:pt x="37" y="318"/>
                </a:lnTo>
                <a:lnTo>
                  <a:pt x="31" y="322"/>
                </a:lnTo>
                <a:lnTo>
                  <a:pt x="25" y="324"/>
                </a:lnTo>
                <a:lnTo>
                  <a:pt x="21" y="326"/>
                </a:lnTo>
                <a:lnTo>
                  <a:pt x="17" y="328"/>
                </a:lnTo>
                <a:lnTo>
                  <a:pt x="16" y="328"/>
                </a:lnTo>
                <a:lnTo>
                  <a:pt x="0" y="305"/>
                </a:lnTo>
                <a:lnTo>
                  <a:pt x="19" y="289"/>
                </a:lnTo>
                <a:lnTo>
                  <a:pt x="39" y="274"/>
                </a:lnTo>
                <a:lnTo>
                  <a:pt x="58" y="259"/>
                </a:lnTo>
                <a:lnTo>
                  <a:pt x="75" y="243"/>
                </a:lnTo>
                <a:lnTo>
                  <a:pt x="92" y="228"/>
                </a:lnTo>
                <a:lnTo>
                  <a:pt x="109" y="213"/>
                </a:lnTo>
                <a:lnTo>
                  <a:pt x="125" y="197"/>
                </a:lnTo>
                <a:lnTo>
                  <a:pt x="140" y="182"/>
                </a:lnTo>
                <a:lnTo>
                  <a:pt x="151" y="167"/>
                </a:lnTo>
                <a:lnTo>
                  <a:pt x="165" y="153"/>
                </a:lnTo>
                <a:lnTo>
                  <a:pt x="176" y="140"/>
                </a:lnTo>
                <a:lnTo>
                  <a:pt x="186" y="128"/>
                </a:lnTo>
                <a:lnTo>
                  <a:pt x="197" y="115"/>
                </a:lnTo>
                <a:lnTo>
                  <a:pt x="207" y="104"/>
                </a:lnTo>
                <a:lnTo>
                  <a:pt x="217" y="92"/>
                </a:lnTo>
                <a:lnTo>
                  <a:pt x="224" y="81"/>
                </a:lnTo>
                <a:lnTo>
                  <a:pt x="228" y="73"/>
                </a:lnTo>
                <a:lnTo>
                  <a:pt x="232" y="65"/>
                </a:lnTo>
                <a:lnTo>
                  <a:pt x="236" y="58"/>
                </a:lnTo>
                <a:lnTo>
                  <a:pt x="238" y="50"/>
                </a:lnTo>
                <a:lnTo>
                  <a:pt x="240" y="42"/>
                </a:lnTo>
                <a:lnTo>
                  <a:pt x="240" y="36"/>
                </a:lnTo>
                <a:lnTo>
                  <a:pt x="240" y="31"/>
                </a:lnTo>
                <a:lnTo>
                  <a:pt x="238" y="25"/>
                </a:lnTo>
                <a:lnTo>
                  <a:pt x="236" y="19"/>
                </a:lnTo>
                <a:lnTo>
                  <a:pt x="232" y="15"/>
                </a:lnTo>
                <a:lnTo>
                  <a:pt x="232" y="12"/>
                </a:lnTo>
                <a:lnTo>
                  <a:pt x="230" y="10"/>
                </a:lnTo>
                <a:lnTo>
                  <a:pt x="232" y="6"/>
                </a:lnTo>
                <a:lnTo>
                  <a:pt x="232" y="4"/>
                </a:lnTo>
                <a:lnTo>
                  <a:pt x="236" y="2"/>
                </a:lnTo>
                <a:lnTo>
                  <a:pt x="238" y="0"/>
                </a:lnTo>
                <a:lnTo>
                  <a:pt x="243" y="0"/>
                </a:lnTo>
                <a:lnTo>
                  <a:pt x="247" y="0"/>
                </a:lnTo>
                <a:lnTo>
                  <a:pt x="253" y="0"/>
                </a:lnTo>
                <a:lnTo>
                  <a:pt x="261" y="2"/>
                </a:lnTo>
                <a:lnTo>
                  <a:pt x="268" y="6"/>
                </a:lnTo>
                <a:lnTo>
                  <a:pt x="278" y="10"/>
                </a:lnTo>
                <a:lnTo>
                  <a:pt x="287" y="15"/>
                </a:lnTo>
                <a:lnTo>
                  <a:pt x="297" y="19"/>
                </a:lnTo>
                <a:lnTo>
                  <a:pt x="307" y="27"/>
                </a:lnTo>
                <a:lnTo>
                  <a:pt x="314" y="33"/>
                </a:lnTo>
                <a:lnTo>
                  <a:pt x="322" y="40"/>
                </a:lnTo>
                <a:lnTo>
                  <a:pt x="328" y="46"/>
                </a:lnTo>
                <a:lnTo>
                  <a:pt x="331" y="52"/>
                </a:lnTo>
                <a:lnTo>
                  <a:pt x="335" y="56"/>
                </a:lnTo>
                <a:lnTo>
                  <a:pt x="337" y="61"/>
                </a:lnTo>
                <a:lnTo>
                  <a:pt x="337" y="67"/>
                </a:lnTo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4" name="Freeform 18"/>
          <p:cNvSpPr/>
          <p:nvPr/>
        </p:nvSpPr>
        <p:spPr>
          <a:xfrm>
            <a:off x="7380360" y="4870440"/>
            <a:ext cx="1008000" cy="646200"/>
          </a:xfrm>
          <a:custGeom>
            <a:avLst/>
            <a:gdLst/>
            <a:ahLst/>
            <a:rect l="l" t="t" r="r" b="b"/>
            <a:pathLst>
              <a:path w="661" h="435">
                <a:moveTo>
                  <a:pt x="542" y="362"/>
                </a:moveTo>
                <a:lnTo>
                  <a:pt x="555" y="366"/>
                </a:lnTo>
                <a:lnTo>
                  <a:pt x="569" y="369"/>
                </a:lnTo>
                <a:lnTo>
                  <a:pt x="582" y="373"/>
                </a:lnTo>
                <a:lnTo>
                  <a:pt x="594" y="377"/>
                </a:lnTo>
                <a:lnTo>
                  <a:pt x="603" y="381"/>
                </a:lnTo>
                <a:lnTo>
                  <a:pt x="615" y="385"/>
                </a:lnTo>
                <a:lnTo>
                  <a:pt x="622" y="387"/>
                </a:lnTo>
                <a:lnTo>
                  <a:pt x="630" y="390"/>
                </a:lnTo>
                <a:lnTo>
                  <a:pt x="638" y="392"/>
                </a:lnTo>
                <a:lnTo>
                  <a:pt x="643" y="394"/>
                </a:lnTo>
                <a:lnTo>
                  <a:pt x="649" y="396"/>
                </a:lnTo>
                <a:lnTo>
                  <a:pt x="653" y="398"/>
                </a:lnTo>
                <a:lnTo>
                  <a:pt x="657" y="400"/>
                </a:lnTo>
                <a:lnTo>
                  <a:pt x="659" y="402"/>
                </a:lnTo>
                <a:lnTo>
                  <a:pt x="661" y="404"/>
                </a:lnTo>
                <a:lnTo>
                  <a:pt x="659" y="406"/>
                </a:lnTo>
                <a:lnTo>
                  <a:pt x="657" y="406"/>
                </a:lnTo>
                <a:lnTo>
                  <a:pt x="655" y="408"/>
                </a:lnTo>
                <a:lnTo>
                  <a:pt x="651" y="408"/>
                </a:lnTo>
                <a:lnTo>
                  <a:pt x="647" y="410"/>
                </a:lnTo>
                <a:lnTo>
                  <a:pt x="642" y="412"/>
                </a:lnTo>
                <a:lnTo>
                  <a:pt x="636" y="412"/>
                </a:lnTo>
                <a:lnTo>
                  <a:pt x="630" y="413"/>
                </a:lnTo>
                <a:lnTo>
                  <a:pt x="622" y="415"/>
                </a:lnTo>
                <a:lnTo>
                  <a:pt x="615" y="417"/>
                </a:lnTo>
                <a:lnTo>
                  <a:pt x="605" y="417"/>
                </a:lnTo>
                <a:lnTo>
                  <a:pt x="596" y="419"/>
                </a:lnTo>
                <a:lnTo>
                  <a:pt x="584" y="421"/>
                </a:lnTo>
                <a:lnTo>
                  <a:pt x="573" y="421"/>
                </a:lnTo>
                <a:lnTo>
                  <a:pt x="559" y="423"/>
                </a:lnTo>
                <a:lnTo>
                  <a:pt x="546" y="423"/>
                </a:lnTo>
                <a:lnTo>
                  <a:pt x="532" y="425"/>
                </a:lnTo>
                <a:lnTo>
                  <a:pt x="519" y="427"/>
                </a:lnTo>
                <a:lnTo>
                  <a:pt x="508" y="429"/>
                </a:lnTo>
                <a:lnTo>
                  <a:pt x="496" y="429"/>
                </a:lnTo>
                <a:lnTo>
                  <a:pt x="485" y="431"/>
                </a:lnTo>
                <a:lnTo>
                  <a:pt x="473" y="433"/>
                </a:lnTo>
                <a:lnTo>
                  <a:pt x="463" y="433"/>
                </a:lnTo>
                <a:lnTo>
                  <a:pt x="454" y="433"/>
                </a:lnTo>
                <a:lnTo>
                  <a:pt x="444" y="435"/>
                </a:lnTo>
                <a:lnTo>
                  <a:pt x="437" y="435"/>
                </a:lnTo>
                <a:lnTo>
                  <a:pt x="429" y="435"/>
                </a:lnTo>
                <a:lnTo>
                  <a:pt x="421" y="435"/>
                </a:lnTo>
                <a:lnTo>
                  <a:pt x="414" y="435"/>
                </a:lnTo>
                <a:lnTo>
                  <a:pt x="408" y="435"/>
                </a:lnTo>
                <a:lnTo>
                  <a:pt x="402" y="435"/>
                </a:lnTo>
                <a:lnTo>
                  <a:pt x="398" y="433"/>
                </a:lnTo>
                <a:lnTo>
                  <a:pt x="395" y="433"/>
                </a:lnTo>
                <a:lnTo>
                  <a:pt x="391" y="431"/>
                </a:lnTo>
                <a:lnTo>
                  <a:pt x="387" y="429"/>
                </a:lnTo>
                <a:lnTo>
                  <a:pt x="383" y="427"/>
                </a:lnTo>
                <a:lnTo>
                  <a:pt x="377" y="423"/>
                </a:lnTo>
                <a:lnTo>
                  <a:pt x="372" y="419"/>
                </a:lnTo>
                <a:lnTo>
                  <a:pt x="366" y="415"/>
                </a:lnTo>
                <a:lnTo>
                  <a:pt x="358" y="410"/>
                </a:lnTo>
                <a:lnTo>
                  <a:pt x="351" y="402"/>
                </a:lnTo>
                <a:lnTo>
                  <a:pt x="343" y="396"/>
                </a:lnTo>
                <a:lnTo>
                  <a:pt x="333" y="389"/>
                </a:lnTo>
                <a:lnTo>
                  <a:pt x="324" y="379"/>
                </a:lnTo>
                <a:lnTo>
                  <a:pt x="312" y="369"/>
                </a:lnTo>
                <a:lnTo>
                  <a:pt x="303" y="360"/>
                </a:lnTo>
                <a:lnTo>
                  <a:pt x="291" y="348"/>
                </a:lnTo>
                <a:lnTo>
                  <a:pt x="278" y="337"/>
                </a:lnTo>
                <a:lnTo>
                  <a:pt x="266" y="325"/>
                </a:lnTo>
                <a:lnTo>
                  <a:pt x="253" y="312"/>
                </a:lnTo>
                <a:lnTo>
                  <a:pt x="238" y="298"/>
                </a:lnTo>
                <a:lnTo>
                  <a:pt x="224" y="283"/>
                </a:lnTo>
                <a:lnTo>
                  <a:pt x="209" y="268"/>
                </a:lnTo>
                <a:lnTo>
                  <a:pt x="192" y="252"/>
                </a:lnTo>
                <a:lnTo>
                  <a:pt x="176" y="235"/>
                </a:lnTo>
                <a:lnTo>
                  <a:pt x="159" y="218"/>
                </a:lnTo>
                <a:lnTo>
                  <a:pt x="142" y="199"/>
                </a:lnTo>
                <a:lnTo>
                  <a:pt x="123" y="180"/>
                </a:lnTo>
                <a:lnTo>
                  <a:pt x="104" y="161"/>
                </a:lnTo>
                <a:lnTo>
                  <a:pt x="84" y="139"/>
                </a:lnTo>
                <a:lnTo>
                  <a:pt x="65" y="116"/>
                </a:lnTo>
                <a:lnTo>
                  <a:pt x="44" y="95"/>
                </a:lnTo>
                <a:lnTo>
                  <a:pt x="23" y="72"/>
                </a:lnTo>
                <a:lnTo>
                  <a:pt x="0" y="47"/>
                </a:lnTo>
                <a:lnTo>
                  <a:pt x="0" y="0"/>
                </a:lnTo>
                <a:lnTo>
                  <a:pt x="27" y="26"/>
                </a:lnTo>
                <a:lnTo>
                  <a:pt x="54" y="49"/>
                </a:lnTo>
                <a:lnTo>
                  <a:pt x="81" y="72"/>
                </a:lnTo>
                <a:lnTo>
                  <a:pt x="104" y="95"/>
                </a:lnTo>
                <a:lnTo>
                  <a:pt x="128" y="116"/>
                </a:lnTo>
                <a:lnTo>
                  <a:pt x="151" y="136"/>
                </a:lnTo>
                <a:lnTo>
                  <a:pt x="172" y="155"/>
                </a:lnTo>
                <a:lnTo>
                  <a:pt x="194" y="172"/>
                </a:lnTo>
                <a:lnTo>
                  <a:pt x="213" y="187"/>
                </a:lnTo>
                <a:lnTo>
                  <a:pt x="232" y="203"/>
                </a:lnTo>
                <a:lnTo>
                  <a:pt x="249" y="216"/>
                </a:lnTo>
                <a:lnTo>
                  <a:pt x="266" y="228"/>
                </a:lnTo>
                <a:lnTo>
                  <a:pt x="282" y="239"/>
                </a:lnTo>
                <a:lnTo>
                  <a:pt x="297" y="251"/>
                </a:lnTo>
                <a:lnTo>
                  <a:pt x="310" y="258"/>
                </a:lnTo>
                <a:lnTo>
                  <a:pt x="324" y="266"/>
                </a:lnTo>
                <a:lnTo>
                  <a:pt x="349" y="281"/>
                </a:lnTo>
                <a:lnTo>
                  <a:pt x="373" y="297"/>
                </a:lnTo>
                <a:lnTo>
                  <a:pt x="400" y="310"/>
                </a:lnTo>
                <a:lnTo>
                  <a:pt x="427" y="321"/>
                </a:lnTo>
                <a:lnTo>
                  <a:pt x="454" y="333"/>
                </a:lnTo>
                <a:lnTo>
                  <a:pt x="483" y="343"/>
                </a:lnTo>
                <a:lnTo>
                  <a:pt x="511" y="352"/>
                </a:lnTo>
                <a:lnTo>
                  <a:pt x="542" y="36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5" restart="whenNotActive" nodeType="interactiveSeq" fill="hold">
                <p:stCondLst>
                  <p:cond evt="onClick">
                    <p:tgtEl>
                      <p:spTgt spid="670"/>
                    </p:tgtEl>
                  </p:cond>
                </p:stCondLst>
                <p:childTnLst>
                  <p:par>
                    <p:cTn id="286" fill="hold">
                      <p:stCondLst>
                        <p:cond evt="onClick">
                          <p:tgtEl>
                            <p:spTgt spid="670"/>
                          </p:tgtEl>
                        </p:cond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000"/>
                            </p:stCondLst>
                            <p:childTnLst>
                              <p:par>
                                <p:cTn id="296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2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5" name="Group 2"/>
          <p:cNvGrpSpPr/>
          <p:nvPr/>
        </p:nvGrpSpPr>
        <p:grpSpPr>
          <a:xfrm>
            <a:off x="1219320" y="1066680"/>
            <a:ext cx="7924680" cy="5791320"/>
            <a:chOff x="1219320" y="1066680"/>
            <a:chExt cx="7924680" cy="5791320"/>
          </a:xfrm>
        </p:grpSpPr>
        <p:pic>
          <p:nvPicPr>
            <p:cNvPr id="676" name="Picture 3" descr="b028"/>
            <p:cNvPicPr/>
            <p:nvPr/>
          </p:nvPicPr>
          <p:blipFill>
            <a:blip r:embed="rId1"/>
            <a:stretch/>
          </p:blipFill>
          <p:spPr>
            <a:xfrm>
              <a:off x="1219320" y="1066680"/>
              <a:ext cx="7924680" cy="579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7" name="Picture 4" descr=""/>
            <p:cNvPicPr/>
            <p:nvPr/>
          </p:nvPicPr>
          <p:blipFill>
            <a:blip r:embed="rId2"/>
            <a:stretch/>
          </p:blipFill>
          <p:spPr>
            <a:xfrm>
              <a:off x="3451320" y="2131200"/>
              <a:ext cx="3958560" cy="39589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5" descr="图片1"/>
          <p:cNvPicPr/>
          <p:nvPr/>
        </p:nvPicPr>
        <p:blipFill>
          <a:blip r:embed="rId1"/>
          <a:stretch/>
        </p:blipFill>
        <p:spPr>
          <a:xfrm>
            <a:off x="1050840" y="789120"/>
            <a:ext cx="8093160" cy="6068880"/>
          </a:xfrm>
          <a:prstGeom prst="rect">
            <a:avLst/>
          </a:prstGeom>
          <a:ln w="0">
            <a:noFill/>
          </a:ln>
        </p:spPr>
      </p:pic>
      <p:sp>
        <p:nvSpPr>
          <p:cNvPr id="529" name="Text Box 2"/>
          <p:cNvSpPr/>
          <p:nvPr/>
        </p:nvSpPr>
        <p:spPr>
          <a:xfrm>
            <a:off x="1185840" y="1414440"/>
            <a:ext cx="7634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rī</a:t>
            </a:r>
            <a:r>
              <a:rPr b="0" i="1" lang="en-US" sz="6000" spc="-1" strike="noStrike" u="sng">
                <a:solidFill>
                  <a:srgbClr val="000000"/>
                </a:solidFill>
                <a:uFillTx/>
                <a:latin typeface="Arial"/>
                <a:ea typeface="方正姚体"/>
              </a:rPr>
              <a:t>      r</a:t>
            </a:r>
            <a:r>
              <a:rPr b="0" i="1" lang="en-US" sz="6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í</a:t>
            </a:r>
            <a:r>
              <a:rPr b="0" i="1" lang="en-US" sz="6000" spc="-1" strike="noStrike" u="sng">
                <a:solidFill>
                  <a:srgbClr val="000000"/>
                </a:solidFill>
                <a:uFillTx/>
                <a:latin typeface="Arial"/>
                <a:ea typeface="方正姚体"/>
              </a:rPr>
              <a:t>        r</a:t>
            </a:r>
            <a:r>
              <a:rPr b="0" i="1" lang="en-US" sz="6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ĭ</a:t>
            </a:r>
            <a:r>
              <a:rPr b="0" i="1" lang="en-US" sz="6000" spc="-1" strike="noStrike" u="sng">
                <a:solidFill>
                  <a:srgbClr val="000000"/>
                </a:solidFill>
                <a:uFillTx/>
                <a:latin typeface="Arial"/>
                <a:ea typeface="方正姚体"/>
              </a:rPr>
              <a:t>       r</a:t>
            </a:r>
            <a:r>
              <a:rPr b="0" i="1" lang="en-US" sz="6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ì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0" name="Text Box 3"/>
          <p:cNvSpPr/>
          <p:nvPr/>
        </p:nvSpPr>
        <p:spPr>
          <a:xfrm>
            <a:off x="1116000" y="2997360"/>
            <a:ext cx="763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yue     ui      sh     h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2"/>
          <p:cNvGrpSpPr/>
          <p:nvPr/>
        </p:nvGrpSpPr>
        <p:grpSpPr>
          <a:xfrm>
            <a:off x="2057400" y="1757520"/>
            <a:ext cx="7086600" cy="5100480"/>
            <a:chOff x="2057400" y="1757520"/>
            <a:chExt cx="7086600" cy="5100480"/>
          </a:xfrm>
        </p:grpSpPr>
        <p:pic>
          <p:nvPicPr>
            <p:cNvPr id="679" name="Picture 3" descr="b028"/>
            <p:cNvPicPr/>
            <p:nvPr/>
          </p:nvPicPr>
          <p:blipFill>
            <a:blip r:embed="rId1"/>
            <a:stretch/>
          </p:blipFill>
          <p:spPr>
            <a:xfrm>
              <a:off x="2057400" y="1757520"/>
              <a:ext cx="7086600" cy="510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" descr=""/>
            <p:cNvPicPr/>
            <p:nvPr/>
          </p:nvPicPr>
          <p:blipFill>
            <a:blip r:embed="rId2"/>
            <a:stretch/>
          </p:blipFill>
          <p:spPr>
            <a:xfrm>
              <a:off x="4053240" y="2691360"/>
              <a:ext cx="3533760" cy="34902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Picture 7" descr=""/>
          <p:cNvPicPr/>
          <p:nvPr/>
        </p:nvPicPr>
        <p:blipFill>
          <a:blip r:embed="rId1">
            <a:lum contrast="12000"/>
          </a:blip>
          <a:srcRect l="6377" t="4537" r="8745" b="4537"/>
          <a:stretch/>
        </p:blipFill>
        <p:spPr>
          <a:xfrm>
            <a:off x="539640" y="2997360"/>
            <a:ext cx="3500640" cy="3500280"/>
          </a:xfrm>
          <a:prstGeom prst="rect">
            <a:avLst/>
          </a:prstGeom>
          <a:ln w="0">
            <a:noFill/>
          </a:ln>
        </p:spPr>
      </p:pic>
      <p:pic>
        <p:nvPicPr>
          <p:cNvPr id="682" name="图片 5" descr=""/>
          <p:cNvPicPr/>
          <p:nvPr/>
        </p:nvPicPr>
        <p:blipFill>
          <a:blip r:embed="rId2"/>
          <a:stretch/>
        </p:blipFill>
        <p:spPr>
          <a:xfrm>
            <a:off x="4500720" y="3860640"/>
            <a:ext cx="1143000" cy="1670040"/>
          </a:xfrm>
          <a:prstGeom prst="rect">
            <a:avLst/>
          </a:prstGeom>
          <a:ln w="0">
            <a:noFill/>
          </a:ln>
        </p:spPr>
      </p:pic>
      <p:sp>
        <p:nvSpPr>
          <p:cNvPr id="683" name="TextBox 7"/>
          <p:cNvSpPr/>
          <p:nvPr/>
        </p:nvSpPr>
        <p:spPr>
          <a:xfrm>
            <a:off x="6877080" y="2997360"/>
            <a:ext cx="14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方正姚体"/>
                <a:ea typeface="方正姚体"/>
              </a:rPr>
              <a:t>shuǐ 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方正姚体"/>
                <a:ea typeface="方正姚体"/>
              </a:rPr>
              <a:t> 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684" name="Group 5"/>
          <p:cNvGrpSpPr/>
          <p:nvPr/>
        </p:nvGrpSpPr>
        <p:grpSpPr>
          <a:xfrm>
            <a:off x="6156360" y="3789360"/>
            <a:ext cx="2448000" cy="2448000"/>
            <a:chOff x="6156360" y="3789360"/>
            <a:chExt cx="2448000" cy="2448000"/>
          </a:xfrm>
        </p:grpSpPr>
        <p:grpSp>
          <p:nvGrpSpPr>
            <p:cNvPr id="685" name="Group 7"/>
            <p:cNvGrpSpPr/>
            <p:nvPr/>
          </p:nvGrpSpPr>
          <p:grpSpPr>
            <a:xfrm>
              <a:off x="6156360" y="3789360"/>
              <a:ext cx="2448000" cy="2448000"/>
              <a:chOff x="6156360" y="3789360"/>
              <a:chExt cx="2448000" cy="2448000"/>
            </a:xfrm>
          </p:grpSpPr>
          <p:sp>
            <p:nvSpPr>
              <p:cNvPr id="686" name="Rectangle 4"/>
              <p:cNvSpPr/>
              <p:nvPr/>
            </p:nvSpPr>
            <p:spPr>
              <a:xfrm>
                <a:off x="6156360" y="3789360"/>
                <a:ext cx="2448000" cy="2448000"/>
              </a:xfrm>
              <a:prstGeom prst="rect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87" name="Line 5"/>
              <p:cNvSpPr/>
              <p:nvPr/>
            </p:nvSpPr>
            <p:spPr>
              <a:xfrm>
                <a:off x="6156360" y="5012640"/>
                <a:ext cx="24109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88" name="Line 6"/>
              <p:cNvSpPr/>
              <p:nvPr/>
            </p:nvSpPr>
            <p:spPr>
              <a:xfrm>
                <a:off x="7380360" y="3789360"/>
                <a:ext cx="0" cy="2448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689" name="Text Box 15"/>
            <p:cNvSpPr/>
            <p:nvPr/>
          </p:nvSpPr>
          <p:spPr>
            <a:xfrm>
              <a:off x="6372360" y="3789360"/>
              <a:ext cx="191592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5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水 </a:t>
              </a:r>
              <a:endParaRPr b="0" i="1" lang="en-US" sz="15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690" name="Oval 11"/>
          <p:cNvSpPr/>
          <p:nvPr/>
        </p:nvSpPr>
        <p:spPr>
          <a:xfrm>
            <a:off x="8028000" y="6308640"/>
            <a:ext cx="576360" cy="287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91" name="Freeform 12"/>
          <p:cNvSpPr/>
          <p:nvPr/>
        </p:nvSpPr>
        <p:spPr>
          <a:xfrm>
            <a:off x="6588000" y="4797360"/>
            <a:ext cx="648000" cy="909720"/>
          </a:xfrm>
          <a:custGeom>
            <a:avLst/>
            <a:gdLst/>
            <a:ahLst/>
            <a:rect l="l" t="t" r="r" b="b"/>
            <a:pathLst>
              <a:path w="421" h="573">
                <a:moveTo>
                  <a:pt x="78" y="538"/>
                </a:moveTo>
                <a:lnTo>
                  <a:pt x="63" y="548"/>
                </a:lnTo>
                <a:lnTo>
                  <a:pt x="49" y="556"/>
                </a:lnTo>
                <a:lnTo>
                  <a:pt x="36" y="563"/>
                </a:lnTo>
                <a:lnTo>
                  <a:pt x="25" y="567"/>
                </a:lnTo>
                <a:lnTo>
                  <a:pt x="19" y="569"/>
                </a:lnTo>
                <a:lnTo>
                  <a:pt x="15" y="571"/>
                </a:lnTo>
                <a:lnTo>
                  <a:pt x="11" y="571"/>
                </a:lnTo>
                <a:lnTo>
                  <a:pt x="7" y="573"/>
                </a:lnTo>
                <a:lnTo>
                  <a:pt x="5" y="573"/>
                </a:lnTo>
                <a:lnTo>
                  <a:pt x="3" y="573"/>
                </a:lnTo>
                <a:lnTo>
                  <a:pt x="2" y="573"/>
                </a:lnTo>
                <a:lnTo>
                  <a:pt x="0" y="571"/>
                </a:lnTo>
                <a:lnTo>
                  <a:pt x="0" y="569"/>
                </a:lnTo>
                <a:lnTo>
                  <a:pt x="0" y="567"/>
                </a:lnTo>
                <a:lnTo>
                  <a:pt x="0" y="565"/>
                </a:lnTo>
                <a:lnTo>
                  <a:pt x="2" y="561"/>
                </a:lnTo>
                <a:lnTo>
                  <a:pt x="3" y="557"/>
                </a:lnTo>
                <a:lnTo>
                  <a:pt x="5" y="556"/>
                </a:lnTo>
                <a:lnTo>
                  <a:pt x="7" y="552"/>
                </a:lnTo>
                <a:lnTo>
                  <a:pt x="11" y="548"/>
                </a:lnTo>
                <a:lnTo>
                  <a:pt x="15" y="542"/>
                </a:lnTo>
                <a:lnTo>
                  <a:pt x="19" y="538"/>
                </a:lnTo>
                <a:lnTo>
                  <a:pt x="25" y="533"/>
                </a:lnTo>
                <a:lnTo>
                  <a:pt x="30" y="527"/>
                </a:lnTo>
                <a:lnTo>
                  <a:pt x="36" y="521"/>
                </a:lnTo>
                <a:lnTo>
                  <a:pt x="42" y="515"/>
                </a:lnTo>
                <a:lnTo>
                  <a:pt x="49" y="510"/>
                </a:lnTo>
                <a:lnTo>
                  <a:pt x="65" y="496"/>
                </a:lnTo>
                <a:lnTo>
                  <a:pt x="78" y="481"/>
                </a:lnTo>
                <a:lnTo>
                  <a:pt x="93" y="465"/>
                </a:lnTo>
                <a:lnTo>
                  <a:pt x="109" y="448"/>
                </a:lnTo>
                <a:lnTo>
                  <a:pt x="126" y="431"/>
                </a:lnTo>
                <a:lnTo>
                  <a:pt x="141" y="410"/>
                </a:lnTo>
                <a:lnTo>
                  <a:pt x="157" y="389"/>
                </a:lnTo>
                <a:lnTo>
                  <a:pt x="174" y="368"/>
                </a:lnTo>
                <a:lnTo>
                  <a:pt x="189" y="345"/>
                </a:lnTo>
                <a:lnTo>
                  <a:pt x="205" y="324"/>
                </a:lnTo>
                <a:lnTo>
                  <a:pt x="218" y="301"/>
                </a:lnTo>
                <a:lnTo>
                  <a:pt x="229" y="278"/>
                </a:lnTo>
                <a:lnTo>
                  <a:pt x="243" y="255"/>
                </a:lnTo>
                <a:lnTo>
                  <a:pt x="252" y="232"/>
                </a:lnTo>
                <a:lnTo>
                  <a:pt x="264" y="209"/>
                </a:lnTo>
                <a:lnTo>
                  <a:pt x="273" y="186"/>
                </a:lnTo>
                <a:lnTo>
                  <a:pt x="277" y="174"/>
                </a:lnTo>
                <a:lnTo>
                  <a:pt x="281" y="165"/>
                </a:lnTo>
                <a:lnTo>
                  <a:pt x="285" y="155"/>
                </a:lnTo>
                <a:lnTo>
                  <a:pt x="289" y="145"/>
                </a:lnTo>
                <a:lnTo>
                  <a:pt x="291" y="136"/>
                </a:lnTo>
                <a:lnTo>
                  <a:pt x="295" y="128"/>
                </a:lnTo>
                <a:lnTo>
                  <a:pt x="296" y="121"/>
                </a:lnTo>
                <a:lnTo>
                  <a:pt x="298" y="115"/>
                </a:lnTo>
                <a:lnTo>
                  <a:pt x="300" y="109"/>
                </a:lnTo>
                <a:lnTo>
                  <a:pt x="302" y="103"/>
                </a:lnTo>
                <a:lnTo>
                  <a:pt x="302" y="99"/>
                </a:lnTo>
                <a:lnTo>
                  <a:pt x="304" y="96"/>
                </a:lnTo>
                <a:lnTo>
                  <a:pt x="304" y="92"/>
                </a:lnTo>
                <a:lnTo>
                  <a:pt x="304" y="90"/>
                </a:lnTo>
                <a:lnTo>
                  <a:pt x="302" y="88"/>
                </a:lnTo>
                <a:lnTo>
                  <a:pt x="302" y="86"/>
                </a:lnTo>
                <a:lnTo>
                  <a:pt x="300" y="86"/>
                </a:lnTo>
                <a:lnTo>
                  <a:pt x="298" y="86"/>
                </a:lnTo>
                <a:lnTo>
                  <a:pt x="296" y="84"/>
                </a:lnTo>
                <a:lnTo>
                  <a:pt x="293" y="86"/>
                </a:lnTo>
                <a:lnTo>
                  <a:pt x="289" y="86"/>
                </a:lnTo>
                <a:lnTo>
                  <a:pt x="285" y="86"/>
                </a:lnTo>
                <a:lnTo>
                  <a:pt x="279" y="88"/>
                </a:lnTo>
                <a:lnTo>
                  <a:pt x="273" y="88"/>
                </a:lnTo>
                <a:lnTo>
                  <a:pt x="268" y="90"/>
                </a:lnTo>
                <a:lnTo>
                  <a:pt x="260" y="92"/>
                </a:lnTo>
                <a:lnTo>
                  <a:pt x="252" y="94"/>
                </a:lnTo>
                <a:lnTo>
                  <a:pt x="245" y="96"/>
                </a:lnTo>
                <a:lnTo>
                  <a:pt x="237" y="98"/>
                </a:lnTo>
                <a:lnTo>
                  <a:pt x="228" y="99"/>
                </a:lnTo>
                <a:lnTo>
                  <a:pt x="218" y="103"/>
                </a:lnTo>
                <a:lnTo>
                  <a:pt x="208" y="105"/>
                </a:lnTo>
                <a:lnTo>
                  <a:pt x="189" y="111"/>
                </a:lnTo>
                <a:lnTo>
                  <a:pt x="180" y="113"/>
                </a:lnTo>
                <a:lnTo>
                  <a:pt x="170" y="115"/>
                </a:lnTo>
                <a:lnTo>
                  <a:pt x="162" y="117"/>
                </a:lnTo>
                <a:lnTo>
                  <a:pt x="155" y="119"/>
                </a:lnTo>
                <a:lnTo>
                  <a:pt x="149" y="121"/>
                </a:lnTo>
                <a:lnTo>
                  <a:pt x="141" y="122"/>
                </a:lnTo>
                <a:lnTo>
                  <a:pt x="136" y="124"/>
                </a:lnTo>
                <a:lnTo>
                  <a:pt x="130" y="126"/>
                </a:lnTo>
                <a:lnTo>
                  <a:pt x="126" y="126"/>
                </a:lnTo>
                <a:lnTo>
                  <a:pt x="120" y="128"/>
                </a:lnTo>
                <a:lnTo>
                  <a:pt x="116" y="128"/>
                </a:lnTo>
                <a:lnTo>
                  <a:pt x="115" y="128"/>
                </a:lnTo>
                <a:lnTo>
                  <a:pt x="111" y="128"/>
                </a:lnTo>
                <a:lnTo>
                  <a:pt x="109" y="128"/>
                </a:lnTo>
                <a:lnTo>
                  <a:pt x="105" y="128"/>
                </a:lnTo>
                <a:lnTo>
                  <a:pt x="99" y="128"/>
                </a:lnTo>
                <a:lnTo>
                  <a:pt x="93" y="124"/>
                </a:lnTo>
                <a:lnTo>
                  <a:pt x="88" y="122"/>
                </a:lnTo>
                <a:lnTo>
                  <a:pt x="80" y="119"/>
                </a:lnTo>
                <a:lnTo>
                  <a:pt x="72" y="113"/>
                </a:lnTo>
                <a:lnTo>
                  <a:pt x="63" y="107"/>
                </a:lnTo>
                <a:lnTo>
                  <a:pt x="55" y="101"/>
                </a:lnTo>
                <a:lnTo>
                  <a:pt x="49" y="98"/>
                </a:lnTo>
                <a:lnTo>
                  <a:pt x="44" y="94"/>
                </a:lnTo>
                <a:lnTo>
                  <a:pt x="40" y="90"/>
                </a:lnTo>
                <a:lnTo>
                  <a:pt x="36" y="88"/>
                </a:lnTo>
                <a:lnTo>
                  <a:pt x="34" y="86"/>
                </a:lnTo>
                <a:lnTo>
                  <a:pt x="30" y="82"/>
                </a:lnTo>
                <a:lnTo>
                  <a:pt x="28" y="80"/>
                </a:lnTo>
                <a:lnTo>
                  <a:pt x="28" y="78"/>
                </a:lnTo>
                <a:lnTo>
                  <a:pt x="26" y="76"/>
                </a:lnTo>
                <a:lnTo>
                  <a:pt x="26" y="75"/>
                </a:lnTo>
                <a:lnTo>
                  <a:pt x="26" y="73"/>
                </a:lnTo>
                <a:lnTo>
                  <a:pt x="28" y="71"/>
                </a:lnTo>
                <a:lnTo>
                  <a:pt x="30" y="69"/>
                </a:lnTo>
                <a:lnTo>
                  <a:pt x="32" y="69"/>
                </a:lnTo>
                <a:lnTo>
                  <a:pt x="34" y="67"/>
                </a:lnTo>
                <a:lnTo>
                  <a:pt x="46" y="67"/>
                </a:lnTo>
                <a:lnTo>
                  <a:pt x="57" y="67"/>
                </a:lnTo>
                <a:lnTo>
                  <a:pt x="71" y="67"/>
                </a:lnTo>
                <a:lnTo>
                  <a:pt x="84" y="67"/>
                </a:lnTo>
                <a:lnTo>
                  <a:pt x="88" y="67"/>
                </a:lnTo>
                <a:lnTo>
                  <a:pt x="92" y="67"/>
                </a:lnTo>
                <a:lnTo>
                  <a:pt x="95" y="67"/>
                </a:lnTo>
                <a:lnTo>
                  <a:pt x="99" y="67"/>
                </a:lnTo>
                <a:lnTo>
                  <a:pt x="105" y="67"/>
                </a:lnTo>
                <a:lnTo>
                  <a:pt x="111" y="65"/>
                </a:lnTo>
                <a:lnTo>
                  <a:pt x="118" y="65"/>
                </a:lnTo>
                <a:lnTo>
                  <a:pt x="124" y="63"/>
                </a:lnTo>
                <a:lnTo>
                  <a:pt x="132" y="63"/>
                </a:lnTo>
                <a:lnTo>
                  <a:pt x="139" y="61"/>
                </a:lnTo>
                <a:lnTo>
                  <a:pt x="149" y="61"/>
                </a:lnTo>
                <a:lnTo>
                  <a:pt x="157" y="59"/>
                </a:lnTo>
                <a:lnTo>
                  <a:pt x="166" y="57"/>
                </a:lnTo>
                <a:lnTo>
                  <a:pt x="176" y="57"/>
                </a:lnTo>
                <a:lnTo>
                  <a:pt x="199" y="53"/>
                </a:lnTo>
                <a:lnTo>
                  <a:pt x="218" y="50"/>
                </a:lnTo>
                <a:lnTo>
                  <a:pt x="235" y="46"/>
                </a:lnTo>
                <a:lnTo>
                  <a:pt x="252" y="42"/>
                </a:lnTo>
                <a:lnTo>
                  <a:pt x="268" y="38"/>
                </a:lnTo>
                <a:lnTo>
                  <a:pt x="273" y="36"/>
                </a:lnTo>
                <a:lnTo>
                  <a:pt x="281" y="34"/>
                </a:lnTo>
                <a:lnTo>
                  <a:pt x="287" y="32"/>
                </a:lnTo>
                <a:lnTo>
                  <a:pt x="293" y="30"/>
                </a:lnTo>
                <a:lnTo>
                  <a:pt x="296" y="27"/>
                </a:lnTo>
                <a:lnTo>
                  <a:pt x="300" y="25"/>
                </a:lnTo>
                <a:lnTo>
                  <a:pt x="304" y="23"/>
                </a:lnTo>
                <a:lnTo>
                  <a:pt x="308" y="19"/>
                </a:lnTo>
                <a:lnTo>
                  <a:pt x="317" y="13"/>
                </a:lnTo>
                <a:lnTo>
                  <a:pt x="325" y="9"/>
                </a:lnTo>
                <a:lnTo>
                  <a:pt x="333" y="4"/>
                </a:lnTo>
                <a:lnTo>
                  <a:pt x="337" y="0"/>
                </a:lnTo>
                <a:lnTo>
                  <a:pt x="339" y="2"/>
                </a:lnTo>
                <a:lnTo>
                  <a:pt x="342" y="2"/>
                </a:lnTo>
                <a:lnTo>
                  <a:pt x="346" y="4"/>
                </a:lnTo>
                <a:lnTo>
                  <a:pt x="352" y="7"/>
                </a:lnTo>
                <a:lnTo>
                  <a:pt x="358" y="11"/>
                </a:lnTo>
                <a:lnTo>
                  <a:pt x="365" y="15"/>
                </a:lnTo>
                <a:lnTo>
                  <a:pt x="373" y="19"/>
                </a:lnTo>
                <a:lnTo>
                  <a:pt x="383" y="25"/>
                </a:lnTo>
                <a:lnTo>
                  <a:pt x="390" y="30"/>
                </a:lnTo>
                <a:lnTo>
                  <a:pt x="398" y="34"/>
                </a:lnTo>
                <a:lnTo>
                  <a:pt x="406" y="40"/>
                </a:lnTo>
                <a:lnTo>
                  <a:pt x="411" y="46"/>
                </a:lnTo>
                <a:lnTo>
                  <a:pt x="415" y="50"/>
                </a:lnTo>
                <a:lnTo>
                  <a:pt x="419" y="55"/>
                </a:lnTo>
                <a:lnTo>
                  <a:pt x="421" y="59"/>
                </a:lnTo>
                <a:lnTo>
                  <a:pt x="421" y="63"/>
                </a:lnTo>
                <a:lnTo>
                  <a:pt x="417" y="73"/>
                </a:lnTo>
                <a:lnTo>
                  <a:pt x="413" y="80"/>
                </a:lnTo>
                <a:lnTo>
                  <a:pt x="407" y="86"/>
                </a:lnTo>
                <a:lnTo>
                  <a:pt x="402" y="92"/>
                </a:lnTo>
                <a:lnTo>
                  <a:pt x="398" y="94"/>
                </a:lnTo>
                <a:lnTo>
                  <a:pt x="396" y="96"/>
                </a:lnTo>
                <a:lnTo>
                  <a:pt x="392" y="99"/>
                </a:lnTo>
                <a:lnTo>
                  <a:pt x="390" y="103"/>
                </a:lnTo>
                <a:lnTo>
                  <a:pt x="386" y="109"/>
                </a:lnTo>
                <a:lnTo>
                  <a:pt x="383" y="115"/>
                </a:lnTo>
                <a:lnTo>
                  <a:pt x="379" y="121"/>
                </a:lnTo>
                <a:lnTo>
                  <a:pt x="375" y="128"/>
                </a:lnTo>
                <a:lnTo>
                  <a:pt x="371" y="136"/>
                </a:lnTo>
                <a:lnTo>
                  <a:pt x="367" y="144"/>
                </a:lnTo>
                <a:lnTo>
                  <a:pt x="363" y="153"/>
                </a:lnTo>
                <a:lnTo>
                  <a:pt x="360" y="163"/>
                </a:lnTo>
                <a:lnTo>
                  <a:pt x="356" y="174"/>
                </a:lnTo>
                <a:lnTo>
                  <a:pt x="350" y="184"/>
                </a:lnTo>
                <a:lnTo>
                  <a:pt x="346" y="197"/>
                </a:lnTo>
                <a:lnTo>
                  <a:pt x="342" y="211"/>
                </a:lnTo>
                <a:lnTo>
                  <a:pt x="331" y="237"/>
                </a:lnTo>
                <a:lnTo>
                  <a:pt x="317" y="262"/>
                </a:lnTo>
                <a:lnTo>
                  <a:pt x="304" y="287"/>
                </a:lnTo>
                <a:lnTo>
                  <a:pt x="291" y="312"/>
                </a:lnTo>
                <a:lnTo>
                  <a:pt x="275" y="337"/>
                </a:lnTo>
                <a:lnTo>
                  <a:pt x="260" y="360"/>
                </a:lnTo>
                <a:lnTo>
                  <a:pt x="245" y="383"/>
                </a:lnTo>
                <a:lnTo>
                  <a:pt x="228" y="404"/>
                </a:lnTo>
                <a:lnTo>
                  <a:pt x="210" y="425"/>
                </a:lnTo>
                <a:lnTo>
                  <a:pt x="191" y="444"/>
                </a:lnTo>
                <a:lnTo>
                  <a:pt x="172" y="464"/>
                </a:lnTo>
                <a:lnTo>
                  <a:pt x="153" y="481"/>
                </a:lnTo>
                <a:lnTo>
                  <a:pt x="136" y="496"/>
                </a:lnTo>
                <a:lnTo>
                  <a:pt x="116" y="511"/>
                </a:lnTo>
                <a:lnTo>
                  <a:pt x="97" y="525"/>
                </a:lnTo>
                <a:lnTo>
                  <a:pt x="78" y="538"/>
                </a:lnTo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92" name="Freeform 13"/>
          <p:cNvSpPr/>
          <p:nvPr/>
        </p:nvSpPr>
        <p:spPr>
          <a:xfrm>
            <a:off x="7020000" y="4294080"/>
            <a:ext cx="431640" cy="1582920"/>
          </a:xfrm>
          <a:custGeom>
            <a:avLst/>
            <a:gdLst/>
            <a:ahLst/>
            <a:rect l="l" t="t" r="r" b="b"/>
            <a:pathLst>
              <a:path w="232" h="1037">
                <a:moveTo>
                  <a:pt x="193" y="989"/>
                </a:moveTo>
                <a:lnTo>
                  <a:pt x="188" y="1000"/>
                </a:lnTo>
                <a:lnTo>
                  <a:pt x="182" y="1010"/>
                </a:lnTo>
                <a:lnTo>
                  <a:pt x="176" y="1017"/>
                </a:lnTo>
                <a:lnTo>
                  <a:pt x="170" y="1025"/>
                </a:lnTo>
                <a:lnTo>
                  <a:pt x="167" y="1029"/>
                </a:lnTo>
                <a:lnTo>
                  <a:pt x="161" y="1033"/>
                </a:lnTo>
                <a:lnTo>
                  <a:pt x="155" y="1035"/>
                </a:lnTo>
                <a:lnTo>
                  <a:pt x="149" y="1037"/>
                </a:lnTo>
                <a:lnTo>
                  <a:pt x="144" y="1035"/>
                </a:lnTo>
                <a:lnTo>
                  <a:pt x="140" y="1035"/>
                </a:lnTo>
                <a:lnTo>
                  <a:pt x="136" y="1031"/>
                </a:lnTo>
                <a:lnTo>
                  <a:pt x="132" y="1029"/>
                </a:lnTo>
                <a:lnTo>
                  <a:pt x="130" y="1023"/>
                </a:lnTo>
                <a:lnTo>
                  <a:pt x="128" y="1017"/>
                </a:lnTo>
                <a:lnTo>
                  <a:pt x="126" y="1012"/>
                </a:lnTo>
                <a:lnTo>
                  <a:pt x="125" y="1002"/>
                </a:lnTo>
                <a:lnTo>
                  <a:pt x="121" y="993"/>
                </a:lnTo>
                <a:lnTo>
                  <a:pt x="117" y="983"/>
                </a:lnTo>
                <a:lnTo>
                  <a:pt x="111" y="973"/>
                </a:lnTo>
                <a:lnTo>
                  <a:pt x="105" y="964"/>
                </a:lnTo>
                <a:lnTo>
                  <a:pt x="96" y="952"/>
                </a:lnTo>
                <a:lnTo>
                  <a:pt x="86" y="941"/>
                </a:lnTo>
                <a:lnTo>
                  <a:pt x="73" y="929"/>
                </a:lnTo>
                <a:lnTo>
                  <a:pt x="59" y="918"/>
                </a:lnTo>
                <a:lnTo>
                  <a:pt x="52" y="910"/>
                </a:lnTo>
                <a:lnTo>
                  <a:pt x="44" y="904"/>
                </a:lnTo>
                <a:lnTo>
                  <a:pt x="36" y="901"/>
                </a:lnTo>
                <a:lnTo>
                  <a:pt x="31" y="895"/>
                </a:lnTo>
                <a:lnTo>
                  <a:pt x="25" y="889"/>
                </a:lnTo>
                <a:lnTo>
                  <a:pt x="19" y="885"/>
                </a:lnTo>
                <a:lnTo>
                  <a:pt x="15" y="881"/>
                </a:lnTo>
                <a:lnTo>
                  <a:pt x="12" y="878"/>
                </a:lnTo>
                <a:lnTo>
                  <a:pt x="8" y="874"/>
                </a:lnTo>
                <a:lnTo>
                  <a:pt x="6" y="872"/>
                </a:lnTo>
                <a:lnTo>
                  <a:pt x="2" y="868"/>
                </a:lnTo>
                <a:lnTo>
                  <a:pt x="2" y="866"/>
                </a:lnTo>
                <a:lnTo>
                  <a:pt x="0" y="864"/>
                </a:lnTo>
                <a:lnTo>
                  <a:pt x="0" y="862"/>
                </a:lnTo>
                <a:lnTo>
                  <a:pt x="0" y="860"/>
                </a:lnTo>
                <a:lnTo>
                  <a:pt x="2" y="858"/>
                </a:lnTo>
                <a:lnTo>
                  <a:pt x="6" y="858"/>
                </a:lnTo>
                <a:lnTo>
                  <a:pt x="10" y="858"/>
                </a:lnTo>
                <a:lnTo>
                  <a:pt x="15" y="858"/>
                </a:lnTo>
                <a:lnTo>
                  <a:pt x="21" y="860"/>
                </a:lnTo>
                <a:lnTo>
                  <a:pt x="29" y="864"/>
                </a:lnTo>
                <a:lnTo>
                  <a:pt x="36" y="866"/>
                </a:lnTo>
                <a:lnTo>
                  <a:pt x="44" y="870"/>
                </a:lnTo>
                <a:lnTo>
                  <a:pt x="63" y="876"/>
                </a:lnTo>
                <a:lnTo>
                  <a:pt x="79" y="879"/>
                </a:lnTo>
                <a:lnTo>
                  <a:pt x="94" y="883"/>
                </a:lnTo>
                <a:lnTo>
                  <a:pt x="109" y="883"/>
                </a:lnTo>
                <a:lnTo>
                  <a:pt x="117" y="883"/>
                </a:lnTo>
                <a:lnTo>
                  <a:pt x="123" y="881"/>
                </a:lnTo>
                <a:lnTo>
                  <a:pt x="128" y="879"/>
                </a:lnTo>
                <a:lnTo>
                  <a:pt x="134" y="876"/>
                </a:lnTo>
                <a:lnTo>
                  <a:pt x="140" y="872"/>
                </a:lnTo>
                <a:lnTo>
                  <a:pt x="144" y="866"/>
                </a:lnTo>
                <a:lnTo>
                  <a:pt x="147" y="858"/>
                </a:lnTo>
                <a:lnTo>
                  <a:pt x="149" y="851"/>
                </a:lnTo>
                <a:lnTo>
                  <a:pt x="149" y="849"/>
                </a:lnTo>
                <a:lnTo>
                  <a:pt x="149" y="845"/>
                </a:lnTo>
                <a:lnTo>
                  <a:pt x="149" y="841"/>
                </a:lnTo>
                <a:lnTo>
                  <a:pt x="151" y="837"/>
                </a:lnTo>
                <a:lnTo>
                  <a:pt x="151" y="832"/>
                </a:lnTo>
                <a:lnTo>
                  <a:pt x="151" y="826"/>
                </a:lnTo>
                <a:lnTo>
                  <a:pt x="151" y="820"/>
                </a:lnTo>
                <a:lnTo>
                  <a:pt x="151" y="814"/>
                </a:lnTo>
                <a:lnTo>
                  <a:pt x="151" y="807"/>
                </a:lnTo>
                <a:lnTo>
                  <a:pt x="151" y="799"/>
                </a:lnTo>
                <a:lnTo>
                  <a:pt x="153" y="791"/>
                </a:lnTo>
                <a:lnTo>
                  <a:pt x="153" y="782"/>
                </a:lnTo>
                <a:lnTo>
                  <a:pt x="153" y="772"/>
                </a:lnTo>
                <a:lnTo>
                  <a:pt x="153" y="763"/>
                </a:lnTo>
                <a:lnTo>
                  <a:pt x="153" y="751"/>
                </a:lnTo>
                <a:lnTo>
                  <a:pt x="153" y="740"/>
                </a:lnTo>
                <a:lnTo>
                  <a:pt x="153" y="728"/>
                </a:lnTo>
                <a:lnTo>
                  <a:pt x="153" y="715"/>
                </a:lnTo>
                <a:lnTo>
                  <a:pt x="153" y="703"/>
                </a:lnTo>
                <a:lnTo>
                  <a:pt x="153" y="690"/>
                </a:lnTo>
                <a:lnTo>
                  <a:pt x="153" y="674"/>
                </a:lnTo>
                <a:lnTo>
                  <a:pt x="153" y="659"/>
                </a:lnTo>
                <a:lnTo>
                  <a:pt x="153" y="644"/>
                </a:lnTo>
                <a:lnTo>
                  <a:pt x="153" y="628"/>
                </a:lnTo>
                <a:lnTo>
                  <a:pt x="153" y="611"/>
                </a:lnTo>
                <a:lnTo>
                  <a:pt x="153" y="594"/>
                </a:lnTo>
                <a:lnTo>
                  <a:pt x="153" y="577"/>
                </a:lnTo>
                <a:lnTo>
                  <a:pt x="153" y="559"/>
                </a:lnTo>
                <a:lnTo>
                  <a:pt x="153" y="540"/>
                </a:lnTo>
                <a:lnTo>
                  <a:pt x="153" y="521"/>
                </a:lnTo>
                <a:lnTo>
                  <a:pt x="153" y="500"/>
                </a:lnTo>
                <a:lnTo>
                  <a:pt x="153" y="479"/>
                </a:lnTo>
                <a:lnTo>
                  <a:pt x="153" y="460"/>
                </a:lnTo>
                <a:lnTo>
                  <a:pt x="153" y="439"/>
                </a:lnTo>
                <a:lnTo>
                  <a:pt x="153" y="420"/>
                </a:lnTo>
                <a:lnTo>
                  <a:pt x="153" y="400"/>
                </a:lnTo>
                <a:lnTo>
                  <a:pt x="153" y="381"/>
                </a:lnTo>
                <a:lnTo>
                  <a:pt x="153" y="364"/>
                </a:lnTo>
                <a:lnTo>
                  <a:pt x="153" y="347"/>
                </a:lnTo>
                <a:lnTo>
                  <a:pt x="153" y="329"/>
                </a:lnTo>
                <a:lnTo>
                  <a:pt x="153" y="314"/>
                </a:lnTo>
                <a:lnTo>
                  <a:pt x="153" y="299"/>
                </a:lnTo>
                <a:lnTo>
                  <a:pt x="153" y="283"/>
                </a:lnTo>
                <a:lnTo>
                  <a:pt x="153" y="268"/>
                </a:lnTo>
                <a:lnTo>
                  <a:pt x="153" y="255"/>
                </a:lnTo>
                <a:lnTo>
                  <a:pt x="153" y="241"/>
                </a:lnTo>
                <a:lnTo>
                  <a:pt x="153" y="228"/>
                </a:lnTo>
                <a:lnTo>
                  <a:pt x="153" y="216"/>
                </a:lnTo>
                <a:lnTo>
                  <a:pt x="153" y="205"/>
                </a:lnTo>
                <a:lnTo>
                  <a:pt x="153" y="193"/>
                </a:lnTo>
                <a:lnTo>
                  <a:pt x="153" y="182"/>
                </a:lnTo>
                <a:lnTo>
                  <a:pt x="153" y="172"/>
                </a:lnTo>
                <a:lnTo>
                  <a:pt x="153" y="163"/>
                </a:lnTo>
                <a:lnTo>
                  <a:pt x="151" y="153"/>
                </a:lnTo>
                <a:lnTo>
                  <a:pt x="151" y="145"/>
                </a:lnTo>
                <a:lnTo>
                  <a:pt x="151" y="138"/>
                </a:lnTo>
                <a:lnTo>
                  <a:pt x="151" y="130"/>
                </a:lnTo>
                <a:lnTo>
                  <a:pt x="151" y="122"/>
                </a:lnTo>
                <a:lnTo>
                  <a:pt x="151" y="117"/>
                </a:lnTo>
                <a:lnTo>
                  <a:pt x="151" y="111"/>
                </a:lnTo>
                <a:lnTo>
                  <a:pt x="149" y="107"/>
                </a:lnTo>
                <a:lnTo>
                  <a:pt x="149" y="101"/>
                </a:lnTo>
                <a:lnTo>
                  <a:pt x="149" y="98"/>
                </a:lnTo>
                <a:lnTo>
                  <a:pt x="149" y="94"/>
                </a:lnTo>
                <a:lnTo>
                  <a:pt x="147" y="82"/>
                </a:lnTo>
                <a:lnTo>
                  <a:pt x="146" y="73"/>
                </a:lnTo>
                <a:lnTo>
                  <a:pt x="144" y="63"/>
                </a:lnTo>
                <a:lnTo>
                  <a:pt x="142" y="53"/>
                </a:lnTo>
                <a:lnTo>
                  <a:pt x="138" y="46"/>
                </a:lnTo>
                <a:lnTo>
                  <a:pt x="136" y="40"/>
                </a:lnTo>
                <a:lnTo>
                  <a:pt x="132" y="34"/>
                </a:lnTo>
                <a:lnTo>
                  <a:pt x="128" y="29"/>
                </a:lnTo>
                <a:lnTo>
                  <a:pt x="126" y="25"/>
                </a:lnTo>
                <a:lnTo>
                  <a:pt x="123" y="21"/>
                </a:lnTo>
                <a:lnTo>
                  <a:pt x="123" y="17"/>
                </a:lnTo>
                <a:lnTo>
                  <a:pt x="121" y="15"/>
                </a:lnTo>
                <a:lnTo>
                  <a:pt x="121" y="11"/>
                </a:lnTo>
                <a:lnTo>
                  <a:pt x="121" y="9"/>
                </a:lnTo>
                <a:lnTo>
                  <a:pt x="123" y="6"/>
                </a:lnTo>
                <a:lnTo>
                  <a:pt x="125" y="4"/>
                </a:lnTo>
                <a:lnTo>
                  <a:pt x="126" y="2"/>
                </a:lnTo>
                <a:lnTo>
                  <a:pt x="130" y="2"/>
                </a:lnTo>
                <a:lnTo>
                  <a:pt x="136" y="2"/>
                </a:lnTo>
                <a:lnTo>
                  <a:pt x="142" y="0"/>
                </a:lnTo>
                <a:lnTo>
                  <a:pt x="149" y="2"/>
                </a:lnTo>
                <a:lnTo>
                  <a:pt x="159" y="2"/>
                </a:lnTo>
                <a:lnTo>
                  <a:pt x="169" y="2"/>
                </a:lnTo>
                <a:lnTo>
                  <a:pt x="178" y="4"/>
                </a:lnTo>
                <a:lnTo>
                  <a:pt x="188" y="7"/>
                </a:lnTo>
                <a:lnTo>
                  <a:pt x="195" y="11"/>
                </a:lnTo>
                <a:lnTo>
                  <a:pt x="203" y="15"/>
                </a:lnTo>
                <a:lnTo>
                  <a:pt x="211" y="19"/>
                </a:lnTo>
                <a:lnTo>
                  <a:pt x="216" y="23"/>
                </a:lnTo>
                <a:lnTo>
                  <a:pt x="222" y="25"/>
                </a:lnTo>
                <a:lnTo>
                  <a:pt x="226" y="29"/>
                </a:lnTo>
                <a:lnTo>
                  <a:pt x="228" y="32"/>
                </a:lnTo>
                <a:lnTo>
                  <a:pt x="232" y="42"/>
                </a:lnTo>
                <a:lnTo>
                  <a:pt x="232" y="52"/>
                </a:lnTo>
                <a:lnTo>
                  <a:pt x="232" y="61"/>
                </a:lnTo>
                <a:lnTo>
                  <a:pt x="228" y="71"/>
                </a:lnTo>
                <a:lnTo>
                  <a:pt x="226" y="76"/>
                </a:lnTo>
                <a:lnTo>
                  <a:pt x="224" y="84"/>
                </a:lnTo>
                <a:lnTo>
                  <a:pt x="222" y="92"/>
                </a:lnTo>
                <a:lnTo>
                  <a:pt x="222" y="99"/>
                </a:lnTo>
                <a:lnTo>
                  <a:pt x="220" y="109"/>
                </a:lnTo>
                <a:lnTo>
                  <a:pt x="218" y="121"/>
                </a:lnTo>
                <a:lnTo>
                  <a:pt x="218" y="134"/>
                </a:lnTo>
                <a:lnTo>
                  <a:pt x="218" y="147"/>
                </a:lnTo>
                <a:lnTo>
                  <a:pt x="216" y="163"/>
                </a:lnTo>
                <a:lnTo>
                  <a:pt x="216" y="180"/>
                </a:lnTo>
                <a:lnTo>
                  <a:pt x="215" y="199"/>
                </a:lnTo>
                <a:lnTo>
                  <a:pt x="215" y="218"/>
                </a:lnTo>
                <a:lnTo>
                  <a:pt x="215" y="239"/>
                </a:lnTo>
                <a:lnTo>
                  <a:pt x="215" y="260"/>
                </a:lnTo>
                <a:lnTo>
                  <a:pt x="213" y="283"/>
                </a:lnTo>
                <a:lnTo>
                  <a:pt x="213" y="308"/>
                </a:lnTo>
                <a:lnTo>
                  <a:pt x="213" y="322"/>
                </a:lnTo>
                <a:lnTo>
                  <a:pt x="213" y="337"/>
                </a:lnTo>
                <a:lnTo>
                  <a:pt x="211" y="354"/>
                </a:lnTo>
                <a:lnTo>
                  <a:pt x="211" y="372"/>
                </a:lnTo>
                <a:lnTo>
                  <a:pt x="211" y="389"/>
                </a:lnTo>
                <a:lnTo>
                  <a:pt x="211" y="410"/>
                </a:lnTo>
                <a:lnTo>
                  <a:pt x="211" y="431"/>
                </a:lnTo>
                <a:lnTo>
                  <a:pt x="211" y="452"/>
                </a:lnTo>
                <a:lnTo>
                  <a:pt x="211" y="475"/>
                </a:lnTo>
                <a:lnTo>
                  <a:pt x="211" y="500"/>
                </a:lnTo>
                <a:lnTo>
                  <a:pt x="211" y="527"/>
                </a:lnTo>
                <a:lnTo>
                  <a:pt x="211" y="554"/>
                </a:lnTo>
                <a:lnTo>
                  <a:pt x="211" y="582"/>
                </a:lnTo>
                <a:lnTo>
                  <a:pt x="213" y="611"/>
                </a:lnTo>
                <a:lnTo>
                  <a:pt x="213" y="642"/>
                </a:lnTo>
                <a:lnTo>
                  <a:pt x="213" y="674"/>
                </a:lnTo>
                <a:lnTo>
                  <a:pt x="215" y="707"/>
                </a:lnTo>
                <a:lnTo>
                  <a:pt x="215" y="738"/>
                </a:lnTo>
                <a:lnTo>
                  <a:pt x="215" y="766"/>
                </a:lnTo>
                <a:lnTo>
                  <a:pt x="215" y="793"/>
                </a:lnTo>
                <a:lnTo>
                  <a:pt x="215" y="818"/>
                </a:lnTo>
                <a:lnTo>
                  <a:pt x="213" y="843"/>
                </a:lnTo>
                <a:lnTo>
                  <a:pt x="213" y="864"/>
                </a:lnTo>
                <a:lnTo>
                  <a:pt x="211" y="885"/>
                </a:lnTo>
                <a:lnTo>
                  <a:pt x="209" y="904"/>
                </a:lnTo>
                <a:lnTo>
                  <a:pt x="207" y="922"/>
                </a:lnTo>
                <a:lnTo>
                  <a:pt x="205" y="937"/>
                </a:lnTo>
                <a:lnTo>
                  <a:pt x="203" y="950"/>
                </a:lnTo>
                <a:lnTo>
                  <a:pt x="201" y="962"/>
                </a:lnTo>
                <a:lnTo>
                  <a:pt x="199" y="973"/>
                </a:lnTo>
                <a:lnTo>
                  <a:pt x="197" y="981"/>
                </a:lnTo>
                <a:lnTo>
                  <a:pt x="193" y="989"/>
                </a:lnTo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93" name="Freeform 14"/>
          <p:cNvSpPr/>
          <p:nvPr/>
        </p:nvSpPr>
        <p:spPr>
          <a:xfrm>
            <a:off x="7451640" y="4492800"/>
            <a:ext cx="505080" cy="520560"/>
          </a:xfrm>
          <a:custGeom>
            <a:avLst/>
            <a:gdLst/>
            <a:ahLst/>
            <a:rect l="l" t="t" r="r" b="b"/>
            <a:pathLst>
              <a:path w="337" h="328">
                <a:moveTo>
                  <a:pt x="337" y="67"/>
                </a:moveTo>
                <a:lnTo>
                  <a:pt x="337" y="69"/>
                </a:lnTo>
                <a:lnTo>
                  <a:pt x="337" y="71"/>
                </a:lnTo>
                <a:lnTo>
                  <a:pt x="335" y="75"/>
                </a:lnTo>
                <a:lnTo>
                  <a:pt x="333" y="77"/>
                </a:lnTo>
                <a:lnTo>
                  <a:pt x="331" y="81"/>
                </a:lnTo>
                <a:lnTo>
                  <a:pt x="330" y="84"/>
                </a:lnTo>
                <a:lnTo>
                  <a:pt x="326" y="88"/>
                </a:lnTo>
                <a:lnTo>
                  <a:pt x="322" y="92"/>
                </a:lnTo>
                <a:lnTo>
                  <a:pt x="318" y="98"/>
                </a:lnTo>
                <a:lnTo>
                  <a:pt x="312" y="104"/>
                </a:lnTo>
                <a:lnTo>
                  <a:pt x="308" y="109"/>
                </a:lnTo>
                <a:lnTo>
                  <a:pt x="301" y="115"/>
                </a:lnTo>
                <a:lnTo>
                  <a:pt x="295" y="121"/>
                </a:lnTo>
                <a:lnTo>
                  <a:pt x="289" y="128"/>
                </a:lnTo>
                <a:lnTo>
                  <a:pt x="282" y="136"/>
                </a:lnTo>
                <a:lnTo>
                  <a:pt x="272" y="144"/>
                </a:lnTo>
                <a:lnTo>
                  <a:pt x="257" y="159"/>
                </a:lnTo>
                <a:lnTo>
                  <a:pt x="240" y="174"/>
                </a:lnTo>
                <a:lnTo>
                  <a:pt x="220" y="192"/>
                </a:lnTo>
                <a:lnTo>
                  <a:pt x="203" y="207"/>
                </a:lnTo>
                <a:lnTo>
                  <a:pt x="184" y="220"/>
                </a:lnTo>
                <a:lnTo>
                  <a:pt x="165" y="236"/>
                </a:lnTo>
                <a:lnTo>
                  <a:pt x="144" y="249"/>
                </a:lnTo>
                <a:lnTo>
                  <a:pt x="125" y="263"/>
                </a:lnTo>
                <a:lnTo>
                  <a:pt x="106" y="276"/>
                </a:lnTo>
                <a:lnTo>
                  <a:pt x="86" y="288"/>
                </a:lnTo>
                <a:lnTo>
                  <a:pt x="69" y="299"/>
                </a:lnTo>
                <a:lnTo>
                  <a:pt x="56" y="309"/>
                </a:lnTo>
                <a:lnTo>
                  <a:pt x="48" y="312"/>
                </a:lnTo>
                <a:lnTo>
                  <a:pt x="42" y="316"/>
                </a:lnTo>
                <a:lnTo>
                  <a:pt x="37" y="318"/>
                </a:lnTo>
                <a:lnTo>
                  <a:pt x="31" y="322"/>
                </a:lnTo>
                <a:lnTo>
                  <a:pt x="25" y="324"/>
                </a:lnTo>
                <a:lnTo>
                  <a:pt x="21" y="326"/>
                </a:lnTo>
                <a:lnTo>
                  <a:pt x="17" y="328"/>
                </a:lnTo>
                <a:lnTo>
                  <a:pt x="16" y="328"/>
                </a:lnTo>
                <a:lnTo>
                  <a:pt x="0" y="305"/>
                </a:lnTo>
                <a:lnTo>
                  <a:pt x="19" y="289"/>
                </a:lnTo>
                <a:lnTo>
                  <a:pt x="39" y="274"/>
                </a:lnTo>
                <a:lnTo>
                  <a:pt x="58" y="259"/>
                </a:lnTo>
                <a:lnTo>
                  <a:pt x="75" y="243"/>
                </a:lnTo>
                <a:lnTo>
                  <a:pt x="92" y="228"/>
                </a:lnTo>
                <a:lnTo>
                  <a:pt x="109" y="213"/>
                </a:lnTo>
                <a:lnTo>
                  <a:pt x="125" y="197"/>
                </a:lnTo>
                <a:lnTo>
                  <a:pt x="140" y="182"/>
                </a:lnTo>
                <a:lnTo>
                  <a:pt x="151" y="167"/>
                </a:lnTo>
                <a:lnTo>
                  <a:pt x="165" y="153"/>
                </a:lnTo>
                <a:lnTo>
                  <a:pt x="176" y="140"/>
                </a:lnTo>
                <a:lnTo>
                  <a:pt x="186" y="128"/>
                </a:lnTo>
                <a:lnTo>
                  <a:pt x="197" y="115"/>
                </a:lnTo>
                <a:lnTo>
                  <a:pt x="207" y="104"/>
                </a:lnTo>
                <a:lnTo>
                  <a:pt x="217" y="92"/>
                </a:lnTo>
                <a:lnTo>
                  <a:pt x="224" y="81"/>
                </a:lnTo>
                <a:lnTo>
                  <a:pt x="228" y="73"/>
                </a:lnTo>
                <a:lnTo>
                  <a:pt x="232" y="65"/>
                </a:lnTo>
                <a:lnTo>
                  <a:pt x="236" y="58"/>
                </a:lnTo>
                <a:lnTo>
                  <a:pt x="238" y="50"/>
                </a:lnTo>
                <a:lnTo>
                  <a:pt x="240" y="42"/>
                </a:lnTo>
                <a:lnTo>
                  <a:pt x="240" y="36"/>
                </a:lnTo>
                <a:lnTo>
                  <a:pt x="240" y="31"/>
                </a:lnTo>
                <a:lnTo>
                  <a:pt x="238" y="25"/>
                </a:lnTo>
                <a:lnTo>
                  <a:pt x="236" y="19"/>
                </a:lnTo>
                <a:lnTo>
                  <a:pt x="232" y="15"/>
                </a:lnTo>
                <a:lnTo>
                  <a:pt x="232" y="12"/>
                </a:lnTo>
                <a:lnTo>
                  <a:pt x="230" y="10"/>
                </a:lnTo>
                <a:lnTo>
                  <a:pt x="232" y="6"/>
                </a:lnTo>
                <a:lnTo>
                  <a:pt x="232" y="4"/>
                </a:lnTo>
                <a:lnTo>
                  <a:pt x="236" y="2"/>
                </a:lnTo>
                <a:lnTo>
                  <a:pt x="238" y="0"/>
                </a:lnTo>
                <a:lnTo>
                  <a:pt x="243" y="0"/>
                </a:lnTo>
                <a:lnTo>
                  <a:pt x="247" y="0"/>
                </a:lnTo>
                <a:lnTo>
                  <a:pt x="253" y="0"/>
                </a:lnTo>
                <a:lnTo>
                  <a:pt x="261" y="2"/>
                </a:lnTo>
                <a:lnTo>
                  <a:pt x="268" y="6"/>
                </a:lnTo>
                <a:lnTo>
                  <a:pt x="278" y="10"/>
                </a:lnTo>
                <a:lnTo>
                  <a:pt x="287" y="15"/>
                </a:lnTo>
                <a:lnTo>
                  <a:pt x="297" y="19"/>
                </a:lnTo>
                <a:lnTo>
                  <a:pt x="307" y="27"/>
                </a:lnTo>
                <a:lnTo>
                  <a:pt x="314" y="33"/>
                </a:lnTo>
                <a:lnTo>
                  <a:pt x="322" y="40"/>
                </a:lnTo>
                <a:lnTo>
                  <a:pt x="328" y="46"/>
                </a:lnTo>
                <a:lnTo>
                  <a:pt x="331" y="52"/>
                </a:lnTo>
                <a:lnTo>
                  <a:pt x="335" y="56"/>
                </a:lnTo>
                <a:lnTo>
                  <a:pt x="337" y="61"/>
                </a:lnTo>
                <a:lnTo>
                  <a:pt x="337" y="67"/>
                </a:lnTo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94" name="Freeform 15"/>
          <p:cNvSpPr/>
          <p:nvPr/>
        </p:nvSpPr>
        <p:spPr>
          <a:xfrm>
            <a:off x="7380360" y="4870440"/>
            <a:ext cx="1008000" cy="646200"/>
          </a:xfrm>
          <a:custGeom>
            <a:avLst/>
            <a:gdLst/>
            <a:ahLst/>
            <a:rect l="l" t="t" r="r" b="b"/>
            <a:pathLst>
              <a:path w="661" h="435">
                <a:moveTo>
                  <a:pt x="542" y="362"/>
                </a:moveTo>
                <a:lnTo>
                  <a:pt x="555" y="366"/>
                </a:lnTo>
                <a:lnTo>
                  <a:pt x="569" y="369"/>
                </a:lnTo>
                <a:lnTo>
                  <a:pt x="582" y="373"/>
                </a:lnTo>
                <a:lnTo>
                  <a:pt x="594" y="377"/>
                </a:lnTo>
                <a:lnTo>
                  <a:pt x="603" y="381"/>
                </a:lnTo>
                <a:lnTo>
                  <a:pt x="615" y="385"/>
                </a:lnTo>
                <a:lnTo>
                  <a:pt x="622" y="387"/>
                </a:lnTo>
                <a:lnTo>
                  <a:pt x="630" y="390"/>
                </a:lnTo>
                <a:lnTo>
                  <a:pt x="638" y="392"/>
                </a:lnTo>
                <a:lnTo>
                  <a:pt x="643" y="394"/>
                </a:lnTo>
                <a:lnTo>
                  <a:pt x="649" y="396"/>
                </a:lnTo>
                <a:lnTo>
                  <a:pt x="653" y="398"/>
                </a:lnTo>
                <a:lnTo>
                  <a:pt x="657" y="400"/>
                </a:lnTo>
                <a:lnTo>
                  <a:pt x="659" y="402"/>
                </a:lnTo>
                <a:lnTo>
                  <a:pt x="661" y="404"/>
                </a:lnTo>
                <a:lnTo>
                  <a:pt x="659" y="406"/>
                </a:lnTo>
                <a:lnTo>
                  <a:pt x="657" y="406"/>
                </a:lnTo>
                <a:lnTo>
                  <a:pt x="655" y="408"/>
                </a:lnTo>
                <a:lnTo>
                  <a:pt x="651" y="408"/>
                </a:lnTo>
                <a:lnTo>
                  <a:pt x="647" y="410"/>
                </a:lnTo>
                <a:lnTo>
                  <a:pt x="642" y="412"/>
                </a:lnTo>
                <a:lnTo>
                  <a:pt x="636" y="412"/>
                </a:lnTo>
                <a:lnTo>
                  <a:pt x="630" y="413"/>
                </a:lnTo>
                <a:lnTo>
                  <a:pt x="622" y="415"/>
                </a:lnTo>
                <a:lnTo>
                  <a:pt x="615" y="417"/>
                </a:lnTo>
                <a:lnTo>
                  <a:pt x="605" y="417"/>
                </a:lnTo>
                <a:lnTo>
                  <a:pt x="596" y="419"/>
                </a:lnTo>
                <a:lnTo>
                  <a:pt x="584" y="421"/>
                </a:lnTo>
                <a:lnTo>
                  <a:pt x="573" y="421"/>
                </a:lnTo>
                <a:lnTo>
                  <a:pt x="559" y="423"/>
                </a:lnTo>
                <a:lnTo>
                  <a:pt x="546" y="423"/>
                </a:lnTo>
                <a:lnTo>
                  <a:pt x="532" y="425"/>
                </a:lnTo>
                <a:lnTo>
                  <a:pt x="519" y="427"/>
                </a:lnTo>
                <a:lnTo>
                  <a:pt x="508" y="429"/>
                </a:lnTo>
                <a:lnTo>
                  <a:pt x="496" y="429"/>
                </a:lnTo>
                <a:lnTo>
                  <a:pt x="485" y="431"/>
                </a:lnTo>
                <a:lnTo>
                  <a:pt x="473" y="433"/>
                </a:lnTo>
                <a:lnTo>
                  <a:pt x="463" y="433"/>
                </a:lnTo>
                <a:lnTo>
                  <a:pt x="454" y="433"/>
                </a:lnTo>
                <a:lnTo>
                  <a:pt x="444" y="435"/>
                </a:lnTo>
                <a:lnTo>
                  <a:pt x="437" y="435"/>
                </a:lnTo>
                <a:lnTo>
                  <a:pt x="429" y="435"/>
                </a:lnTo>
                <a:lnTo>
                  <a:pt x="421" y="435"/>
                </a:lnTo>
                <a:lnTo>
                  <a:pt x="414" y="435"/>
                </a:lnTo>
                <a:lnTo>
                  <a:pt x="408" y="435"/>
                </a:lnTo>
                <a:lnTo>
                  <a:pt x="402" y="435"/>
                </a:lnTo>
                <a:lnTo>
                  <a:pt x="398" y="433"/>
                </a:lnTo>
                <a:lnTo>
                  <a:pt x="395" y="433"/>
                </a:lnTo>
                <a:lnTo>
                  <a:pt x="391" y="431"/>
                </a:lnTo>
                <a:lnTo>
                  <a:pt x="387" y="429"/>
                </a:lnTo>
                <a:lnTo>
                  <a:pt x="383" y="427"/>
                </a:lnTo>
                <a:lnTo>
                  <a:pt x="377" y="423"/>
                </a:lnTo>
                <a:lnTo>
                  <a:pt x="372" y="419"/>
                </a:lnTo>
                <a:lnTo>
                  <a:pt x="366" y="415"/>
                </a:lnTo>
                <a:lnTo>
                  <a:pt x="358" y="410"/>
                </a:lnTo>
                <a:lnTo>
                  <a:pt x="351" y="402"/>
                </a:lnTo>
                <a:lnTo>
                  <a:pt x="343" y="396"/>
                </a:lnTo>
                <a:lnTo>
                  <a:pt x="333" y="389"/>
                </a:lnTo>
                <a:lnTo>
                  <a:pt x="324" y="379"/>
                </a:lnTo>
                <a:lnTo>
                  <a:pt x="312" y="369"/>
                </a:lnTo>
                <a:lnTo>
                  <a:pt x="303" y="360"/>
                </a:lnTo>
                <a:lnTo>
                  <a:pt x="291" y="348"/>
                </a:lnTo>
                <a:lnTo>
                  <a:pt x="278" y="337"/>
                </a:lnTo>
                <a:lnTo>
                  <a:pt x="266" y="325"/>
                </a:lnTo>
                <a:lnTo>
                  <a:pt x="253" y="312"/>
                </a:lnTo>
                <a:lnTo>
                  <a:pt x="238" y="298"/>
                </a:lnTo>
                <a:lnTo>
                  <a:pt x="224" y="283"/>
                </a:lnTo>
                <a:lnTo>
                  <a:pt x="209" y="268"/>
                </a:lnTo>
                <a:lnTo>
                  <a:pt x="192" y="252"/>
                </a:lnTo>
                <a:lnTo>
                  <a:pt x="176" y="235"/>
                </a:lnTo>
                <a:lnTo>
                  <a:pt x="159" y="218"/>
                </a:lnTo>
                <a:lnTo>
                  <a:pt x="142" y="199"/>
                </a:lnTo>
                <a:lnTo>
                  <a:pt x="123" y="180"/>
                </a:lnTo>
                <a:lnTo>
                  <a:pt x="104" y="161"/>
                </a:lnTo>
                <a:lnTo>
                  <a:pt x="84" y="139"/>
                </a:lnTo>
                <a:lnTo>
                  <a:pt x="65" y="116"/>
                </a:lnTo>
                <a:lnTo>
                  <a:pt x="44" y="95"/>
                </a:lnTo>
                <a:lnTo>
                  <a:pt x="23" y="72"/>
                </a:lnTo>
                <a:lnTo>
                  <a:pt x="0" y="47"/>
                </a:lnTo>
                <a:lnTo>
                  <a:pt x="0" y="0"/>
                </a:lnTo>
                <a:lnTo>
                  <a:pt x="27" y="26"/>
                </a:lnTo>
                <a:lnTo>
                  <a:pt x="54" y="49"/>
                </a:lnTo>
                <a:lnTo>
                  <a:pt x="81" y="72"/>
                </a:lnTo>
                <a:lnTo>
                  <a:pt x="104" y="95"/>
                </a:lnTo>
                <a:lnTo>
                  <a:pt x="128" y="116"/>
                </a:lnTo>
                <a:lnTo>
                  <a:pt x="151" y="136"/>
                </a:lnTo>
                <a:lnTo>
                  <a:pt x="172" y="155"/>
                </a:lnTo>
                <a:lnTo>
                  <a:pt x="194" y="172"/>
                </a:lnTo>
                <a:lnTo>
                  <a:pt x="213" y="187"/>
                </a:lnTo>
                <a:lnTo>
                  <a:pt x="232" y="203"/>
                </a:lnTo>
                <a:lnTo>
                  <a:pt x="249" y="216"/>
                </a:lnTo>
                <a:lnTo>
                  <a:pt x="266" y="228"/>
                </a:lnTo>
                <a:lnTo>
                  <a:pt x="282" y="239"/>
                </a:lnTo>
                <a:lnTo>
                  <a:pt x="297" y="251"/>
                </a:lnTo>
                <a:lnTo>
                  <a:pt x="310" y="258"/>
                </a:lnTo>
                <a:lnTo>
                  <a:pt x="324" y="266"/>
                </a:lnTo>
                <a:lnTo>
                  <a:pt x="349" y="281"/>
                </a:lnTo>
                <a:lnTo>
                  <a:pt x="373" y="297"/>
                </a:lnTo>
                <a:lnTo>
                  <a:pt x="400" y="310"/>
                </a:lnTo>
                <a:lnTo>
                  <a:pt x="427" y="321"/>
                </a:lnTo>
                <a:lnTo>
                  <a:pt x="454" y="333"/>
                </a:lnTo>
                <a:lnTo>
                  <a:pt x="483" y="343"/>
                </a:lnTo>
                <a:lnTo>
                  <a:pt x="511" y="352"/>
                </a:lnTo>
                <a:lnTo>
                  <a:pt x="542" y="36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restart="whenNotActive" nodeType="interactiveSeq" fill="hold">
                <p:stCondLst>
                  <p:cond evt="onClick">
                    <p:tgtEl>
                      <p:spTgt spid="690"/>
                    </p:tgtEl>
                  </p:cond>
                </p:stCondLst>
                <p:childTnLst>
                  <p:par>
                    <p:cTn id="305" fill="hold">
                      <p:stCondLst>
                        <p:cond evt="onClick">
                          <p:tgtEl>
                            <p:spTgt spid="690"/>
                          </p:tgtEl>
                        </p:cond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3000"/>
                            </p:stCondLst>
                            <p:childTnLst>
                              <p:par>
                                <p:cTn id="315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7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4000"/>
                            </p:stCondLst>
                            <p:childTnLst>
                              <p:par>
                                <p:cTn id="3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Picture 4" descr="水5"/>
          <p:cNvPicPr/>
          <p:nvPr/>
        </p:nvPicPr>
        <p:blipFill>
          <a:blip r:embed="rId1"/>
          <a:stretch/>
        </p:blipFill>
        <p:spPr>
          <a:xfrm>
            <a:off x="1084320" y="141120"/>
            <a:ext cx="7910280" cy="602316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7" descr="海水"/>
          <p:cNvPicPr/>
          <p:nvPr/>
        </p:nvPicPr>
        <p:blipFill>
          <a:blip r:embed="rId2"/>
          <a:stretch/>
        </p:blipFill>
        <p:spPr>
          <a:xfrm>
            <a:off x="2071800" y="1552680"/>
            <a:ext cx="7503840" cy="5629320"/>
          </a:xfrm>
          <a:prstGeom prst="rect">
            <a:avLst/>
          </a:prstGeom>
          <a:ln w="0">
            <a:noFill/>
          </a:ln>
        </p:spPr>
      </p:pic>
      <p:pic>
        <p:nvPicPr>
          <p:cNvPr id="697" name="Heaven On Earth 人间天上.mp3" descr=""/>
          <p:cNvPicPr/>
          <p:nvPr/>
        </p:nvPicPr>
        <p:blipFill>
          <a:blip r:embed="rId3"/>
          <a:stretch/>
        </p:blipFill>
        <p:spPr>
          <a:xfrm>
            <a:off x="838836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327" dur="1" fill="hold"/>
                                        <p:tgtEl>
                                          <p:spTgt spid="6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2" dur="5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Picture 9" descr="6741932_180538697000_2"/>
          <p:cNvPicPr/>
          <p:nvPr/>
        </p:nvPicPr>
        <p:blipFill>
          <a:blip r:embed="rId1"/>
          <a:srcRect l="10140" t="0" r="8402" b="12044"/>
          <a:stretch/>
        </p:blipFill>
        <p:spPr>
          <a:xfrm>
            <a:off x="552600" y="1239840"/>
            <a:ext cx="2898720" cy="191628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11" descr="2786001_085152753000_2"/>
          <p:cNvPicPr/>
          <p:nvPr/>
        </p:nvPicPr>
        <p:blipFill>
          <a:blip r:embed="rId2"/>
          <a:srcRect l="0" t="0" r="4050" b="6912"/>
          <a:stretch/>
        </p:blipFill>
        <p:spPr>
          <a:xfrm>
            <a:off x="4643280" y="0"/>
            <a:ext cx="4500720" cy="321300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13" descr="20111262150246884"/>
          <p:cNvPicPr/>
          <p:nvPr/>
        </p:nvPicPr>
        <p:blipFill>
          <a:blip r:embed="rId3"/>
          <a:stretch/>
        </p:blipFill>
        <p:spPr>
          <a:xfrm>
            <a:off x="0" y="3213000"/>
            <a:ext cx="4643280" cy="364500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15" descr="201305181223450034"/>
          <p:cNvPicPr/>
          <p:nvPr/>
        </p:nvPicPr>
        <p:blipFill>
          <a:blip r:embed="rId4"/>
          <a:stretch/>
        </p:blipFill>
        <p:spPr>
          <a:xfrm>
            <a:off x="4643280" y="3213000"/>
            <a:ext cx="4500720" cy="3645000"/>
          </a:xfrm>
          <a:prstGeom prst="rect">
            <a:avLst/>
          </a:prstGeom>
          <a:ln w="0">
            <a:noFill/>
          </a:ln>
        </p:spPr>
      </p:pic>
      <p:sp>
        <p:nvSpPr>
          <p:cNvPr id="702" name="Text Box 6"/>
          <p:cNvSpPr/>
          <p:nvPr/>
        </p:nvSpPr>
        <p:spPr>
          <a:xfrm>
            <a:off x="2700360" y="1989000"/>
            <a:ext cx="3816360" cy="3854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qīng  l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ǜ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青 山 绿 水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qīng   xi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ù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山 清 水 秀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3" name="Text Box 7"/>
          <p:cNvSpPr/>
          <p:nvPr/>
        </p:nvSpPr>
        <p:spPr>
          <a:xfrm>
            <a:off x="8317080" y="652464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地球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4" name="Text Box 17"/>
          <p:cNvSpPr/>
          <p:nvPr/>
        </p:nvSpPr>
        <p:spPr>
          <a:xfrm>
            <a:off x="2195640" y="549360"/>
            <a:ext cx="4967280" cy="825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山山水水好风光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9" dur="2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Text Box 3"/>
          <p:cNvSpPr/>
          <p:nvPr/>
        </p:nvSpPr>
        <p:spPr>
          <a:xfrm>
            <a:off x="8317080" y="652464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火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706" name="Picture 5" descr="4108652_213658222132_2"/>
          <p:cNvPicPr/>
          <p:nvPr/>
        </p:nvPicPr>
        <p:blipFill>
          <a:blip r:embed="rId1"/>
          <a:srcRect l="4277" t="2464" r="2381" b="4224"/>
          <a:stretch/>
        </p:blipFill>
        <p:spPr>
          <a:xfrm>
            <a:off x="1908000" y="404640"/>
            <a:ext cx="54738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图片 5" descr=""/>
          <p:cNvPicPr/>
          <p:nvPr/>
        </p:nvPicPr>
        <p:blipFill>
          <a:blip r:embed="rId1"/>
          <a:stretch/>
        </p:blipFill>
        <p:spPr>
          <a:xfrm>
            <a:off x="6084720" y="0"/>
            <a:ext cx="1717920" cy="273672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9" descr=""/>
          <p:cNvPicPr/>
          <p:nvPr/>
        </p:nvPicPr>
        <p:blipFill>
          <a:blip r:embed="rId2"/>
          <a:srcRect l="7331" t="0" r="0" b="2277"/>
          <a:stretch/>
        </p:blipFill>
        <p:spPr>
          <a:xfrm>
            <a:off x="0" y="0"/>
            <a:ext cx="3305160" cy="367200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5" descr=""/>
          <p:cNvPicPr/>
          <p:nvPr/>
        </p:nvPicPr>
        <p:blipFill>
          <a:blip r:embed="rId3"/>
          <a:srcRect l="5819" t="0" r="0" b="6227"/>
          <a:stretch/>
        </p:blipFill>
        <p:spPr>
          <a:xfrm>
            <a:off x="3203640" y="260280"/>
            <a:ext cx="2303280" cy="1819440"/>
          </a:xfrm>
          <a:prstGeom prst="rect">
            <a:avLst/>
          </a:prstGeom>
          <a:ln w="0">
            <a:noFill/>
          </a:ln>
        </p:spPr>
      </p:pic>
      <p:grpSp>
        <p:nvGrpSpPr>
          <p:cNvPr id="710" name="Group 23"/>
          <p:cNvGrpSpPr/>
          <p:nvPr/>
        </p:nvGrpSpPr>
        <p:grpSpPr>
          <a:xfrm>
            <a:off x="3492360" y="2924280"/>
            <a:ext cx="3240360" cy="4007160"/>
            <a:chOff x="3492360" y="2924280"/>
            <a:chExt cx="3240360" cy="4007160"/>
          </a:xfrm>
        </p:grpSpPr>
        <p:sp>
          <p:nvSpPr>
            <p:cNvPr id="711" name="TextBox 7"/>
            <p:cNvSpPr/>
            <p:nvPr/>
          </p:nvSpPr>
          <p:spPr>
            <a:xfrm>
              <a:off x="4313160" y="2924280"/>
              <a:ext cx="24195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600" spc="-1" strike="noStrike" u="sng">
                  <a:solidFill>
                    <a:srgbClr val="000000"/>
                  </a:solidFill>
                  <a:uFillTx/>
                  <a:latin typeface="方正姚体"/>
                  <a:ea typeface="方正姚体"/>
                </a:rPr>
                <a:t>huǒ </a:t>
              </a:r>
              <a:r>
                <a:rPr b="0" i="1" lang="en-US" sz="5400" spc="-1" strike="noStrike" u="sng">
                  <a:solidFill>
                    <a:srgbClr val="000000"/>
                  </a:solidFill>
                  <a:uFillTx/>
                  <a:latin typeface="方正姚体"/>
                  <a:ea typeface="方正姚体"/>
                </a:rPr>
                <a:t> </a:t>
              </a:r>
              <a:endParaRPr b="0" i="1" lang="en-US" sz="5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712" name="Group 7"/>
            <p:cNvGrpSpPr/>
            <p:nvPr/>
          </p:nvGrpSpPr>
          <p:grpSpPr>
            <a:xfrm>
              <a:off x="3492360" y="4044960"/>
              <a:ext cx="3024360" cy="2813040"/>
              <a:chOff x="3492360" y="4044960"/>
              <a:chExt cx="3024360" cy="2813040"/>
            </a:xfrm>
          </p:grpSpPr>
          <p:sp>
            <p:nvSpPr>
              <p:cNvPr id="713" name="Rectangle 4"/>
              <p:cNvSpPr/>
              <p:nvPr/>
            </p:nvSpPr>
            <p:spPr>
              <a:xfrm>
                <a:off x="3492360" y="4044960"/>
                <a:ext cx="3024360" cy="2813040"/>
              </a:xfrm>
              <a:prstGeom prst="rect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714" name="Line 5"/>
              <p:cNvSpPr/>
              <p:nvPr/>
            </p:nvSpPr>
            <p:spPr>
              <a:xfrm>
                <a:off x="3492360" y="5450760"/>
                <a:ext cx="29786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715" name="Line 6"/>
              <p:cNvSpPr/>
              <p:nvPr/>
            </p:nvSpPr>
            <p:spPr>
              <a:xfrm>
                <a:off x="5004720" y="4044960"/>
                <a:ext cx="0" cy="2813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716" name="Text Box 15"/>
            <p:cNvSpPr/>
            <p:nvPr/>
          </p:nvSpPr>
          <p:spPr>
            <a:xfrm>
              <a:off x="3859200" y="3789360"/>
              <a:ext cx="2368440" cy="31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火</a:t>
              </a:r>
              <a:endParaRPr b="0" i="1" lang="en-US" sz="20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17" name="Freeform 18"/>
          <p:cNvSpPr/>
          <p:nvPr/>
        </p:nvSpPr>
        <p:spPr>
          <a:xfrm>
            <a:off x="4335480" y="5157720"/>
            <a:ext cx="377640" cy="443160"/>
          </a:xfrm>
          <a:custGeom>
            <a:avLst/>
            <a:gdLst/>
            <a:ahLst/>
            <a:rect l="l" t="t" r="r" b="b"/>
            <a:pathLst>
              <a:path w="238" h="279">
                <a:moveTo>
                  <a:pt x="175" y="72"/>
                </a:moveTo>
                <a:lnTo>
                  <a:pt x="190" y="86"/>
                </a:lnTo>
                <a:lnTo>
                  <a:pt x="198" y="93"/>
                </a:lnTo>
                <a:lnTo>
                  <a:pt x="203" y="101"/>
                </a:lnTo>
                <a:lnTo>
                  <a:pt x="209" y="109"/>
                </a:lnTo>
                <a:lnTo>
                  <a:pt x="215" y="117"/>
                </a:lnTo>
                <a:lnTo>
                  <a:pt x="221" y="124"/>
                </a:lnTo>
                <a:lnTo>
                  <a:pt x="224" y="134"/>
                </a:lnTo>
                <a:lnTo>
                  <a:pt x="228" y="141"/>
                </a:lnTo>
                <a:lnTo>
                  <a:pt x="232" y="149"/>
                </a:lnTo>
                <a:lnTo>
                  <a:pt x="234" y="159"/>
                </a:lnTo>
                <a:lnTo>
                  <a:pt x="236" y="166"/>
                </a:lnTo>
                <a:lnTo>
                  <a:pt x="238" y="176"/>
                </a:lnTo>
                <a:lnTo>
                  <a:pt x="238" y="186"/>
                </a:lnTo>
                <a:lnTo>
                  <a:pt x="238" y="195"/>
                </a:lnTo>
                <a:lnTo>
                  <a:pt x="238" y="203"/>
                </a:lnTo>
                <a:lnTo>
                  <a:pt x="236" y="212"/>
                </a:lnTo>
                <a:lnTo>
                  <a:pt x="236" y="222"/>
                </a:lnTo>
                <a:lnTo>
                  <a:pt x="234" y="230"/>
                </a:lnTo>
                <a:lnTo>
                  <a:pt x="232" y="237"/>
                </a:lnTo>
                <a:lnTo>
                  <a:pt x="232" y="243"/>
                </a:lnTo>
                <a:lnTo>
                  <a:pt x="230" y="249"/>
                </a:lnTo>
                <a:lnTo>
                  <a:pt x="228" y="255"/>
                </a:lnTo>
                <a:lnTo>
                  <a:pt x="226" y="260"/>
                </a:lnTo>
                <a:lnTo>
                  <a:pt x="224" y="264"/>
                </a:lnTo>
                <a:lnTo>
                  <a:pt x="223" y="268"/>
                </a:lnTo>
                <a:lnTo>
                  <a:pt x="221" y="272"/>
                </a:lnTo>
                <a:lnTo>
                  <a:pt x="219" y="274"/>
                </a:lnTo>
                <a:lnTo>
                  <a:pt x="215" y="276"/>
                </a:lnTo>
                <a:lnTo>
                  <a:pt x="213" y="278"/>
                </a:lnTo>
                <a:lnTo>
                  <a:pt x="209" y="279"/>
                </a:lnTo>
                <a:lnTo>
                  <a:pt x="207" y="279"/>
                </a:lnTo>
                <a:lnTo>
                  <a:pt x="200" y="278"/>
                </a:lnTo>
                <a:lnTo>
                  <a:pt x="190" y="276"/>
                </a:lnTo>
                <a:lnTo>
                  <a:pt x="180" y="272"/>
                </a:lnTo>
                <a:lnTo>
                  <a:pt x="169" y="264"/>
                </a:lnTo>
                <a:lnTo>
                  <a:pt x="157" y="256"/>
                </a:lnTo>
                <a:lnTo>
                  <a:pt x="146" y="247"/>
                </a:lnTo>
                <a:lnTo>
                  <a:pt x="132" y="235"/>
                </a:lnTo>
                <a:lnTo>
                  <a:pt x="119" y="222"/>
                </a:lnTo>
                <a:lnTo>
                  <a:pt x="104" y="209"/>
                </a:lnTo>
                <a:lnTo>
                  <a:pt x="88" y="193"/>
                </a:lnTo>
                <a:lnTo>
                  <a:pt x="75" y="180"/>
                </a:lnTo>
                <a:lnTo>
                  <a:pt x="63" y="164"/>
                </a:lnTo>
                <a:lnTo>
                  <a:pt x="52" y="151"/>
                </a:lnTo>
                <a:lnTo>
                  <a:pt x="42" y="136"/>
                </a:lnTo>
                <a:lnTo>
                  <a:pt x="33" y="118"/>
                </a:lnTo>
                <a:lnTo>
                  <a:pt x="27" y="103"/>
                </a:lnTo>
                <a:lnTo>
                  <a:pt x="19" y="88"/>
                </a:lnTo>
                <a:lnTo>
                  <a:pt x="14" y="72"/>
                </a:lnTo>
                <a:lnTo>
                  <a:pt x="8" y="61"/>
                </a:lnTo>
                <a:lnTo>
                  <a:pt x="4" y="49"/>
                </a:lnTo>
                <a:lnTo>
                  <a:pt x="2" y="40"/>
                </a:lnTo>
                <a:lnTo>
                  <a:pt x="0" y="30"/>
                </a:lnTo>
                <a:lnTo>
                  <a:pt x="0" y="23"/>
                </a:lnTo>
                <a:lnTo>
                  <a:pt x="2" y="15"/>
                </a:lnTo>
                <a:lnTo>
                  <a:pt x="2" y="11"/>
                </a:lnTo>
                <a:lnTo>
                  <a:pt x="4" y="7"/>
                </a:lnTo>
                <a:lnTo>
                  <a:pt x="10" y="3"/>
                </a:lnTo>
                <a:lnTo>
                  <a:pt x="14" y="1"/>
                </a:lnTo>
                <a:lnTo>
                  <a:pt x="21" y="0"/>
                </a:lnTo>
                <a:lnTo>
                  <a:pt x="31" y="0"/>
                </a:lnTo>
                <a:lnTo>
                  <a:pt x="40" y="1"/>
                </a:lnTo>
                <a:lnTo>
                  <a:pt x="52" y="1"/>
                </a:lnTo>
                <a:lnTo>
                  <a:pt x="63" y="5"/>
                </a:lnTo>
                <a:lnTo>
                  <a:pt x="77" y="9"/>
                </a:lnTo>
                <a:lnTo>
                  <a:pt x="90" y="15"/>
                </a:lnTo>
                <a:lnTo>
                  <a:pt x="106" y="23"/>
                </a:lnTo>
                <a:lnTo>
                  <a:pt x="115" y="26"/>
                </a:lnTo>
                <a:lnTo>
                  <a:pt x="123" y="32"/>
                </a:lnTo>
                <a:lnTo>
                  <a:pt x="131" y="38"/>
                </a:lnTo>
                <a:lnTo>
                  <a:pt x="140" y="44"/>
                </a:lnTo>
                <a:lnTo>
                  <a:pt x="148" y="49"/>
                </a:lnTo>
                <a:lnTo>
                  <a:pt x="157" y="55"/>
                </a:lnTo>
                <a:lnTo>
                  <a:pt x="167" y="63"/>
                </a:lnTo>
                <a:lnTo>
                  <a:pt x="175" y="72"/>
                </a:lnTo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8" name="Freeform 19"/>
          <p:cNvSpPr/>
          <p:nvPr/>
        </p:nvSpPr>
        <p:spPr>
          <a:xfrm>
            <a:off x="5146560" y="4869000"/>
            <a:ext cx="681120" cy="514080"/>
          </a:xfrm>
          <a:custGeom>
            <a:avLst/>
            <a:gdLst/>
            <a:ahLst/>
            <a:rect l="l" t="t" r="r" b="b"/>
            <a:pathLst>
              <a:path w="429" h="324">
                <a:moveTo>
                  <a:pt x="119" y="295"/>
                </a:moveTo>
                <a:lnTo>
                  <a:pt x="105" y="301"/>
                </a:lnTo>
                <a:lnTo>
                  <a:pt x="94" y="307"/>
                </a:lnTo>
                <a:lnTo>
                  <a:pt x="80" y="310"/>
                </a:lnTo>
                <a:lnTo>
                  <a:pt x="71" y="314"/>
                </a:lnTo>
                <a:lnTo>
                  <a:pt x="59" y="318"/>
                </a:lnTo>
                <a:lnTo>
                  <a:pt x="52" y="320"/>
                </a:lnTo>
                <a:lnTo>
                  <a:pt x="42" y="322"/>
                </a:lnTo>
                <a:lnTo>
                  <a:pt x="34" y="324"/>
                </a:lnTo>
                <a:lnTo>
                  <a:pt x="29" y="324"/>
                </a:lnTo>
                <a:lnTo>
                  <a:pt x="21" y="324"/>
                </a:lnTo>
                <a:lnTo>
                  <a:pt x="17" y="324"/>
                </a:lnTo>
                <a:lnTo>
                  <a:pt x="11" y="324"/>
                </a:lnTo>
                <a:lnTo>
                  <a:pt x="8" y="322"/>
                </a:lnTo>
                <a:lnTo>
                  <a:pt x="6" y="320"/>
                </a:lnTo>
                <a:lnTo>
                  <a:pt x="4" y="316"/>
                </a:lnTo>
                <a:lnTo>
                  <a:pt x="2" y="314"/>
                </a:lnTo>
                <a:lnTo>
                  <a:pt x="0" y="310"/>
                </a:lnTo>
                <a:lnTo>
                  <a:pt x="0" y="307"/>
                </a:lnTo>
                <a:lnTo>
                  <a:pt x="2" y="303"/>
                </a:lnTo>
                <a:lnTo>
                  <a:pt x="4" y="299"/>
                </a:lnTo>
                <a:lnTo>
                  <a:pt x="6" y="293"/>
                </a:lnTo>
                <a:lnTo>
                  <a:pt x="9" y="289"/>
                </a:lnTo>
                <a:lnTo>
                  <a:pt x="13" y="285"/>
                </a:lnTo>
                <a:lnTo>
                  <a:pt x="19" y="280"/>
                </a:lnTo>
                <a:lnTo>
                  <a:pt x="25" y="274"/>
                </a:lnTo>
                <a:lnTo>
                  <a:pt x="32" y="268"/>
                </a:lnTo>
                <a:lnTo>
                  <a:pt x="40" y="262"/>
                </a:lnTo>
                <a:lnTo>
                  <a:pt x="48" y="255"/>
                </a:lnTo>
                <a:lnTo>
                  <a:pt x="57" y="249"/>
                </a:lnTo>
                <a:lnTo>
                  <a:pt x="67" y="241"/>
                </a:lnTo>
                <a:lnTo>
                  <a:pt x="77" y="234"/>
                </a:lnTo>
                <a:lnTo>
                  <a:pt x="88" y="226"/>
                </a:lnTo>
                <a:lnTo>
                  <a:pt x="111" y="211"/>
                </a:lnTo>
                <a:lnTo>
                  <a:pt x="132" y="197"/>
                </a:lnTo>
                <a:lnTo>
                  <a:pt x="153" y="184"/>
                </a:lnTo>
                <a:lnTo>
                  <a:pt x="171" y="170"/>
                </a:lnTo>
                <a:lnTo>
                  <a:pt x="190" y="157"/>
                </a:lnTo>
                <a:lnTo>
                  <a:pt x="205" y="144"/>
                </a:lnTo>
                <a:lnTo>
                  <a:pt x="218" y="130"/>
                </a:lnTo>
                <a:lnTo>
                  <a:pt x="232" y="119"/>
                </a:lnTo>
                <a:lnTo>
                  <a:pt x="241" y="107"/>
                </a:lnTo>
                <a:lnTo>
                  <a:pt x="251" y="96"/>
                </a:lnTo>
                <a:lnTo>
                  <a:pt x="259" y="86"/>
                </a:lnTo>
                <a:lnTo>
                  <a:pt x="264" y="75"/>
                </a:lnTo>
                <a:lnTo>
                  <a:pt x="268" y="65"/>
                </a:lnTo>
                <a:lnTo>
                  <a:pt x="270" y="55"/>
                </a:lnTo>
                <a:lnTo>
                  <a:pt x="270" y="46"/>
                </a:lnTo>
                <a:lnTo>
                  <a:pt x="268" y="36"/>
                </a:lnTo>
                <a:lnTo>
                  <a:pt x="266" y="29"/>
                </a:lnTo>
                <a:lnTo>
                  <a:pt x="266" y="21"/>
                </a:lnTo>
                <a:lnTo>
                  <a:pt x="268" y="13"/>
                </a:lnTo>
                <a:lnTo>
                  <a:pt x="272" y="9"/>
                </a:lnTo>
                <a:lnTo>
                  <a:pt x="276" y="6"/>
                </a:lnTo>
                <a:lnTo>
                  <a:pt x="282" y="2"/>
                </a:lnTo>
                <a:lnTo>
                  <a:pt x="287" y="0"/>
                </a:lnTo>
                <a:lnTo>
                  <a:pt x="293" y="0"/>
                </a:lnTo>
                <a:lnTo>
                  <a:pt x="301" y="0"/>
                </a:lnTo>
                <a:lnTo>
                  <a:pt x="310" y="2"/>
                </a:lnTo>
                <a:lnTo>
                  <a:pt x="320" y="6"/>
                </a:lnTo>
                <a:lnTo>
                  <a:pt x="330" y="9"/>
                </a:lnTo>
                <a:lnTo>
                  <a:pt x="341" y="15"/>
                </a:lnTo>
                <a:lnTo>
                  <a:pt x="355" y="23"/>
                </a:lnTo>
                <a:lnTo>
                  <a:pt x="366" y="32"/>
                </a:lnTo>
                <a:lnTo>
                  <a:pt x="380" y="44"/>
                </a:lnTo>
                <a:lnTo>
                  <a:pt x="391" y="55"/>
                </a:lnTo>
                <a:lnTo>
                  <a:pt x="401" y="65"/>
                </a:lnTo>
                <a:lnTo>
                  <a:pt x="410" y="76"/>
                </a:lnTo>
                <a:lnTo>
                  <a:pt x="416" y="86"/>
                </a:lnTo>
                <a:lnTo>
                  <a:pt x="422" y="96"/>
                </a:lnTo>
                <a:lnTo>
                  <a:pt x="427" y="103"/>
                </a:lnTo>
                <a:lnTo>
                  <a:pt x="429" y="111"/>
                </a:lnTo>
                <a:lnTo>
                  <a:pt x="429" y="119"/>
                </a:lnTo>
                <a:lnTo>
                  <a:pt x="429" y="123"/>
                </a:lnTo>
                <a:lnTo>
                  <a:pt x="429" y="126"/>
                </a:lnTo>
                <a:lnTo>
                  <a:pt x="427" y="130"/>
                </a:lnTo>
                <a:lnTo>
                  <a:pt x="424" y="134"/>
                </a:lnTo>
                <a:lnTo>
                  <a:pt x="422" y="138"/>
                </a:lnTo>
                <a:lnTo>
                  <a:pt x="418" y="142"/>
                </a:lnTo>
                <a:lnTo>
                  <a:pt x="412" y="147"/>
                </a:lnTo>
                <a:lnTo>
                  <a:pt x="406" y="151"/>
                </a:lnTo>
                <a:lnTo>
                  <a:pt x="401" y="157"/>
                </a:lnTo>
                <a:lnTo>
                  <a:pt x="393" y="161"/>
                </a:lnTo>
                <a:lnTo>
                  <a:pt x="385" y="167"/>
                </a:lnTo>
                <a:lnTo>
                  <a:pt x="378" y="172"/>
                </a:lnTo>
                <a:lnTo>
                  <a:pt x="368" y="176"/>
                </a:lnTo>
                <a:lnTo>
                  <a:pt x="358" y="182"/>
                </a:lnTo>
                <a:lnTo>
                  <a:pt x="349" y="188"/>
                </a:lnTo>
                <a:lnTo>
                  <a:pt x="337" y="193"/>
                </a:lnTo>
                <a:lnTo>
                  <a:pt x="286" y="218"/>
                </a:lnTo>
                <a:lnTo>
                  <a:pt x="259" y="232"/>
                </a:lnTo>
                <a:lnTo>
                  <a:pt x="232" y="245"/>
                </a:lnTo>
                <a:lnTo>
                  <a:pt x="205" y="257"/>
                </a:lnTo>
                <a:lnTo>
                  <a:pt x="178" y="270"/>
                </a:lnTo>
                <a:lnTo>
                  <a:pt x="149" y="284"/>
                </a:lnTo>
                <a:lnTo>
                  <a:pt x="119" y="295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9" name="Freeform 20"/>
          <p:cNvSpPr/>
          <p:nvPr/>
        </p:nvSpPr>
        <p:spPr>
          <a:xfrm>
            <a:off x="4137120" y="4476600"/>
            <a:ext cx="985680" cy="2048040"/>
          </a:xfrm>
          <a:custGeom>
            <a:avLst/>
            <a:gdLst/>
            <a:ahLst/>
            <a:rect l="l" t="t" r="r" b="b"/>
            <a:pathLst>
              <a:path w="621" h="1290">
                <a:moveTo>
                  <a:pt x="548" y="794"/>
                </a:moveTo>
                <a:lnTo>
                  <a:pt x="542" y="815"/>
                </a:lnTo>
                <a:lnTo>
                  <a:pt x="535" y="838"/>
                </a:lnTo>
                <a:lnTo>
                  <a:pt x="527" y="859"/>
                </a:lnTo>
                <a:lnTo>
                  <a:pt x="519" y="880"/>
                </a:lnTo>
                <a:lnTo>
                  <a:pt x="510" y="899"/>
                </a:lnTo>
                <a:lnTo>
                  <a:pt x="500" y="920"/>
                </a:lnTo>
                <a:lnTo>
                  <a:pt x="489" y="939"/>
                </a:lnTo>
                <a:lnTo>
                  <a:pt x="477" y="958"/>
                </a:lnTo>
                <a:lnTo>
                  <a:pt x="466" y="978"/>
                </a:lnTo>
                <a:lnTo>
                  <a:pt x="452" y="997"/>
                </a:lnTo>
                <a:lnTo>
                  <a:pt x="439" y="1014"/>
                </a:lnTo>
                <a:lnTo>
                  <a:pt x="425" y="1033"/>
                </a:lnTo>
                <a:lnTo>
                  <a:pt x="410" y="1050"/>
                </a:lnTo>
                <a:lnTo>
                  <a:pt x="395" y="1068"/>
                </a:lnTo>
                <a:lnTo>
                  <a:pt x="377" y="1085"/>
                </a:lnTo>
                <a:lnTo>
                  <a:pt x="362" y="1102"/>
                </a:lnTo>
                <a:lnTo>
                  <a:pt x="345" y="1118"/>
                </a:lnTo>
                <a:lnTo>
                  <a:pt x="328" y="1133"/>
                </a:lnTo>
                <a:lnTo>
                  <a:pt x="310" y="1148"/>
                </a:lnTo>
                <a:lnTo>
                  <a:pt x="293" y="1162"/>
                </a:lnTo>
                <a:lnTo>
                  <a:pt x="278" y="1175"/>
                </a:lnTo>
                <a:lnTo>
                  <a:pt x="262" y="1187"/>
                </a:lnTo>
                <a:lnTo>
                  <a:pt x="247" y="1198"/>
                </a:lnTo>
                <a:lnTo>
                  <a:pt x="232" y="1210"/>
                </a:lnTo>
                <a:lnTo>
                  <a:pt x="216" y="1219"/>
                </a:lnTo>
                <a:lnTo>
                  <a:pt x="201" y="1229"/>
                </a:lnTo>
                <a:lnTo>
                  <a:pt x="186" y="1238"/>
                </a:lnTo>
                <a:lnTo>
                  <a:pt x="172" y="1246"/>
                </a:lnTo>
                <a:lnTo>
                  <a:pt x="159" y="1254"/>
                </a:lnTo>
                <a:lnTo>
                  <a:pt x="145" y="1259"/>
                </a:lnTo>
                <a:lnTo>
                  <a:pt x="132" y="1265"/>
                </a:lnTo>
                <a:lnTo>
                  <a:pt x="119" y="1271"/>
                </a:lnTo>
                <a:lnTo>
                  <a:pt x="105" y="1275"/>
                </a:lnTo>
                <a:lnTo>
                  <a:pt x="94" y="1279"/>
                </a:lnTo>
                <a:lnTo>
                  <a:pt x="82" y="1281"/>
                </a:lnTo>
                <a:lnTo>
                  <a:pt x="73" y="1282"/>
                </a:lnTo>
                <a:lnTo>
                  <a:pt x="63" y="1284"/>
                </a:lnTo>
                <a:lnTo>
                  <a:pt x="53" y="1286"/>
                </a:lnTo>
                <a:lnTo>
                  <a:pt x="44" y="1288"/>
                </a:lnTo>
                <a:lnTo>
                  <a:pt x="36" y="1290"/>
                </a:lnTo>
                <a:lnTo>
                  <a:pt x="28" y="1290"/>
                </a:lnTo>
                <a:lnTo>
                  <a:pt x="23" y="1290"/>
                </a:lnTo>
                <a:lnTo>
                  <a:pt x="17" y="1290"/>
                </a:lnTo>
                <a:lnTo>
                  <a:pt x="11" y="1290"/>
                </a:lnTo>
                <a:lnTo>
                  <a:pt x="7" y="1288"/>
                </a:lnTo>
                <a:lnTo>
                  <a:pt x="5" y="1288"/>
                </a:lnTo>
                <a:lnTo>
                  <a:pt x="2" y="1286"/>
                </a:lnTo>
                <a:lnTo>
                  <a:pt x="0" y="1284"/>
                </a:lnTo>
                <a:lnTo>
                  <a:pt x="0" y="1281"/>
                </a:lnTo>
                <a:lnTo>
                  <a:pt x="0" y="1279"/>
                </a:lnTo>
                <a:lnTo>
                  <a:pt x="0" y="1275"/>
                </a:lnTo>
                <a:lnTo>
                  <a:pt x="2" y="1273"/>
                </a:lnTo>
                <a:lnTo>
                  <a:pt x="2" y="1269"/>
                </a:lnTo>
                <a:lnTo>
                  <a:pt x="5" y="1265"/>
                </a:lnTo>
                <a:lnTo>
                  <a:pt x="7" y="1261"/>
                </a:lnTo>
                <a:lnTo>
                  <a:pt x="11" y="1256"/>
                </a:lnTo>
                <a:lnTo>
                  <a:pt x="17" y="1252"/>
                </a:lnTo>
                <a:lnTo>
                  <a:pt x="21" y="1248"/>
                </a:lnTo>
                <a:lnTo>
                  <a:pt x="27" y="1242"/>
                </a:lnTo>
                <a:lnTo>
                  <a:pt x="34" y="1236"/>
                </a:lnTo>
                <a:lnTo>
                  <a:pt x="42" y="1231"/>
                </a:lnTo>
                <a:lnTo>
                  <a:pt x="50" y="1227"/>
                </a:lnTo>
                <a:lnTo>
                  <a:pt x="59" y="1221"/>
                </a:lnTo>
                <a:lnTo>
                  <a:pt x="69" y="1215"/>
                </a:lnTo>
                <a:lnTo>
                  <a:pt x="88" y="1202"/>
                </a:lnTo>
                <a:lnTo>
                  <a:pt x="107" y="1190"/>
                </a:lnTo>
                <a:lnTo>
                  <a:pt x="124" y="1177"/>
                </a:lnTo>
                <a:lnTo>
                  <a:pt x="143" y="1162"/>
                </a:lnTo>
                <a:lnTo>
                  <a:pt x="165" y="1146"/>
                </a:lnTo>
                <a:lnTo>
                  <a:pt x="184" y="1131"/>
                </a:lnTo>
                <a:lnTo>
                  <a:pt x="203" y="1114"/>
                </a:lnTo>
                <a:lnTo>
                  <a:pt x="224" y="1095"/>
                </a:lnTo>
                <a:lnTo>
                  <a:pt x="245" y="1075"/>
                </a:lnTo>
                <a:lnTo>
                  <a:pt x="264" y="1054"/>
                </a:lnTo>
                <a:lnTo>
                  <a:pt x="285" y="1033"/>
                </a:lnTo>
                <a:lnTo>
                  <a:pt x="305" y="1010"/>
                </a:lnTo>
                <a:lnTo>
                  <a:pt x="322" y="985"/>
                </a:lnTo>
                <a:lnTo>
                  <a:pt x="339" y="958"/>
                </a:lnTo>
                <a:lnTo>
                  <a:pt x="356" y="930"/>
                </a:lnTo>
                <a:lnTo>
                  <a:pt x="374" y="901"/>
                </a:lnTo>
                <a:lnTo>
                  <a:pt x="381" y="886"/>
                </a:lnTo>
                <a:lnTo>
                  <a:pt x="389" y="870"/>
                </a:lnTo>
                <a:lnTo>
                  <a:pt x="397" y="855"/>
                </a:lnTo>
                <a:lnTo>
                  <a:pt x="402" y="840"/>
                </a:lnTo>
                <a:lnTo>
                  <a:pt x="410" y="822"/>
                </a:lnTo>
                <a:lnTo>
                  <a:pt x="416" y="805"/>
                </a:lnTo>
                <a:lnTo>
                  <a:pt x="421" y="786"/>
                </a:lnTo>
                <a:lnTo>
                  <a:pt x="425" y="769"/>
                </a:lnTo>
                <a:lnTo>
                  <a:pt x="431" y="749"/>
                </a:lnTo>
                <a:lnTo>
                  <a:pt x="437" y="728"/>
                </a:lnTo>
                <a:lnTo>
                  <a:pt x="441" y="709"/>
                </a:lnTo>
                <a:lnTo>
                  <a:pt x="444" y="688"/>
                </a:lnTo>
                <a:lnTo>
                  <a:pt x="450" y="667"/>
                </a:lnTo>
                <a:lnTo>
                  <a:pt x="454" y="644"/>
                </a:lnTo>
                <a:lnTo>
                  <a:pt x="458" y="621"/>
                </a:lnTo>
                <a:lnTo>
                  <a:pt x="460" y="598"/>
                </a:lnTo>
                <a:lnTo>
                  <a:pt x="466" y="552"/>
                </a:lnTo>
                <a:lnTo>
                  <a:pt x="469" y="506"/>
                </a:lnTo>
                <a:lnTo>
                  <a:pt x="471" y="460"/>
                </a:lnTo>
                <a:lnTo>
                  <a:pt x="475" y="416"/>
                </a:lnTo>
                <a:lnTo>
                  <a:pt x="477" y="372"/>
                </a:lnTo>
                <a:lnTo>
                  <a:pt x="477" y="329"/>
                </a:lnTo>
                <a:lnTo>
                  <a:pt x="479" y="287"/>
                </a:lnTo>
                <a:lnTo>
                  <a:pt x="479" y="247"/>
                </a:lnTo>
                <a:lnTo>
                  <a:pt x="479" y="226"/>
                </a:lnTo>
                <a:lnTo>
                  <a:pt x="479" y="209"/>
                </a:lnTo>
                <a:lnTo>
                  <a:pt x="479" y="191"/>
                </a:lnTo>
                <a:lnTo>
                  <a:pt x="477" y="174"/>
                </a:lnTo>
                <a:lnTo>
                  <a:pt x="477" y="159"/>
                </a:lnTo>
                <a:lnTo>
                  <a:pt x="477" y="143"/>
                </a:lnTo>
                <a:lnTo>
                  <a:pt x="475" y="132"/>
                </a:lnTo>
                <a:lnTo>
                  <a:pt x="473" y="119"/>
                </a:lnTo>
                <a:lnTo>
                  <a:pt x="471" y="107"/>
                </a:lnTo>
                <a:lnTo>
                  <a:pt x="469" y="97"/>
                </a:lnTo>
                <a:lnTo>
                  <a:pt x="468" y="88"/>
                </a:lnTo>
                <a:lnTo>
                  <a:pt x="466" y="80"/>
                </a:lnTo>
                <a:lnTo>
                  <a:pt x="464" y="73"/>
                </a:lnTo>
                <a:lnTo>
                  <a:pt x="460" y="67"/>
                </a:lnTo>
                <a:lnTo>
                  <a:pt x="458" y="61"/>
                </a:lnTo>
                <a:lnTo>
                  <a:pt x="454" y="57"/>
                </a:lnTo>
                <a:lnTo>
                  <a:pt x="448" y="51"/>
                </a:lnTo>
                <a:lnTo>
                  <a:pt x="444" y="44"/>
                </a:lnTo>
                <a:lnTo>
                  <a:pt x="441" y="38"/>
                </a:lnTo>
                <a:lnTo>
                  <a:pt x="441" y="32"/>
                </a:lnTo>
                <a:lnTo>
                  <a:pt x="441" y="27"/>
                </a:lnTo>
                <a:lnTo>
                  <a:pt x="444" y="21"/>
                </a:lnTo>
                <a:lnTo>
                  <a:pt x="448" y="13"/>
                </a:lnTo>
                <a:lnTo>
                  <a:pt x="454" y="7"/>
                </a:lnTo>
                <a:lnTo>
                  <a:pt x="462" y="4"/>
                </a:lnTo>
                <a:lnTo>
                  <a:pt x="471" y="2"/>
                </a:lnTo>
                <a:lnTo>
                  <a:pt x="481" y="0"/>
                </a:lnTo>
                <a:lnTo>
                  <a:pt x="492" y="2"/>
                </a:lnTo>
                <a:lnTo>
                  <a:pt x="504" y="4"/>
                </a:lnTo>
                <a:lnTo>
                  <a:pt x="517" y="7"/>
                </a:lnTo>
                <a:lnTo>
                  <a:pt x="533" y="13"/>
                </a:lnTo>
                <a:lnTo>
                  <a:pt x="548" y="19"/>
                </a:lnTo>
                <a:lnTo>
                  <a:pt x="556" y="25"/>
                </a:lnTo>
                <a:lnTo>
                  <a:pt x="563" y="28"/>
                </a:lnTo>
                <a:lnTo>
                  <a:pt x="569" y="34"/>
                </a:lnTo>
                <a:lnTo>
                  <a:pt x="575" y="38"/>
                </a:lnTo>
                <a:lnTo>
                  <a:pt x="581" y="42"/>
                </a:lnTo>
                <a:lnTo>
                  <a:pt x="586" y="46"/>
                </a:lnTo>
                <a:lnTo>
                  <a:pt x="596" y="53"/>
                </a:lnTo>
                <a:lnTo>
                  <a:pt x="604" y="61"/>
                </a:lnTo>
                <a:lnTo>
                  <a:pt x="609" y="69"/>
                </a:lnTo>
                <a:lnTo>
                  <a:pt x="613" y="76"/>
                </a:lnTo>
                <a:lnTo>
                  <a:pt x="615" y="82"/>
                </a:lnTo>
                <a:lnTo>
                  <a:pt x="619" y="90"/>
                </a:lnTo>
                <a:lnTo>
                  <a:pt x="619" y="99"/>
                </a:lnTo>
                <a:lnTo>
                  <a:pt x="621" y="111"/>
                </a:lnTo>
                <a:lnTo>
                  <a:pt x="621" y="124"/>
                </a:lnTo>
                <a:lnTo>
                  <a:pt x="621" y="138"/>
                </a:lnTo>
                <a:lnTo>
                  <a:pt x="619" y="155"/>
                </a:lnTo>
                <a:lnTo>
                  <a:pt x="619" y="170"/>
                </a:lnTo>
                <a:lnTo>
                  <a:pt x="615" y="190"/>
                </a:lnTo>
                <a:lnTo>
                  <a:pt x="615" y="199"/>
                </a:lnTo>
                <a:lnTo>
                  <a:pt x="613" y="211"/>
                </a:lnTo>
                <a:lnTo>
                  <a:pt x="613" y="220"/>
                </a:lnTo>
                <a:lnTo>
                  <a:pt x="613" y="234"/>
                </a:lnTo>
                <a:lnTo>
                  <a:pt x="611" y="245"/>
                </a:lnTo>
                <a:lnTo>
                  <a:pt x="611" y="259"/>
                </a:lnTo>
                <a:lnTo>
                  <a:pt x="611" y="274"/>
                </a:lnTo>
                <a:lnTo>
                  <a:pt x="609" y="289"/>
                </a:lnTo>
                <a:lnTo>
                  <a:pt x="609" y="305"/>
                </a:lnTo>
                <a:lnTo>
                  <a:pt x="609" y="320"/>
                </a:lnTo>
                <a:lnTo>
                  <a:pt x="607" y="337"/>
                </a:lnTo>
                <a:lnTo>
                  <a:pt x="607" y="356"/>
                </a:lnTo>
                <a:lnTo>
                  <a:pt x="606" y="374"/>
                </a:lnTo>
                <a:lnTo>
                  <a:pt x="606" y="395"/>
                </a:lnTo>
                <a:lnTo>
                  <a:pt x="606" y="414"/>
                </a:lnTo>
                <a:lnTo>
                  <a:pt x="604" y="435"/>
                </a:lnTo>
                <a:lnTo>
                  <a:pt x="600" y="479"/>
                </a:lnTo>
                <a:lnTo>
                  <a:pt x="596" y="525"/>
                </a:lnTo>
                <a:lnTo>
                  <a:pt x="592" y="569"/>
                </a:lnTo>
                <a:lnTo>
                  <a:pt x="584" y="613"/>
                </a:lnTo>
                <a:lnTo>
                  <a:pt x="577" y="659"/>
                </a:lnTo>
                <a:lnTo>
                  <a:pt x="569" y="703"/>
                </a:lnTo>
                <a:lnTo>
                  <a:pt x="558" y="747"/>
                </a:lnTo>
                <a:lnTo>
                  <a:pt x="548" y="794"/>
                </a:lnTo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20" name="Freeform 21"/>
          <p:cNvSpPr/>
          <p:nvPr/>
        </p:nvSpPr>
        <p:spPr>
          <a:xfrm>
            <a:off x="4929120" y="5373720"/>
            <a:ext cx="1443240" cy="1150920"/>
          </a:xfrm>
          <a:custGeom>
            <a:avLst/>
            <a:gdLst/>
            <a:ahLst/>
            <a:rect l="l" t="t" r="r" b="b"/>
            <a:pathLst>
              <a:path w="909" h="710">
                <a:moveTo>
                  <a:pt x="634" y="710"/>
                </a:moveTo>
                <a:lnTo>
                  <a:pt x="617" y="710"/>
                </a:lnTo>
                <a:lnTo>
                  <a:pt x="600" y="710"/>
                </a:lnTo>
                <a:lnTo>
                  <a:pt x="585" y="710"/>
                </a:lnTo>
                <a:lnTo>
                  <a:pt x="569" y="710"/>
                </a:lnTo>
                <a:lnTo>
                  <a:pt x="556" y="710"/>
                </a:lnTo>
                <a:lnTo>
                  <a:pt x="544" y="708"/>
                </a:lnTo>
                <a:lnTo>
                  <a:pt x="533" y="706"/>
                </a:lnTo>
                <a:lnTo>
                  <a:pt x="523" y="704"/>
                </a:lnTo>
                <a:lnTo>
                  <a:pt x="517" y="702"/>
                </a:lnTo>
                <a:lnTo>
                  <a:pt x="510" y="700"/>
                </a:lnTo>
                <a:lnTo>
                  <a:pt x="502" y="696"/>
                </a:lnTo>
                <a:lnTo>
                  <a:pt x="494" y="690"/>
                </a:lnTo>
                <a:lnTo>
                  <a:pt x="487" y="685"/>
                </a:lnTo>
                <a:lnTo>
                  <a:pt x="477" y="677"/>
                </a:lnTo>
                <a:lnTo>
                  <a:pt x="468" y="667"/>
                </a:lnTo>
                <a:lnTo>
                  <a:pt x="456" y="658"/>
                </a:lnTo>
                <a:lnTo>
                  <a:pt x="446" y="646"/>
                </a:lnTo>
                <a:lnTo>
                  <a:pt x="435" y="635"/>
                </a:lnTo>
                <a:lnTo>
                  <a:pt x="423" y="621"/>
                </a:lnTo>
                <a:lnTo>
                  <a:pt x="410" y="608"/>
                </a:lnTo>
                <a:lnTo>
                  <a:pt x="397" y="593"/>
                </a:lnTo>
                <a:lnTo>
                  <a:pt x="383" y="577"/>
                </a:lnTo>
                <a:lnTo>
                  <a:pt x="370" y="560"/>
                </a:lnTo>
                <a:lnTo>
                  <a:pt x="354" y="541"/>
                </a:lnTo>
                <a:lnTo>
                  <a:pt x="339" y="522"/>
                </a:lnTo>
                <a:lnTo>
                  <a:pt x="324" y="503"/>
                </a:lnTo>
                <a:lnTo>
                  <a:pt x="307" y="481"/>
                </a:lnTo>
                <a:lnTo>
                  <a:pt x="287" y="460"/>
                </a:lnTo>
                <a:lnTo>
                  <a:pt x="268" y="437"/>
                </a:lnTo>
                <a:lnTo>
                  <a:pt x="249" y="414"/>
                </a:lnTo>
                <a:lnTo>
                  <a:pt x="228" y="389"/>
                </a:lnTo>
                <a:lnTo>
                  <a:pt x="205" y="363"/>
                </a:lnTo>
                <a:lnTo>
                  <a:pt x="182" y="336"/>
                </a:lnTo>
                <a:lnTo>
                  <a:pt x="159" y="307"/>
                </a:lnTo>
                <a:lnTo>
                  <a:pt x="134" y="278"/>
                </a:lnTo>
                <a:lnTo>
                  <a:pt x="109" y="248"/>
                </a:lnTo>
                <a:lnTo>
                  <a:pt x="84" y="215"/>
                </a:lnTo>
                <a:lnTo>
                  <a:pt x="57" y="182"/>
                </a:lnTo>
                <a:lnTo>
                  <a:pt x="29" y="148"/>
                </a:lnTo>
                <a:lnTo>
                  <a:pt x="0" y="113"/>
                </a:lnTo>
                <a:lnTo>
                  <a:pt x="9" y="56"/>
                </a:lnTo>
                <a:lnTo>
                  <a:pt x="19" y="0"/>
                </a:lnTo>
                <a:lnTo>
                  <a:pt x="61" y="48"/>
                </a:lnTo>
                <a:lnTo>
                  <a:pt x="103" y="94"/>
                </a:lnTo>
                <a:lnTo>
                  <a:pt x="145" y="142"/>
                </a:lnTo>
                <a:lnTo>
                  <a:pt x="188" y="188"/>
                </a:lnTo>
                <a:lnTo>
                  <a:pt x="197" y="202"/>
                </a:lnTo>
                <a:lnTo>
                  <a:pt x="209" y="215"/>
                </a:lnTo>
                <a:lnTo>
                  <a:pt x="220" y="228"/>
                </a:lnTo>
                <a:lnTo>
                  <a:pt x="234" y="240"/>
                </a:lnTo>
                <a:lnTo>
                  <a:pt x="247" y="253"/>
                </a:lnTo>
                <a:lnTo>
                  <a:pt x="261" y="267"/>
                </a:lnTo>
                <a:lnTo>
                  <a:pt x="274" y="280"/>
                </a:lnTo>
                <a:lnTo>
                  <a:pt x="289" y="292"/>
                </a:lnTo>
                <a:lnTo>
                  <a:pt x="305" y="305"/>
                </a:lnTo>
                <a:lnTo>
                  <a:pt x="320" y="318"/>
                </a:lnTo>
                <a:lnTo>
                  <a:pt x="353" y="343"/>
                </a:lnTo>
                <a:lnTo>
                  <a:pt x="387" y="370"/>
                </a:lnTo>
                <a:lnTo>
                  <a:pt x="423" y="395"/>
                </a:lnTo>
                <a:lnTo>
                  <a:pt x="458" y="424"/>
                </a:lnTo>
                <a:lnTo>
                  <a:pt x="494" y="451"/>
                </a:lnTo>
                <a:lnTo>
                  <a:pt x="533" y="476"/>
                </a:lnTo>
                <a:lnTo>
                  <a:pt x="573" y="499"/>
                </a:lnTo>
                <a:lnTo>
                  <a:pt x="613" y="522"/>
                </a:lnTo>
                <a:lnTo>
                  <a:pt x="654" y="541"/>
                </a:lnTo>
                <a:lnTo>
                  <a:pt x="696" y="560"/>
                </a:lnTo>
                <a:lnTo>
                  <a:pt x="740" y="579"/>
                </a:lnTo>
                <a:lnTo>
                  <a:pt x="761" y="587"/>
                </a:lnTo>
                <a:lnTo>
                  <a:pt x="780" y="595"/>
                </a:lnTo>
                <a:lnTo>
                  <a:pt x="797" y="602"/>
                </a:lnTo>
                <a:lnTo>
                  <a:pt x="813" y="610"/>
                </a:lnTo>
                <a:lnTo>
                  <a:pt x="828" y="616"/>
                </a:lnTo>
                <a:lnTo>
                  <a:pt x="841" y="623"/>
                </a:lnTo>
                <a:lnTo>
                  <a:pt x="855" y="629"/>
                </a:lnTo>
                <a:lnTo>
                  <a:pt x="866" y="635"/>
                </a:lnTo>
                <a:lnTo>
                  <a:pt x="876" y="641"/>
                </a:lnTo>
                <a:lnTo>
                  <a:pt x="884" y="646"/>
                </a:lnTo>
                <a:lnTo>
                  <a:pt x="891" y="652"/>
                </a:lnTo>
                <a:lnTo>
                  <a:pt x="897" y="656"/>
                </a:lnTo>
                <a:lnTo>
                  <a:pt x="903" y="662"/>
                </a:lnTo>
                <a:lnTo>
                  <a:pt x="905" y="666"/>
                </a:lnTo>
                <a:lnTo>
                  <a:pt x="907" y="669"/>
                </a:lnTo>
                <a:lnTo>
                  <a:pt x="909" y="673"/>
                </a:lnTo>
                <a:lnTo>
                  <a:pt x="909" y="675"/>
                </a:lnTo>
                <a:lnTo>
                  <a:pt x="907" y="677"/>
                </a:lnTo>
                <a:lnTo>
                  <a:pt x="905" y="679"/>
                </a:lnTo>
                <a:lnTo>
                  <a:pt x="903" y="683"/>
                </a:lnTo>
                <a:lnTo>
                  <a:pt x="899" y="685"/>
                </a:lnTo>
                <a:lnTo>
                  <a:pt x="895" y="687"/>
                </a:lnTo>
                <a:lnTo>
                  <a:pt x="889" y="689"/>
                </a:lnTo>
                <a:lnTo>
                  <a:pt x="886" y="690"/>
                </a:lnTo>
                <a:lnTo>
                  <a:pt x="878" y="692"/>
                </a:lnTo>
                <a:lnTo>
                  <a:pt x="872" y="694"/>
                </a:lnTo>
                <a:lnTo>
                  <a:pt x="864" y="696"/>
                </a:lnTo>
                <a:lnTo>
                  <a:pt x="855" y="698"/>
                </a:lnTo>
                <a:lnTo>
                  <a:pt x="847" y="700"/>
                </a:lnTo>
                <a:lnTo>
                  <a:pt x="838" y="702"/>
                </a:lnTo>
                <a:lnTo>
                  <a:pt x="826" y="702"/>
                </a:lnTo>
                <a:lnTo>
                  <a:pt x="815" y="704"/>
                </a:lnTo>
                <a:lnTo>
                  <a:pt x="790" y="706"/>
                </a:lnTo>
                <a:lnTo>
                  <a:pt x="767" y="708"/>
                </a:lnTo>
                <a:lnTo>
                  <a:pt x="742" y="710"/>
                </a:lnTo>
                <a:lnTo>
                  <a:pt x="721" y="710"/>
                </a:lnTo>
                <a:lnTo>
                  <a:pt x="698" y="710"/>
                </a:lnTo>
                <a:lnTo>
                  <a:pt x="677" y="710"/>
                </a:lnTo>
                <a:lnTo>
                  <a:pt x="634" y="710"/>
                </a:lnTo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21" name="Oval 22"/>
          <p:cNvSpPr/>
          <p:nvPr/>
        </p:nvSpPr>
        <p:spPr>
          <a:xfrm>
            <a:off x="7020000" y="6381720"/>
            <a:ext cx="576360" cy="287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0" restart="whenNotActive" nodeType="interactiveSeq" fill="hold">
                <p:stCondLst>
                  <p:cond evt="onClick">
                    <p:tgtEl>
                      <p:spTgt spid="721"/>
                    </p:tgtEl>
                  </p:cond>
                </p:stCondLst>
                <p:childTnLst>
                  <p:par>
                    <p:cTn id="381" fill="hold">
                      <p:stCondLst>
                        <p:cond evt="onClick">
                          <p:tgtEl>
                            <p:spTgt spid="721"/>
                          </p:tgtEl>
                        </p:cond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9" dur="2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3000"/>
                            </p:stCondLst>
                            <p:childTnLst>
                              <p:par>
                                <p:cTn id="39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4000"/>
                            </p:stCondLst>
                            <p:childTnLst>
                              <p:par>
                                <p:cTn id="39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2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2" name="Group 2"/>
          <p:cNvGrpSpPr/>
          <p:nvPr/>
        </p:nvGrpSpPr>
        <p:grpSpPr>
          <a:xfrm>
            <a:off x="-228600" y="9360"/>
            <a:ext cx="9372600" cy="6848640"/>
            <a:chOff x="-228600" y="9360"/>
            <a:chExt cx="9372600" cy="6848640"/>
          </a:xfrm>
        </p:grpSpPr>
        <p:pic>
          <p:nvPicPr>
            <p:cNvPr id="723" name="Picture 3" descr="b028"/>
            <p:cNvPicPr/>
            <p:nvPr/>
          </p:nvPicPr>
          <p:blipFill>
            <a:blip r:embed="rId1"/>
            <a:stretch/>
          </p:blipFill>
          <p:spPr>
            <a:xfrm>
              <a:off x="-228600" y="9360"/>
              <a:ext cx="9372600" cy="684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4" name="Picture 4" descr=""/>
            <p:cNvPicPr/>
            <p:nvPr/>
          </p:nvPicPr>
          <p:blipFill>
            <a:blip r:embed="rId2"/>
            <a:stretch/>
          </p:blipFill>
          <p:spPr>
            <a:xfrm>
              <a:off x="2050920" y="836640"/>
              <a:ext cx="4924440" cy="4968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25" name="Picture 5" descr=""/>
          <p:cNvPicPr/>
          <p:nvPr/>
        </p:nvPicPr>
        <p:blipFill>
          <a:blip r:embed="rId3"/>
          <a:stretch/>
        </p:blipFill>
        <p:spPr>
          <a:xfrm>
            <a:off x="3203640" y="2781360"/>
            <a:ext cx="716040" cy="79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Text Box 3"/>
          <p:cNvSpPr/>
          <p:nvPr/>
        </p:nvSpPr>
        <p:spPr>
          <a:xfrm>
            <a:off x="4859280" y="3716280"/>
            <a:ext cx="302436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</a:t>
            </a:r>
            <a:r>
              <a:rPr b="0" i="1" lang="en-US" sz="5400" spc="-1" strike="noStrike" u="sng">
                <a:solidFill>
                  <a:srgbClr val="000000"/>
                </a:solidFill>
                <a:uFillTx/>
                <a:latin typeface="宋体"/>
                <a:ea typeface="楷体_GB2312"/>
              </a:rPr>
              <a:t>làlà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火辣辣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27" name="Text Box 4"/>
          <p:cNvSpPr/>
          <p:nvPr/>
        </p:nvSpPr>
        <p:spPr>
          <a:xfrm>
            <a:off x="4284720" y="417600"/>
            <a:ext cx="2232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h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ó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ng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火红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28" name="Text Box 5"/>
          <p:cNvSpPr/>
          <p:nvPr/>
        </p:nvSpPr>
        <p:spPr>
          <a:xfrm>
            <a:off x="8388360" y="652464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小结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729" name="Picture 6" descr="火2"/>
          <p:cNvPicPr/>
          <p:nvPr/>
        </p:nvPicPr>
        <p:blipFill>
          <a:blip r:embed="rId1"/>
          <a:stretch/>
        </p:blipFill>
        <p:spPr>
          <a:xfrm>
            <a:off x="1395360" y="417600"/>
            <a:ext cx="2951280" cy="258768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8" descr="20089920582417_2"/>
          <p:cNvPicPr/>
          <p:nvPr/>
        </p:nvPicPr>
        <p:blipFill>
          <a:blip r:embed="rId2"/>
          <a:srcRect l="0" t="0" r="0" b="6205"/>
          <a:stretch/>
        </p:blipFill>
        <p:spPr>
          <a:xfrm>
            <a:off x="0" y="3716280"/>
            <a:ext cx="4427640" cy="311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Text Box 20"/>
          <p:cNvSpPr/>
          <p:nvPr/>
        </p:nvSpPr>
        <p:spPr>
          <a:xfrm>
            <a:off x="5867280" y="907920"/>
            <a:ext cx="3276720" cy="916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红红火火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732" name="Picture 6" descr="2007219121533734"/>
          <p:cNvPicPr/>
          <p:nvPr/>
        </p:nvPicPr>
        <p:blipFill>
          <a:blip r:embed="rId1"/>
          <a:stretch/>
        </p:blipFill>
        <p:spPr>
          <a:xfrm>
            <a:off x="2019240" y="314280"/>
            <a:ext cx="3038400" cy="210204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8" descr="20102122349543101"/>
          <p:cNvPicPr/>
          <p:nvPr/>
        </p:nvPicPr>
        <p:blipFill>
          <a:blip r:embed="rId2"/>
          <a:stretch/>
        </p:blipFill>
        <p:spPr>
          <a:xfrm rot="985800">
            <a:off x="4427280" y="2636640"/>
            <a:ext cx="5238720" cy="328608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10" descr="6369"/>
          <p:cNvPicPr/>
          <p:nvPr/>
        </p:nvPicPr>
        <p:blipFill>
          <a:blip r:embed="rId3"/>
          <a:stretch/>
        </p:blipFill>
        <p:spPr>
          <a:xfrm rot="20991000">
            <a:off x="468360" y="3573000"/>
            <a:ext cx="4286160" cy="285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TextBox 3"/>
          <p:cNvSpPr/>
          <p:nvPr/>
        </p:nvSpPr>
        <p:spPr>
          <a:xfrm>
            <a:off x="2008080" y="1089000"/>
            <a:ext cx="601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红 </a:t>
            </a:r>
            <a:r>
              <a:rPr b="0" i="1" lang="zh-CN" sz="4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日  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圆  圆 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36" name="TextBox 4"/>
          <p:cNvSpPr/>
          <p:nvPr/>
        </p:nvSpPr>
        <p:spPr>
          <a:xfrm>
            <a:off x="2008080" y="2589120"/>
            <a:ext cx="515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月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牙  弯  弯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37" name="TextBox 5"/>
          <p:cNvSpPr/>
          <p:nvPr/>
        </p:nvSpPr>
        <p:spPr>
          <a:xfrm>
            <a:off x="2009880" y="4046400"/>
            <a:ext cx="429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河 </a:t>
            </a:r>
            <a:r>
              <a:rPr b="0" i="1" lang="zh-CN" sz="4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水  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清  清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38" name="TextBox 6"/>
          <p:cNvSpPr/>
          <p:nvPr/>
        </p:nvSpPr>
        <p:spPr>
          <a:xfrm>
            <a:off x="1936800" y="5403960"/>
            <a:ext cx="436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火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苗  闪  闪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39" name="TextBox 7"/>
          <p:cNvSpPr/>
          <p:nvPr/>
        </p:nvSpPr>
        <p:spPr>
          <a:xfrm>
            <a:off x="3924360" y="692280"/>
            <a:ext cx="12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方正姚体"/>
                <a:ea typeface="方正姚体"/>
              </a:rPr>
              <a:t>yuán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0" name="TextBox 8"/>
          <p:cNvSpPr/>
          <p:nvPr/>
        </p:nvSpPr>
        <p:spPr>
          <a:xfrm>
            <a:off x="2843280" y="2133720"/>
            <a:ext cx="77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方正姚体"/>
                <a:ea typeface="方正姚体"/>
              </a:rPr>
              <a:t>yá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1" name="TextBox 9"/>
          <p:cNvSpPr/>
          <p:nvPr/>
        </p:nvSpPr>
        <p:spPr>
          <a:xfrm>
            <a:off x="2050920" y="3645000"/>
            <a:ext cx="76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方正姚体"/>
                <a:ea typeface="方正姚体"/>
              </a:rPr>
              <a:t>hé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2" name="TextBox 10"/>
          <p:cNvSpPr/>
          <p:nvPr/>
        </p:nvSpPr>
        <p:spPr>
          <a:xfrm>
            <a:off x="1835280" y="5013360"/>
            <a:ext cx="12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方正姚体"/>
                <a:ea typeface="方正姚体"/>
              </a:rPr>
              <a:t>miáo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3" name="TextBox 11"/>
          <p:cNvSpPr/>
          <p:nvPr/>
        </p:nvSpPr>
        <p:spPr>
          <a:xfrm>
            <a:off x="1917720" y="692280"/>
            <a:ext cx="12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方正姚体"/>
                <a:ea typeface="方正姚体"/>
              </a:rPr>
              <a:t>hóng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4" name="TextBox 12"/>
          <p:cNvSpPr/>
          <p:nvPr/>
        </p:nvSpPr>
        <p:spPr>
          <a:xfrm>
            <a:off x="3924360" y="213372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方正姚体"/>
                <a:ea typeface="方正姚体"/>
              </a:rPr>
              <a:t>wān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5" name="TextBox 13"/>
          <p:cNvSpPr/>
          <p:nvPr/>
        </p:nvSpPr>
        <p:spPr>
          <a:xfrm>
            <a:off x="3932280" y="364500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方正姚体"/>
                <a:ea typeface="方正姚体"/>
              </a:rPr>
              <a:t>qīng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6" name="TextBox 14"/>
          <p:cNvSpPr/>
          <p:nvPr/>
        </p:nvSpPr>
        <p:spPr>
          <a:xfrm>
            <a:off x="3851280" y="5013360"/>
            <a:ext cx="107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方正姚体"/>
                <a:ea typeface="方正姚体"/>
              </a:rPr>
              <a:t>shǎn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2" descr="1438055656016124123_副本"/>
          <p:cNvPicPr/>
          <p:nvPr/>
        </p:nvPicPr>
        <p:blipFill>
          <a:blip r:embed="rId1">
            <a:lum contrast="12000"/>
          </a:blip>
          <a:srcRect l="13518" t="0" r="4534" b="6096"/>
          <a:stretch/>
        </p:blipFill>
        <p:spPr>
          <a:xfrm>
            <a:off x="1116000" y="2060640"/>
            <a:ext cx="865080" cy="108108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3" descr="301229863766_副本"/>
          <p:cNvPicPr/>
          <p:nvPr/>
        </p:nvPicPr>
        <p:blipFill>
          <a:blip r:embed="rId2"/>
          <a:srcRect l="7220" t="15407" r="0" b="0"/>
          <a:stretch/>
        </p:blipFill>
        <p:spPr>
          <a:xfrm>
            <a:off x="2411280" y="692280"/>
            <a:ext cx="1511280" cy="127944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5" descr="3012298636_副本"/>
          <p:cNvPicPr/>
          <p:nvPr/>
        </p:nvPicPr>
        <p:blipFill>
          <a:blip r:embed="rId3">
            <a:lum contrast="72000"/>
          </a:blip>
          <a:srcRect l="15992" t="0" r="24089" b="0"/>
          <a:stretch/>
        </p:blipFill>
        <p:spPr>
          <a:xfrm>
            <a:off x="4643280" y="3716280"/>
            <a:ext cx="1349640" cy="208908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6" descr="143805565601624123_副本"/>
          <p:cNvPicPr/>
          <p:nvPr/>
        </p:nvPicPr>
        <p:blipFill>
          <a:blip r:embed="rId4">
            <a:lum contrast="60000"/>
          </a:blip>
          <a:srcRect l="21662" t="7948" r="22166" b="12654"/>
          <a:stretch/>
        </p:blipFill>
        <p:spPr>
          <a:xfrm>
            <a:off x="6948360" y="4581360"/>
            <a:ext cx="936720" cy="144000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7" descr="143805565616124123_副本"/>
          <p:cNvPicPr/>
          <p:nvPr/>
        </p:nvPicPr>
        <p:blipFill>
          <a:blip r:embed="rId5">
            <a:lum contrast="24000"/>
          </a:blip>
          <a:srcRect l="14861" t="9028" r="0" b="0"/>
          <a:stretch/>
        </p:blipFill>
        <p:spPr>
          <a:xfrm>
            <a:off x="6659640" y="2781360"/>
            <a:ext cx="1238040" cy="143964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8" descr="143805565601612413_副本"/>
          <p:cNvPicPr/>
          <p:nvPr/>
        </p:nvPicPr>
        <p:blipFill>
          <a:blip r:embed="rId6">
            <a:lum contrast="30000"/>
          </a:blip>
          <a:srcRect l="11503" t="0" r="0" b="0"/>
          <a:stretch/>
        </p:blipFill>
        <p:spPr>
          <a:xfrm>
            <a:off x="6948360" y="692280"/>
            <a:ext cx="1113120" cy="136836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9" descr="1438056016124123_副本"/>
          <p:cNvPicPr/>
          <p:nvPr/>
        </p:nvPicPr>
        <p:blipFill>
          <a:blip r:embed="rId7">
            <a:lum contrast="24000"/>
          </a:blip>
          <a:srcRect l="12762" t="0" r="0" b="0"/>
          <a:stretch/>
        </p:blipFill>
        <p:spPr>
          <a:xfrm>
            <a:off x="5003640" y="692280"/>
            <a:ext cx="981360" cy="122400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10" descr="143805556016124123_副本"/>
          <p:cNvPicPr/>
          <p:nvPr/>
        </p:nvPicPr>
        <p:blipFill>
          <a:blip r:embed="rId8">
            <a:lum contrast="36000"/>
          </a:blip>
          <a:srcRect l="7725" t="0" r="0" b="7639"/>
          <a:stretch/>
        </p:blipFill>
        <p:spPr>
          <a:xfrm>
            <a:off x="2556000" y="2349360"/>
            <a:ext cx="1057320" cy="115272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11" descr="143055656016124123_副本"/>
          <p:cNvPicPr/>
          <p:nvPr/>
        </p:nvPicPr>
        <p:blipFill>
          <a:blip r:embed="rId9">
            <a:lum contrast="12000"/>
          </a:blip>
          <a:srcRect l="14442" t="0" r="0" b="6636"/>
          <a:stretch/>
        </p:blipFill>
        <p:spPr>
          <a:xfrm>
            <a:off x="4859280" y="2637000"/>
            <a:ext cx="84780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TextBox 3"/>
          <p:cNvSpPr/>
          <p:nvPr/>
        </p:nvSpPr>
        <p:spPr>
          <a:xfrm>
            <a:off x="4745160" y="1089000"/>
            <a:ext cx="601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1a02ce"/>
                </a:solidFill>
                <a:uFillTx/>
                <a:latin typeface="楷体_GB2312"/>
                <a:ea typeface="楷体_GB2312"/>
              </a:rPr>
              <a:t>圆 圆 的 红 日 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8" name="TextBox 4"/>
          <p:cNvSpPr/>
          <p:nvPr/>
        </p:nvSpPr>
        <p:spPr>
          <a:xfrm>
            <a:off x="4745160" y="2589120"/>
            <a:ext cx="515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1a02ce"/>
                </a:solidFill>
                <a:uFillTx/>
                <a:latin typeface="楷体_GB2312"/>
                <a:ea typeface="楷体_GB2312"/>
              </a:rPr>
              <a:t>弯 弯 的 月 牙 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9" name="TextBox 5"/>
          <p:cNvSpPr/>
          <p:nvPr/>
        </p:nvSpPr>
        <p:spPr>
          <a:xfrm>
            <a:off x="4673520" y="4046400"/>
            <a:ext cx="429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1a02ce"/>
                </a:solidFill>
                <a:uFillTx/>
                <a:latin typeface="楷体_GB2312"/>
                <a:ea typeface="楷体_GB2312"/>
              </a:rPr>
              <a:t>清 清 的 河 水 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0" name="TextBox 6"/>
          <p:cNvSpPr/>
          <p:nvPr/>
        </p:nvSpPr>
        <p:spPr>
          <a:xfrm>
            <a:off x="4673520" y="5403960"/>
            <a:ext cx="436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1a02ce"/>
                </a:solidFill>
                <a:uFillTx/>
                <a:latin typeface="楷体_GB2312"/>
                <a:ea typeface="楷体_GB2312"/>
              </a:rPr>
              <a:t>闪 闪 的 火 苗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1" name="TextBox 3"/>
          <p:cNvSpPr/>
          <p:nvPr/>
        </p:nvSpPr>
        <p:spPr>
          <a:xfrm>
            <a:off x="281160" y="1089000"/>
            <a:ext cx="601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红 </a:t>
            </a:r>
            <a:r>
              <a:rPr b="0" i="1" lang="zh-CN" sz="4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日  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圆  圆 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2" name="TextBox 4"/>
          <p:cNvSpPr/>
          <p:nvPr/>
        </p:nvSpPr>
        <p:spPr>
          <a:xfrm>
            <a:off x="281160" y="2589120"/>
            <a:ext cx="515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月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牙  弯  弯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3" name="TextBox 5"/>
          <p:cNvSpPr/>
          <p:nvPr/>
        </p:nvSpPr>
        <p:spPr>
          <a:xfrm>
            <a:off x="282600" y="4046400"/>
            <a:ext cx="429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河 </a:t>
            </a:r>
            <a:r>
              <a:rPr b="0" i="1" lang="zh-CN" sz="4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水  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清  清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4" name="TextBox 6"/>
          <p:cNvSpPr/>
          <p:nvPr/>
        </p:nvSpPr>
        <p:spPr>
          <a:xfrm>
            <a:off x="209520" y="5403960"/>
            <a:ext cx="436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火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苗  闪  闪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5" name="TextBox 7"/>
          <p:cNvSpPr/>
          <p:nvPr/>
        </p:nvSpPr>
        <p:spPr>
          <a:xfrm>
            <a:off x="2124000" y="692280"/>
            <a:ext cx="12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方正姚体"/>
                <a:ea typeface="方正姚体"/>
              </a:rPr>
              <a:t>yuán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6" name="TextBox 8"/>
          <p:cNvSpPr/>
          <p:nvPr/>
        </p:nvSpPr>
        <p:spPr>
          <a:xfrm>
            <a:off x="1208160" y="2133720"/>
            <a:ext cx="77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方正姚体"/>
                <a:ea typeface="方正姚体"/>
              </a:rPr>
              <a:t>yá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7" name="TextBox 9"/>
          <p:cNvSpPr/>
          <p:nvPr/>
        </p:nvSpPr>
        <p:spPr>
          <a:xfrm>
            <a:off x="324000" y="3645000"/>
            <a:ext cx="76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方正姚体"/>
                <a:ea typeface="方正姚体"/>
              </a:rPr>
              <a:t>hé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8" name="TextBox 10"/>
          <p:cNvSpPr/>
          <p:nvPr/>
        </p:nvSpPr>
        <p:spPr>
          <a:xfrm>
            <a:off x="108000" y="5013360"/>
            <a:ext cx="12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方正姚体"/>
                <a:ea typeface="方正姚体"/>
              </a:rPr>
              <a:t>miáo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9" name="TextBox 11"/>
          <p:cNvSpPr/>
          <p:nvPr/>
        </p:nvSpPr>
        <p:spPr>
          <a:xfrm>
            <a:off x="190440" y="692280"/>
            <a:ext cx="12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方正姚体"/>
                <a:ea typeface="方正姚体"/>
              </a:rPr>
              <a:t>hóng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0" name="TextBox 12"/>
          <p:cNvSpPr/>
          <p:nvPr/>
        </p:nvSpPr>
        <p:spPr>
          <a:xfrm>
            <a:off x="2195640" y="213372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方正姚体"/>
                <a:ea typeface="方正姚体"/>
              </a:rPr>
              <a:t>wān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1" name="TextBox 13"/>
          <p:cNvSpPr/>
          <p:nvPr/>
        </p:nvSpPr>
        <p:spPr>
          <a:xfrm>
            <a:off x="2205000" y="364500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方正姚体"/>
                <a:ea typeface="方正姚体"/>
              </a:rPr>
              <a:t>qīng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2" name="TextBox 14"/>
          <p:cNvSpPr/>
          <p:nvPr/>
        </p:nvSpPr>
        <p:spPr>
          <a:xfrm>
            <a:off x="2124000" y="5013360"/>
            <a:ext cx="107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方正姚体"/>
                <a:ea typeface="方正姚体"/>
              </a:rPr>
              <a:t>shǎn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3" name="Line 28"/>
          <p:cNvSpPr/>
          <p:nvPr/>
        </p:nvSpPr>
        <p:spPr>
          <a:xfrm>
            <a:off x="4427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TextBox 3"/>
          <p:cNvSpPr/>
          <p:nvPr/>
        </p:nvSpPr>
        <p:spPr>
          <a:xfrm>
            <a:off x="1000080" y="785880"/>
            <a:ext cx="601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(     ) 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的 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(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红 日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) 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5" name="TextBox 4"/>
          <p:cNvSpPr/>
          <p:nvPr/>
        </p:nvSpPr>
        <p:spPr>
          <a:xfrm>
            <a:off x="1000080" y="2286000"/>
            <a:ext cx="5156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(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) 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的 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(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月 牙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) 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6" name="TextBox 5"/>
          <p:cNvSpPr/>
          <p:nvPr/>
        </p:nvSpPr>
        <p:spPr>
          <a:xfrm>
            <a:off x="1042920" y="3789360"/>
            <a:ext cx="532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(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) 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的 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(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河 水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) 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7" name="TextBox 6"/>
          <p:cNvSpPr/>
          <p:nvPr/>
        </p:nvSpPr>
        <p:spPr>
          <a:xfrm>
            <a:off x="1042920" y="5157720"/>
            <a:ext cx="5227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(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) 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的 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(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火 苗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)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8" name="TextBox 8"/>
          <p:cNvSpPr/>
          <p:nvPr/>
        </p:nvSpPr>
        <p:spPr>
          <a:xfrm>
            <a:off x="4448160" y="1773360"/>
            <a:ext cx="77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y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方正姚体"/>
                <a:ea typeface="楷体_GB2312"/>
              </a:rPr>
              <a:t>á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9" name="TextBox 9"/>
          <p:cNvSpPr/>
          <p:nvPr/>
        </p:nvSpPr>
        <p:spPr>
          <a:xfrm>
            <a:off x="4500720" y="3281400"/>
            <a:ext cx="76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h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方正姚体"/>
                <a:ea typeface="楷体_GB2312"/>
              </a:rPr>
              <a:t>é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70" name="TextBox 10"/>
          <p:cNvSpPr/>
          <p:nvPr/>
        </p:nvSpPr>
        <p:spPr>
          <a:xfrm>
            <a:off x="4294080" y="4724280"/>
            <a:ext cx="12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mi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方正姚体"/>
                <a:ea typeface="楷体_GB2312"/>
              </a:rPr>
              <a:t>á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o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71" name="TextBox 11"/>
          <p:cNvSpPr/>
          <p:nvPr/>
        </p:nvSpPr>
        <p:spPr>
          <a:xfrm>
            <a:off x="4294080" y="260280"/>
            <a:ext cx="12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h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方正姚体"/>
                <a:ea typeface="楷体_GB2312"/>
              </a:rPr>
              <a:t>ó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ng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AutoShape 3"/>
          <p:cNvSpPr/>
          <p:nvPr/>
        </p:nvSpPr>
        <p:spPr>
          <a:xfrm>
            <a:off x="2195640" y="0"/>
            <a:ext cx="6480000" cy="6308640"/>
          </a:xfrm>
          <a:prstGeom prst="wedgeRoundRectCallout">
            <a:avLst>
              <a:gd name="adj1" fmla="val -66143"/>
              <a:gd name="adj2" fmla="val -37745"/>
              <a:gd name="adj3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73" name="Text Box 4"/>
          <p:cNvSpPr/>
          <p:nvPr/>
        </p:nvSpPr>
        <p:spPr>
          <a:xfrm>
            <a:off x="2050920" y="189000"/>
            <a:ext cx="7093080" cy="59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同学们，你能把今天积累的词语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背一背，并说给爸爸妈妈听吗？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qīng</a:t>
            </a:r>
            <a:r>
              <a:rPr b="0" i="1" lang="en-US" sz="36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 lǜ         </a:t>
            </a:r>
            <a:r>
              <a:rPr b="0" i="1" lang="en-US" sz="3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qīng</a:t>
            </a:r>
            <a:r>
              <a:rPr b="0" i="1" lang="en-US" sz="36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  xi</a:t>
            </a:r>
            <a:r>
              <a:rPr b="0" i="1" lang="en-US" sz="36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ù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青 山 绿 水    山 清 水 秀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  </a:t>
            </a:r>
            <a:r>
              <a:rPr b="0" i="1" lang="en-US" sz="36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l</a:t>
            </a:r>
            <a:r>
              <a:rPr b="0" i="1" lang="en-US" sz="3600" spc="-1" strike="noStrike" u="sng">
                <a:solidFill>
                  <a:srgbClr val="0000ff"/>
                </a:solidFill>
                <a:uFillTx/>
                <a:latin typeface="宋体"/>
                <a:ea typeface="楷体_GB2312"/>
              </a:rPr>
              <a:t>à</a:t>
            </a:r>
            <a:r>
              <a:rPr b="0" i="1" lang="en-US" sz="36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l</a:t>
            </a:r>
            <a:r>
              <a:rPr b="0" i="1" lang="en-US" sz="3600" spc="-1" strike="noStrike" u="sng">
                <a:solidFill>
                  <a:srgbClr val="0000ff"/>
                </a:solidFill>
                <a:uFillTx/>
                <a:latin typeface="宋体"/>
                <a:ea typeface="楷体_GB2312"/>
              </a:rPr>
              <a:t>à</a:t>
            </a:r>
            <a:r>
              <a:rPr b="0" i="1" lang="en-US" sz="36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            h</a:t>
            </a:r>
            <a:r>
              <a:rPr b="0" i="1" lang="en-US" sz="36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ó</a:t>
            </a:r>
            <a:r>
              <a:rPr b="0" i="1" lang="en-US" sz="36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ng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火辣辣         火红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红红火火       花好月圆  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        </a:t>
            </a: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日出日落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WordArt 3"/>
          <p:cNvSpPr txBox="1"/>
          <p:nvPr/>
        </p:nvSpPr>
        <p:spPr>
          <a:xfrm>
            <a:off x="2744640" y="1941480"/>
            <a:ext cx="5500800" cy="42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99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uFillTx/>
                <a:latin typeface="迷你简彩云"/>
              </a:rPr>
              <a:t>再见</a:t>
            </a:r>
            <a:endParaRPr b="1" i="1" lang="en-US" sz="2400" spc="-1" strike="noStrike" u="sng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uFillTx/>
              <a:latin typeface="迷你简彩云"/>
              <a:ea typeface="迷你简彩云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3" descr="月亮1"/>
          <p:cNvPicPr/>
          <p:nvPr/>
        </p:nvPicPr>
        <p:blipFill>
          <a:blip r:embed="rId1"/>
          <a:srcRect l="4168" t="75596" r="3334" b="7054"/>
          <a:stretch/>
        </p:blipFill>
        <p:spPr>
          <a:xfrm>
            <a:off x="2556000" y="115920"/>
            <a:ext cx="4813200" cy="161604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4" descr=""/>
          <p:cNvPicPr/>
          <p:nvPr/>
        </p:nvPicPr>
        <p:blipFill>
          <a:blip r:embed="rId2"/>
          <a:stretch/>
        </p:blipFill>
        <p:spPr>
          <a:xfrm>
            <a:off x="2843280" y="1773360"/>
            <a:ext cx="4010040" cy="1104840"/>
          </a:xfrm>
          <a:prstGeom prst="rect">
            <a:avLst/>
          </a:prstGeom>
          <a:ln w="0">
            <a:noFill/>
          </a:ln>
        </p:spPr>
      </p:pic>
      <p:grpSp>
        <p:nvGrpSpPr>
          <p:cNvPr id="542" name="Group 5"/>
          <p:cNvGrpSpPr/>
          <p:nvPr/>
        </p:nvGrpSpPr>
        <p:grpSpPr>
          <a:xfrm>
            <a:off x="2484360" y="3192840"/>
            <a:ext cx="4896000" cy="1063800"/>
            <a:chOff x="2484360" y="3192840"/>
            <a:chExt cx="4896000" cy="1063800"/>
          </a:xfrm>
        </p:grpSpPr>
        <p:pic>
          <p:nvPicPr>
            <p:cNvPr id="543" name="Picture 6" descr="水"/>
            <p:cNvPicPr/>
            <p:nvPr/>
          </p:nvPicPr>
          <p:blipFill>
            <a:blip r:embed="rId3"/>
            <a:stretch/>
          </p:blipFill>
          <p:spPr>
            <a:xfrm>
              <a:off x="2484360" y="3213000"/>
              <a:ext cx="13334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4" name="Picture 7" descr=""/>
            <p:cNvPicPr/>
            <p:nvPr/>
          </p:nvPicPr>
          <p:blipFill>
            <a:blip r:embed="rId4"/>
            <a:stretch/>
          </p:blipFill>
          <p:spPr>
            <a:xfrm rot="18259200">
              <a:off x="4740120" y="3112560"/>
              <a:ext cx="45252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Text Box 8"/>
            <p:cNvSpPr/>
            <p:nvPr/>
          </p:nvSpPr>
          <p:spPr>
            <a:xfrm>
              <a:off x="5867280" y="3357720"/>
              <a:ext cx="1513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8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水</a:t>
              </a:r>
              <a:endParaRPr b="0" i="1" lang="en-US" sz="4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46" name="Group 9"/>
          <p:cNvGrpSpPr/>
          <p:nvPr/>
        </p:nvGrpSpPr>
        <p:grpSpPr>
          <a:xfrm>
            <a:off x="2556000" y="4797360"/>
            <a:ext cx="4752720" cy="1339920"/>
            <a:chOff x="2556000" y="4797360"/>
            <a:chExt cx="4752720" cy="1339920"/>
          </a:xfrm>
        </p:grpSpPr>
        <p:pic>
          <p:nvPicPr>
            <p:cNvPr id="547" name="Picture 10" descr="火"/>
            <p:cNvPicPr/>
            <p:nvPr/>
          </p:nvPicPr>
          <p:blipFill>
            <a:blip r:embed="rId5"/>
            <a:stretch/>
          </p:blipFill>
          <p:spPr>
            <a:xfrm>
              <a:off x="2556000" y="4797360"/>
              <a:ext cx="1180800" cy="13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11" descr=""/>
            <p:cNvPicPr/>
            <p:nvPr/>
          </p:nvPicPr>
          <p:blipFill>
            <a:blip r:embed="rId6"/>
            <a:stretch/>
          </p:blipFill>
          <p:spPr>
            <a:xfrm>
              <a:off x="4716360" y="5157720"/>
              <a:ext cx="331920" cy="9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Text Box 12"/>
            <p:cNvSpPr/>
            <p:nvPr/>
          </p:nvSpPr>
          <p:spPr>
            <a:xfrm>
              <a:off x="5796000" y="5084640"/>
              <a:ext cx="1512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8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火</a:t>
              </a:r>
              <a:endParaRPr b="0" i="1" lang="en-US" sz="4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9" descr="月亮1"/>
          <p:cNvPicPr/>
          <p:nvPr/>
        </p:nvPicPr>
        <p:blipFill>
          <a:blip r:embed="rId1"/>
          <a:srcRect l="4168" t="75596" r="3334" b="7054"/>
          <a:stretch/>
        </p:blipFill>
        <p:spPr>
          <a:xfrm>
            <a:off x="2124000" y="189000"/>
            <a:ext cx="4813200" cy="1616040"/>
          </a:xfrm>
          <a:prstGeom prst="rect">
            <a:avLst/>
          </a:prstGeom>
          <a:ln w="0">
            <a:noFill/>
          </a:ln>
        </p:spPr>
      </p:pic>
      <p:grpSp>
        <p:nvGrpSpPr>
          <p:cNvPr id="551" name="Group 11"/>
          <p:cNvGrpSpPr/>
          <p:nvPr/>
        </p:nvGrpSpPr>
        <p:grpSpPr>
          <a:xfrm>
            <a:off x="2843280" y="1916280"/>
            <a:ext cx="3240000" cy="4815000"/>
            <a:chOff x="2843280" y="1916280"/>
            <a:chExt cx="3240000" cy="4815000"/>
          </a:xfrm>
        </p:grpSpPr>
        <p:grpSp>
          <p:nvGrpSpPr>
            <p:cNvPr id="552" name="Group 7"/>
            <p:cNvGrpSpPr/>
            <p:nvPr/>
          </p:nvGrpSpPr>
          <p:grpSpPr>
            <a:xfrm>
              <a:off x="2843280" y="3597120"/>
              <a:ext cx="3240000" cy="3071880"/>
              <a:chOff x="2843280" y="3597120"/>
              <a:chExt cx="3240000" cy="3071880"/>
            </a:xfrm>
          </p:grpSpPr>
          <p:sp>
            <p:nvSpPr>
              <p:cNvPr id="553" name="Rectangle 4"/>
              <p:cNvSpPr/>
              <p:nvPr/>
            </p:nvSpPr>
            <p:spPr>
              <a:xfrm>
                <a:off x="2843280" y="3597120"/>
                <a:ext cx="3240000" cy="3071880"/>
              </a:xfrm>
              <a:prstGeom prst="rect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54" name="Line 5"/>
              <p:cNvSpPr/>
              <p:nvPr/>
            </p:nvSpPr>
            <p:spPr>
              <a:xfrm>
                <a:off x="2843280" y="5132520"/>
                <a:ext cx="31910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55" name="Line 6"/>
              <p:cNvSpPr/>
              <p:nvPr/>
            </p:nvSpPr>
            <p:spPr>
              <a:xfrm>
                <a:off x="4463280" y="3597120"/>
                <a:ext cx="0" cy="3071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556" name="Text Box 8"/>
            <p:cNvSpPr/>
            <p:nvPr/>
          </p:nvSpPr>
          <p:spPr>
            <a:xfrm>
              <a:off x="3059280" y="3284640"/>
              <a:ext cx="2887560" cy="344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日</a:t>
              </a:r>
              <a:endParaRPr b="0" i="1" lang="en-US" sz="2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7" name="Rectangle 10"/>
            <p:cNvSpPr/>
            <p:nvPr/>
          </p:nvSpPr>
          <p:spPr>
            <a:xfrm>
              <a:off x="3924360" y="1916280"/>
              <a:ext cx="160632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0" spc="-1" strike="noStrike" u="sng">
                  <a:solidFill>
                    <a:srgbClr val="000000"/>
                  </a:solidFill>
                  <a:uFillTx/>
                  <a:latin typeface="Arial"/>
                  <a:ea typeface="迷你简彩云"/>
                </a:rPr>
                <a:t>rì</a:t>
              </a:r>
              <a:endParaRPr b="0" i="1" lang="en-US" sz="10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58" name="Freeform 12"/>
          <p:cNvSpPr/>
          <p:nvPr/>
        </p:nvSpPr>
        <p:spPr>
          <a:xfrm>
            <a:off x="3851280" y="4365720"/>
            <a:ext cx="216000" cy="1727280"/>
          </a:xfrm>
          <a:custGeom>
            <a:avLst/>
            <a:gdLst/>
            <a:ahLst/>
            <a:rect l="l" t="t" r="r" b="b"/>
            <a:pathLst>
              <a:path w="226" h="1481">
                <a:moveTo>
                  <a:pt x="226" y="51"/>
                </a:moveTo>
                <a:lnTo>
                  <a:pt x="226" y="105"/>
                </a:lnTo>
                <a:lnTo>
                  <a:pt x="226" y="157"/>
                </a:lnTo>
                <a:lnTo>
                  <a:pt x="226" y="209"/>
                </a:lnTo>
                <a:lnTo>
                  <a:pt x="226" y="259"/>
                </a:lnTo>
                <a:lnTo>
                  <a:pt x="226" y="309"/>
                </a:lnTo>
                <a:lnTo>
                  <a:pt x="224" y="357"/>
                </a:lnTo>
                <a:lnTo>
                  <a:pt x="224" y="403"/>
                </a:lnTo>
                <a:lnTo>
                  <a:pt x="224" y="449"/>
                </a:lnTo>
                <a:lnTo>
                  <a:pt x="224" y="493"/>
                </a:lnTo>
                <a:lnTo>
                  <a:pt x="224" y="537"/>
                </a:lnTo>
                <a:lnTo>
                  <a:pt x="222" y="579"/>
                </a:lnTo>
                <a:lnTo>
                  <a:pt x="222" y="620"/>
                </a:lnTo>
                <a:lnTo>
                  <a:pt x="222" y="660"/>
                </a:lnTo>
                <a:lnTo>
                  <a:pt x="222" y="700"/>
                </a:lnTo>
                <a:lnTo>
                  <a:pt x="220" y="737"/>
                </a:lnTo>
                <a:lnTo>
                  <a:pt x="220" y="773"/>
                </a:lnTo>
                <a:lnTo>
                  <a:pt x="220" y="810"/>
                </a:lnTo>
                <a:lnTo>
                  <a:pt x="218" y="844"/>
                </a:lnTo>
                <a:lnTo>
                  <a:pt x="218" y="877"/>
                </a:lnTo>
                <a:lnTo>
                  <a:pt x="218" y="909"/>
                </a:lnTo>
                <a:lnTo>
                  <a:pt x="216" y="940"/>
                </a:lnTo>
                <a:lnTo>
                  <a:pt x="216" y="971"/>
                </a:lnTo>
                <a:lnTo>
                  <a:pt x="214" y="999"/>
                </a:lnTo>
                <a:lnTo>
                  <a:pt x="214" y="1026"/>
                </a:lnTo>
                <a:lnTo>
                  <a:pt x="214" y="1053"/>
                </a:lnTo>
                <a:lnTo>
                  <a:pt x="212" y="1078"/>
                </a:lnTo>
                <a:lnTo>
                  <a:pt x="212" y="1103"/>
                </a:lnTo>
                <a:lnTo>
                  <a:pt x="210" y="1126"/>
                </a:lnTo>
                <a:lnTo>
                  <a:pt x="210" y="1147"/>
                </a:lnTo>
                <a:lnTo>
                  <a:pt x="208" y="1168"/>
                </a:lnTo>
                <a:lnTo>
                  <a:pt x="208" y="1188"/>
                </a:lnTo>
                <a:lnTo>
                  <a:pt x="208" y="1207"/>
                </a:lnTo>
                <a:lnTo>
                  <a:pt x="207" y="1224"/>
                </a:lnTo>
                <a:lnTo>
                  <a:pt x="207" y="1241"/>
                </a:lnTo>
                <a:lnTo>
                  <a:pt x="205" y="1259"/>
                </a:lnTo>
                <a:lnTo>
                  <a:pt x="203" y="1276"/>
                </a:lnTo>
                <a:lnTo>
                  <a:pt x="203" y="1291"/>
                </a:lnTo>
                <a:lnTo>
                  <a:pt x="201" y="1307"/>
                </a:lnTo>
                <a:lnTo>
                  <a:pt x="199" y="1320"/>
                </a:lnTo>
                <a:lnTo>
                  <a:pt x="197" y="1333"/>
                </a:lnTo>
                <a:lnTo>
                  <a:pt x="197" y="1347"/>
                </a:lnTo>
                <a:lnTo>
                  <a:pt x="195" y="1360"/>
                </a:lnTo>
                <a:lnTo>
                  <a:pt x="193" y="1372"/>
                </a:lnTo>
                <a:lnTo>
                  <a:pt x="191" y="1383"/>
                </a:lnTo>
                <a:lnTo>
                  <a:pt x="189" y="1393"/>
                </a:lnTo>
                <a:lnTo>
                  <a:pt x="185" y="1402"/>
                </a:lnTo>
                <a:lnTo>
                  <a:pt x="184" y="1412"/>
                </a:lnTo>
                <a:lnTo>
                  <a:pt x="182" y="1422"/>
                </a:lnTo>
                <a:lnTo>
                  <a:pt x="180" y="1429"/>
                </a:lnTo>
                <a:lnTo>
                  <a:pt x="178" y="1437"/>
                </a:lnTo>
                <a:lnTo>
                  <a:pt x="174" y="1445"/>
                </a:lnTo>
                <a:lnTo>
                  <a:pt x="172" y="1450"/>
                </a:lnTo>
                <a:lnTo>
                  <a:pt x="170" y="1456"/>
                </a:lnTo>
                <a:lnTo>
                  <a:pt x="166" y="1460"/>
                </a:lnTo>
                <a:lnTo>
                  <a:pt x="164" y="1466"/>
                </a:lnTo>
                <a:lnTo>
                  <a:pt x="161" y="1470"/>
                </a:lnTo>
                <a:lnTo>
                  <a:pt x="159" y="1473"/>
                </a:lnTo>
                <a:lnTo>
                  <a:pt x="155" y="1475"/>
                </a:lnTo>
                <a:lnTo>
                  <a:pt x="151" y="1477"/>
                </a:lnTo>
                <a:lnTo>
                  <a:pt x="149" y="1479"/>
                </a:lnTo>
                <a:lnTo>
                  <a:pt x="145" y="1481"/>
                </a:lnTo>
                <a:lnTo>
                  <a:pt x="141" y="1481"/>
                </a:lnTo>
                <a:lnTo>
                  <a:pt x="139" y="1481"/>
                </a:lnTo>
                <a:lnTo>
                  <a:pt x="136" y="1481"/>
                </a:lnTo>
                <a:lnTo>
                  <a:pt x="128" y="1477"/>
                </a:lnTo>
                <a:lnTo>
                  <a:pt x="120" y="1475"/>
                </a:lnTo>
                <a:lnTo>
                  <a:pt x="113" y="1472"/>
                </a:lnTo>
                <a:lnTo>
                  <a:pt x="105" y="1466"/>
                </a:lnTo>
                <a:lnTo>
                  <a:pt x="99" y="1460"/>
                </a:lnTo>
                <a:lnTo>
                  <a:pt x="92" y="1454"/>
                </a:lnTo>
                <a:lnTo>
                  <a:pt x="86" y="1449"/>
                </a:lnTo>
                <a:lnTo>
                  <a:pt x="80" y="1441"/>
                </a:lnTo>
                <a:lnTo>
                  <a:pt x="74" y="1431"/>
                </a:lnTo>
                <a:lnTo>
                  <a:pt x="70" y="1424"/>
                </a:lnTo>
                <a:lnTo>
                  <a:pt x="65" y="1414"/>
                </a:lnTo>
                <a:lnTo>
                  <a:pt x="61" y="1402"/>
                </a:lnTo>
                <a:lnTo>
                  <a:pt x="57" y="1393"/>
                </a:lnTo>
                <a:lnTo>
                  <a:pt x="53" y="1381"/>
                </a:lnTo>
                <a:lnTo>
                  <a:pt x="49" y="1370"/>
                </a:lnTo>
                <a:lnTo>
                  <a:pt x="46" y="1356"/>
                </a:lnTo>
                <a:lnTo>
                  <a:pt x="42" y="1345"/>
                </a:lnTo>
                <a:lnTo>
                  <a:pt x="36" y="1333"/>
                </a:lnTo>
                <a:lnTo>
                  <a:pt x="32" y="1322"/>
                </a:lnTo>
                <a:lnTo>
                  <a:pt x="28" y="1312"/>
                </a:lnTo>
                <a:lnTo>
                  <a:pt x="26" y="1303"/>
                </a:lnTo>
                <a:lnTo>
                  <a:pt x="23" y="1293"/>
                </a:lnTo>
                <a:lnTo>
                  <a:pt x="21" y="1285"/>
                </a:lnTo>
                <a:lnTo>
                  <a:pt x="19" y="1276"/>
                </a:lnTo>
                <a:lnTo>
                  <a:pt x="17" y="1262"/>
                </a:lnTo>
                <a:lnTo>
                  <a:pt x="15" y="1249"/>
                </a:lnTo>
                <a:lnTo>
                  <a:pt x="17" y="1236"/>
                </a:lnTo>
                <a:lnTo>
                  <a:pt x="19" y="1224"/>
                </a:lnTo>
                <a:lnTo>
                  <a:pt x="21" y="1220"/>
                </a:lnTo>
                <a:lnTo>
                  <a:pt x="23" y="1214"/>
                </a:lnTo>
                <a:lnTo>
                  <a:pt x="24" y="1207"/>
                </a:lnTo>
                <a:lnTo>
                  <a:pt x="26" y="1199"/>
                </a:lnTo>
                <a:lnTo>
                  <a:pt x="26" y="1188"/>
                </a:lnTo>
                <a:lnTo>
                  <a:pt x="28" y="1176"/>
                </a:lnTo>
                <a:lnTo>
                  <a:pt x="30" y="1163"/>
                </a:lnTo>
                <a:lnTo>
                  <a:pt x="32" y="1147"/>
                </a:lnTo>
                <a:lnTo>
                  <a:pt x="34" y="1130"/>
                </a:lnTo>
                <a:lnTo>
                  <a:pt x="36" y="1111"/>
                </a:lnTo>
                <a:lnTo>
                  <a:pt x="38" y="1092"/>
                </a:lnTo>
                <a:lnTo>
                  <a:pt x="40" y="1070"/>
                </a:lnTo>
                <a:lnTo>
                  <a:pt x="42" y="1047"/>
                </a:lnTo>
                <a:lnTo>
                  <a:pt x="42" y="1023"/>
                </a:lnTo>
                <a:lnTo>
                  <a:pt x="44" y="998"/>
                </a:lnTo>
                <a:lnTo>
                  <a:pt x="46" y="969"/>
                </a:lnTo>
                <a:lnTo>
                  <a:pt x="47" y="944"/>
                </a:lnTo>
                <a:lnTo>
                  <a:pt x="49" y="917"/>
                </a:lnTo>
                <a:lnTo>
                  <a:pt x="51" y="894"/>
                </a:lnTo>
                <a:lnTo>
                  <a:pt x="53" y="871"/>
                </a:lnTo>
                <a:lnTo>
                  <a:pt x="53" y="848"/>
                </a:lnTo>
                <a:lnTo>
                  <a:pt x="55" y="827"/>
                </a:lnTo>
                <a:lnTo>
                  <a:pt x="57" y="806"/>
                </a:lnTo>
                <a:lnTo>
                  <a:pt x="59" y="786"/>
                </a:lnTo>
                <a:lnTo>
                  <a:pt x="59" y="767"/>
                </a:lnTo>
                <a:lnTo>
                  <a:pt x="61" y="750"/>
                </a:lnTo>
                <a:lnTo>
                  <a:pt x="61" y="733"/>
                </a:lnTo>
                <a:lnTo>
                  <a:pt x="63" y="717"/>
                </a:lnTo>
                <a:lnTo>
                  <a:pt x="63" y="704"/>
                </a:lnTo>
                <a:lnTo>
                  <a:pt x="63" y="691"/>
                </a:lnTo>
                <a:lnTo>
                  <a:pt x="63" y="677"/>
                </a:lnTo>
                <a:lnTo>
                  <a:pt x="65" y="666"/>
                </a:lnTo>
                <a:lnTo>
                  <a:pt x="65" y="656"/>
                </a:lnTo>
                <a:lnTo>
                  <a:pt x="65" y="643"/>
                </a:lnTo>
                <a:lnTo>
                  <a:pt x="63" y="631"/>
                </a:lnTo>
                <a:lnTo>
                  <a:pt x="63" y="616"/>
                </a:lnTo>
                <a:lnTo>
                  <a:pt x="63" y="602"/>
                </a:lnTo>
                <a:lnTo>
                  <a:pt x="63" y="585"/>
                </a:lnTo>
                <a:lnTo>
                  <a:pt x="63" y="570"/>
                </a:lnTo>
                <a:lnTo>
                  <a:pt x="63" y="552"/>
                </a:lnTo>
                <a:lnTo>
                  <a:pt x="63" y="533"/>
                </a:lnTo>
                <a:lnTo>
                  <a:pt x="61" y="514"/>
                </a:lnTo>
                <a:lnTo>
                  <a:pt x="61" y="493"/>
                </a:lnTo>
                <a:lnTo>
                  <a:pt x="61" y="470"/>
                </a:lnTo>
                <a:lnTo>
                  <a:pt x="59" y="449"/>
                </a:lnTo>
                <a:lnTo>
                  <a:pt x="57" y="424"/>
                </a:lnTo>
                <a:lnTo>
                  <a:pt x="57" y="399"/>
                </a:lnTo>
                <a:lnTo>
                  <a:pt x="55" y="372"/>
                </a:lnTo>
                <a:lnTo>
                  <a:pt x="53" y="347"/>
                </a:lnTo>
                <a:lnTo>
                  <a:pt x="51" y="322"/>
                </a:lnTo>
                <a:lnTo>
                  <a:pt x="49" y="299"/>
                </a:lnTo>
                <a:lnTo>
                  <a:pt x="47" y="276"/>
                </a:lnTo>
                <a:lnTo>
                  <a:pt x="46" y="257"/>
                </a:lnTo>
                <a:lnTo>
                  <a:pt x="44" y="236"/>
                </a:lnTo>
                <a:lnTo>
                  <a:pt x="42" y="218"/>
                </a:lnTo>
                <a:lnTo>
                  <a:pt x="40" y="201"/>
                </a:lnTo>
                <a:lnTo>
                  <a:pt x="38" y="186"/>
                </a:lnTo>
                <a:lnTo>
                  <a:pt x="36" y="170"/>
                </a:lnTo>
                <a:lnTo>
                  <a:pt x="34" y="157"/>
                </a:lnTo>
                <a:lnTo>
                  <a:pt x="30" y="146"/>
                </a:lnTo>
                <a:lnTo>
                  <a:pt x="28" y="134"/>
                </a:lnTo>
                <a:lnTo>
                  <a:pt x="24" y="124"/>
                </a:lnTo>
                <a:lnTo>
                  <a:pt x="23" y="115"/>
                </a:lnTo>
                <a:lnTo>
                  <a:pt x="19" y="107"/>
                </a:lnTo>
                <a:lnTo>
                  <a:pt x="15" y="101"/>
                </a:lnTo>
                <a:lnTo>
                  <a:pt x="11" y="98"/>
                </a:lnTo>
                <a:lnTo>
                  <a:pt x="7" y="92"/>
                </a:lnTo>
                <a:lnTo>
                  <a:pt x="3" y="84"/>
                </a:lnTo>
                <a:lnTo>
                  <a:pt x="1" y="78"/>
                </a:lnTo>
                <a:lnTo>
                  <a:pt x="0" y="73"/>
                </a:lnTo>
                <a:lnTo>
                  <a:pt x="0" y="67"/>
                </a:lnTo>
                <a:lnTo>
                  <a:pt x="0" y="61"/>
                </a:lnTo>
                <a:lnTo>
                  <a:pt x="0" y="53"/>
                </a:lnTo>
                <a:lnTo>
                  <a:pt x="0" y="48"/>
                </a:lnTo>
                <a:lnTo>
                  <a:pt x="1" y="42"/>
                </a:lnTo>
                <a:lnTo>
                  <a:pt x="3" y="36"/>
                </a:lnTo>
                <a:lnTo>
                  <a:pt x="7" y="30"/>
                </a:lnTo>
                <a:lnTo>
                  <a:pt x="11" y="25"/>
                </a:lnTo>
                <a:lnTo>
                  <a:pt x="15" y="19"/>
                </a:lnTo>
                <a:lnTo>
                  <a:pt x="19" y="13"/>
                </a:lnTo>
                <a:lnTo>
                  <a:pt x="23" y="9"/>
                </a:lnTo>
                <a:lnTo>
                  <a:pt x="28" y="5"/>
                </a:lnTo>
                <a:lnTo>
                  <a:pt x="34" y="2"/>
                </a:lnTo>
                <a:lnTo>
                  <a:pt x="42" y="0"/>
                </a:lnTo>
                <a:lnTo>
                  <a:pt x="51" y="0"/>
                </a:lnTo>
                <a:lnTo>
                  <a:pt x="61" y="0"/>
                </a:lnTo>
                <a:lnTo>
                  <a:pt x="72" y="2"/>
                </a:lnTo>
                <a:lnTo>
                  <a:pt x="86" y="4"/>
                </a:lnTo>
                <a:lnTo>
                  <a:pt x="99" y="5"/>
                </a:lnTo>
                <a:lnTo>
                  <a:pt x="115" y="11"/>
                </a:lnTo>
                <a:lnTo>
                  <a:pt x="130" y="15"/>
                </a:lnTo>
                <a:lnTo>
                  <a:pt x="147" y="21"/>
                </a:lnTo>
                <a:lnTo>
                  <a:pt x="164" y="27"/>
                </a:lnTo>
                <a:lnTo>
                  <a:pt x="184" y="34"/>
                </a:lnTo>
                <a:lnTo>
                  <a:pt x="205" y="42"/>
                </a:lnTo>
                <a:lnTo>
                  <a:pt x="226" y="51"/>
                </a:lnTo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9" name="Freeform 13"/>
          <p:cNvSpPr/>
          <p:nvPr/>
        </p:nvSpPr>
        <p:spPr>
          <a:xfrm>
            <a:off x="3924360" y="4149720"/>
            <a:ext cx="1295280" cy="2087640"/>
          </a:xfrm>
          <a:custGeom>
            <a:avLst/>
            <a:gdLst/>
            <a:ahLst/>
            <a:rect l="l" t="t" r="r" b="b"/>
            <a:pathLst>
              <a:path w="1026" h="1756">
                <a:moveTo>
                  <a:pt x="665" y="230"/>
                </a:moveTo>
                <a:lnTo>
                  <a:pt x="656" y="232"/>
                </a:lnTo>
                <a:lnTo>
                  <a:pt x="646" y="232"/>
                </a:lnTo>
                <a:lnTo>
                  <a:pt x="635" y="232"/>
                </a:lnTo>
                <a:lnTo>
                  <a:pt x="621" y="232"/>
                </a:lnTo>
                <a:lnTo>
                  <a:pt x="606" y="234"/>
                </a:lnTo>
                <a:lnTo>
                  <a:pt x="589" y="236"/>
                </a:lnTo>
                <a:lnTo>
                  <a:pt x="571" y="238"/>
                </a:lnTo>
                <a:lnTo>
                  <a:pt x="554" y="240"/>
                </a:lnTo>
                <a:lnTo>
                  <a:pt x="533" y="241"/>
                </a:lnTo>
                <a:lnTo>
                  <a:pt x="512" y="243"/>
                </a:lnTo>
                <a:lnTo>
                  <a:pt x="489" y="247"/>
                </a:lnTo>
                <a:lnTo>
                  <a:pt x="466" y="251"/>
                </a:lnTo>
                <a:lnTo>
                  <a:pt x="441" y="255"/>
                </a:lnTo>
                <a:lnTo>
                  <a:pt x="416" y="259"/>
                </a:lnTo>
                <a:lnTo>
                  <a:pt x="387" y="264"/>
                </a:lnTo>
                <a:lnTo>
                  <a:pt x="361" y="268"/>
                </a:lnTo>
                <a:lnTo>
                  <a:pt x="332" y="274"/>
                </a:lnTo>
                <a:lnTo>
                  <a:pt x="305" y="278"/>
                </a:lnTo>
                <a:lnTo>
                  <a:pt x="278" y="284"/>
                </a:lnTo>
                <a:lnTo>
                  <a:pt x="251" y="288"/>
                </a:lnTo>
                <a:lnTo>
                  <a:pt x="226" y="289"/>
                </a:lnTo>
                <a:lnTo>
                  <a:pt x="201" y="293"/>
                </a:lnTo>
                <a:lnTo>
                  <a:pt x="177" y="297"/>
                </a:lnTo>
                <a:lnTo>
                  <a:pt x="154" y="299"/>
                </a:lnTo>
                <a:lnTo>
                  <a:pt x="131" y="301"/>
                </a:lnTo>
                <a:lnTo>
                  <a:pt x="109" y="303"/>
                </a:lnTo>
                <a:lnTo>
                  <a:pt x="88" y="303"/>
                </a:lnTo>
                <a:lnTo>
                  <a:pt x="69" y="305"/>
                </a:lnTo>
                <a:lnTo>
                  <a:pt x="50" y="305"/>
                </a:lnTo>
                <a:lnTo>
                  <a:pt x="33" y="307"/>
                </a:lnTo>
                <a:lnTo>
                  <a:pt x="16" y="307"/>
                </a:lnTo>
                <a:lnTo>
                  <a:pt x="0" y="307"/>
                </a:lnTo>
                <a:lnTo>
                  <a:pt x="0" y="184"/>
                </a:lnTo>
                <a:lnTo>
                  <a:pt x="25" y="184"/>
                </a:lnTo>
                <a:lnTo>
                  <a:pt x="52" y="182"/>
                </a:lnTo>
                <a:lnTo>
                  <a:pt x="79" y="180"/>
                </a:lnTo>
                <a:lnTo>
                  <a:pt x="106" y="176"/>
                </a:lnTo>
                <a:lnTo>
                  <a:pt x="136" y="172"/>
                </a:lnTo>
                <a:lnTo>
                  <a:pt x="165" y="169"/>
                </a:lnTo>
                <a:lnTo>
                  <a:pt x="196" y="163"/>
                </a:lnTo>
                <a:lnTo>
                  <a:pt x="224" y="155"/>
                </a:lnTo>
                <a:lnTo>
                  <a:pt x="257" y="147"/>
                </a:lnTo>
                <a:lnTo>
                  <a:pt x="290" y="142"/>
                </a:lnTo>
                <a:lnTo>
                  <a:pt x="324" y="134"/>
                </a:lnTo>
                <a:lnTo>
                  <a:pt x="361" y="126"/>
                </a:lnTo>
                <a:lnTo>
                  <a:pt x="399" y="121"/>
                </a:lnTo>
                <a:lnTo>
                  <a:pt x="437" y="113"/>
                </a:lnTo>
                <a:lnTo>
                  <a:pt x="479" y="105"/>
                </a:lnTo>
                <a:lnTo>
                  <a:pt x="522" y="98"/>
                </a:lnTo>
                <a:lnTo>
                  <a:pt x="543" y="96"/>
                </a:lnTo>
                <a:lnTo>
                  <a:pt x="564" y="92"/>
                </a:lnTo>
                <a:lnTo>
                  <a:pt x="583" y="88"/>
                </a:lnTo>
                <a:lnTo>
                  <a:pt x="600" y="84"/>
                </a:lnTo>
                <a:lnTo>
                  <a:pt x="615" y="80"/>
                </a:lnTo>
                <a:lnTo>
                  <a:pt x="631" y="76"/>
                </a:lnTo>
                <a:lnTo>
                  <a:pt x="644" y="73"/>
                </a:lnTo>
                <a:lnTo>
                  <a:pt x="658" y="69"/>
                </a:lnTo>
                <a:lnTo>
                  <a:pt x="669" y="65"/>
                </a:lnTo>
                <a:lnTo>
                  <a:pt x="681" y="61"/>
                </a:lnTo>
                <a:lnTo>
                  <a:pt x="690" y="55"/>
                </a:lnTo>
                <a:lnTo>
                  <a:pt x="698" y="51"/>
                </a:lnTo>
                <a:lnTo>
                  <a:pt x="706" y="48"/>
                </a:lnTo>
                <a:lnTo>
                  <a:pt x="711" y="42"/>
                </a:lnTo>
                <a:lnTo>
                  <a:pt x="715" y="38"/>
                </a:lnTo>
                <a:lnTo>
                  <a:pt x="719" y="32"/>
                </a:lnTo>
                <a:lnTo>
                  <a:pt x="727" y="23"/>
                </a:lnTo>
                <a:lnTo>
                  <a:pt x="734" y="15"/>
                </a:lnTo>
                <a:lnTo>
                  <a:pt x="744" y="7"/>
                </a:lnTo>
                <a:lnTo>
                  <a:pt x="753" y="4"/>
                </a:lnTo>
                <a:lnTo>
                  <a:pt x="763" y="2"/>
                </a:lnTo>
                <a:lnTo>
                  <a:pt x="775" y="0"/>
                </a:lnTo>
                <a:lnTo>
                  <a:pt x="788" y="2"/>
                </a:lnTo>
                <a:lnTo>
                  <a:pt x="799" y="4"/>
                </a:lnTo>
                <a:lnTo>
                  <a:pt x="815" y="7"/>
                </a:lnTo>
                <a:lnTo>
                  <a:pt x="830" y="15"/>
                </a:lnTo>
                <a:lnTo>
                  <a:pt x="845" y="23"/>
                </a:lnTo>
                <a:lnTo>
                  <a:pt x="863" y="32"/>
                </a:lnTo>
                <a:lnTo>
                  <a:pt x="880" y="44"/>
                </a:lnTo>
                <a:lnTo>
                  <a:pt x="901" y="57"/>
                </a:lnTo>
                <a:lnTo>
                  <a:pt x="922" y="73"/>
                </a:lnTo>
                <a:lnTo>
                  <a:pt x="943" y="88"/>
                </a:lnTo>
                <a:lnTo>
                  <a:pt x="955" y="98"/>
                </a:lnTo>
                <a:lnTo>
                  <a:pt x="962" y="107"/>
                </a:lnTo>
                <a:lnTo>
                  <a:pt x="972" y="115"/>
                </a:lnTo>
                <a:lnTo>
                  <a:pt x="980" y="122"/>
                </a:lnTo>
                <a:lnTo>
                  <a:pt x="987" y="130"/>
                </a:lnTo>
                <a:lnTo>
                  <a:pt x="993" y="138"/>
                </a:lnTo>
                <a:lnTo>
                  <a:pt x="999" y="146"/>
                </a:lnTo>
                <a:lnTo>
                  <a:pt x="1005" y="151"/>
                </a:lnTo>
                <a:lnTo>
                  <a:pt x="1008" y="159"/>
                </a:lnTo>
                <a:lnTo>
                  <a:pt x="1014" y="165"/>
                </a:lnTo>
                <a:lnTo>
                  <a:pt x="1016" y="170"/>
                </a:lnTo>
                <a:lnTo>
                  <a:pt x="1020" y="176"/>
                </a:lnTo>
                <a:lnTo>
                  <a:pt x="1022" y="180"/>
                </a:lnTo>
                <a:lnTo>
                  <a:pt x="1024" y="186"/>
                </a:lnTo>
                <a:lnTo>
                  <a:pt x="1024" y="190"/>
                </a:lnTo>
                <a:lnTo>
                  <a:pt x="1026" y="193"/>
                </a:lnTo>
                <a:lnTo>
                  <a:pt x="1024" y="199"/>
                </a:lnTo>
                <a:lnTo>
                  <a:pt x="1024" y="207"/>
                </a:lnTo>
                <a:lnTo>
                  <a:pt x="1020" y="215"/>
                </a:lnTo>
                <a:lnTo>
                  <a:pt x="1018" y="220"/>
                </a:lnTo>
                <a:lnTo>
                  <a:pt x="1012" y="228"/>
                </a:lnTo>
                <a:lnTo>
                  <a:pt x="1006" y="236"/>
                </a:lnTo>
                <a:lnTo>
                  <a:pt x="999" y="243"/>
                </a:lnTo>
                <a:lnTo>
                  <a:pt x="989" y="249"/>
                </a:lnTo>
                <a:lnTo>
                  <a:pt x="983" y="253"/>
                </a:lnTo>
                <a:lnTo>
                  <a:pt x="980" y="259"/>
                </a:lnTo>
                <a:lnTo>
                  <a:pt x="976" y="264"/>
                </a:lnTo>
                <a:lnTo>
                  <a:pt x="972" y="270"/>
                </a:lnTo>
                <a:lnTo>
                  <a:pt x="970" y="276"/>
                </a:lnTo>
                <a:lnTo>
                  <a:pt x="966" y="284"/>
                </a:lnTo>
                <a:lnTo>
                  <a:pt x="964" y="291"/>
                </a:lnTo>
                <a:lnTo>
                  <a:pt x="962" y="299"/>
                </a:lnTo>
                <a:lnTo>
                  <a:pt x="960" y="309"/>
                </a:lnTo>
                <a:lnTo>
                  <a:pt x="960" y="318"/>
                </a:lnTo>
                <a:lnTo>
                  <a:pt x="959" y="330"/>
                </a:lnTo>
                <a:lnTo>
                  <a:pt x="959" y="341"/>
                </a:lnTo>
                <a:lnTo>
                  <a:pt x="959" y="353"/>
                </a:lnTo>
                <a:lnTo>
                  <a:pt x="960" y="364"/>
                </a:lnTo>
                <a:lnTo>
                  <a:pt x="960" y="378"/>
                </a:lnTo>
                <a:lnTo>
                  <a:pt x="962" y="391"/>
                </a:lnTo>
                <a:lnTo>
                  <a:pt x="962" y="424"/>
                </a:lnTo>
                <a:lnTo>
                  <a:pt x="962" y="441"/>
                </a:lnTo>
                <a:lnTo>
                  <a:pt x="962" y="460"/>
                </a:lnTo>
                <a:lnTo>
                  <a:pt x="962" y="478"/>
                </a:lnTo>
                <a:lnTo>
                  <a:pt x="962" y="497"/>
                </a:lnTo>
                <a:lnTo>
                  <a:pt x="962" y="516"/>
                </a:lnTo>
                <a:lnTo>
                  <a:pt x="962" y="535"/>
                </a:lnTo>
                <a:lnTo>
                  <a:pt x="962" y="554"/>
                </a:lnTo>
                <a:lnTo>
                  <a:pt x="962" y="575"/>
                </a:lnTo>
                <a:lnTo>
                  <a:pt x="962" y="596"/>
                </a:lnTo>
                <a:lnTo>
                  <a:pt x="962" y="620"/>
                </a:lnTo>
                <a:lnTo>
                  <a:pt x="962" y="643"/>
                </a:lnTo>
                <a:lnTo>
                  <a:pt x="962" y="666"/>
                </a:lnTo>
                <a:lnTo>
                  <a:pt x="962" y="689"/>
                </a:lnTo>
                <a:lnTo>
                  <a:pt x="962" y="714"/>
                </a:lnTo>
                <a:lnTo>
                  <a:pt x="960" y="738"/>
                </a:lnTo>
                <a:lnTo>
                  <a:pt x="959" y="765"/>
                </a:lnTo>
                <a:lnTo>
                  <a:pt x="959" y="790"/>
                </a:lnTo>
                <a:lnTo>
                  <a:pt x="957" y="819"/>
                </a:lnTo>
                <a:lnTo>
                  <a:pt x="957" y="846"/>
                </a:lnTo>
                <a:lnTo>
                  <a:pt x="957" y="875"/>
                </a:lnTo>
                <a:lnTo>
                  <a:pt x="955" y="905"/>
                </a:lnTo>
                <a:lnTo>
                  <a:pt x="955" y="934"/>
                </a:lnTo>
                <a:lnTo>
                  <a:pt x="955" y="965"/>
                </a:lnTo>
                <a:lnTo>
                  <a:pt x="957" y="998"/>
                </a:lnTo>
                <a:lnTo>
                  <a:pt x="957" y="1030"/>
                </a:lnTo>
                <a:lnTo>
                  <a:pt x="957" y="1063"/>
                </a:lnTo>
                <a:lnTo>
                  <a:pt x="959" y="1097"/>
                </a:lnTo>
                <a:lnTo>
                  <a:pt x="959" y="1134"/>
                </a:lnTo>
                <a:lnTo>
                  <a:pt x="960" y="1168"/>
                </a:lnTo>
                <a:lnTo>
                  <a:pt x="962" y="1207"/>
                </a:lnTo>
                <a:lnTo>
                  <a:pt x="962" y="1243"/>
                </a:lnTo>
                <a:lnTo>
                  <a:pt x="960" y="1278"/>
                </a:lnTo>
                <a:lnTo>
                  <a:pt x="960" y="1310"/>
                </a:lnTo>
                <a:lnTo>
                  <a:pt x="959" y="1343"/>
                </a:lnTo>
                <a:lnTo>
                  <a:pt x="957" y="1374"/>
                </a:lnTo>
                <a:lnTo>
                  <a:pt x="955" y="1402"/>
                </a:lnTo>
                <a:lnTo>
                  <a:pt x="951" y="1429"/>
                </a:lnTo>
                <a:lnTo>
                  <a:pt x="949" y="1456"/>
                </a:lnTo>
                <a:lnTo>
                  <a:pt x="945" y="1481"/>
                </a:lnTo>
                <a:lnTo>
                  <a:pt x="941" y="1506"/>
                </a:lnTo>
                <a:lnTo>
                  <a:pt x="936" y="1527"/>
                </a:lnTo>
                <a:lnTo>
                  <a:pt x="932" y="1548"/>
                </a:lnTo>
                <a:lnTo>
                  <a:pt x="926" y="1569"/>
                </a:lnTo>
                <a:lnTo>
                  <a:pt x="920" y="1589"/>
                </a:lnTo>
                <a:lnTo>
                  <a:pt x="914" y="1606"/>
                </a:lnTo>
                <a:lnTo>
                  <a:pt x="909" y="1623"/>
                </a:lnTo>
                <a:lnTo>
                  <a:pt x="901" y="1639"/>
                </a:lnTo>
                <a:lnTo>
                  <a:pt x="895" y="1652"/>
                </a:lnTo>
                <a:lnTo>
                  <a:pt x="888" y="1665"/>
                </a:lnTo>
                <a:lnTo>
                  <a:pt x="882" y="1679"/>
                </a:lnTo>
                <a:lnTo>
                  <a:pt x="874" y="1690"/>
                </a:lnTo>
                <a:lnTo>
                  <a:pt x="868" y="1702"/>
                </a:lnTo>
                <a:lnTo>
                  <a:pt x="861" y="1711"/>
                </a:lnTo>
                <a:lnTo>
                  <a:pt x="855" y="1721"/>
                </a:lnTo>
                <a:lnTo>
                  <a:pt x="847" y="1729"/>
                </a:lnTo>
                <a:lnTo>
                  <a:pt x="842" y="1736"/>
                </a:lnTo>
                <a:lnTo>
                  <a:pt x="834" y="1742"/>
                </a:lnTo>
                <a:lnTo>
                  <a:pt x="828" y="1746"/>
                </a:lnTo>
                <a:lnTo>
                  <a:pt x="821" y="1750"/>
                </a:lnTo>
                <a:lnTo>
                  <a:pt x="815" y="1752"/>
                </a:lnTo>
                <a:lnTo>
                  <a:pt x="807" y="1754"/>
                </a:lnTo>
                <a:lnTo>
                  <a:pt x="799" y="1756"/>
                </a:lnTo>
                <a:lnTo>
                  <a:pt x="792" y="1754"/>
                </a:lnTo>
                <a:lnTo>
                  <a:pt x="784" y="1754"/>
                </a:lnTo>
                <a:lnTo>
                  <a:pt x="778" y="1752"/>
                </a:lnTo>
                <a:lnTo>
                  <a:pt x="773" y="1748"/>
                </a:lnTo>
                <a:lnTo>
                  <a:pt x="767" y="1744"/>
                </a:lnTo>
                <a:lnTo>
                  <a:pt x="761" y="1740"/>
                </a:lnTo>
                <a:lnTo>
                  <a:pt x="757" y="1734"/>
                </a:lnTo>
                <a:lnTo>
                  <a:pt x="753" y="1727"/>
                </a:lnTo>
                <a:lnTo>
                  <a:pt x="750" y="1721"/>
                </a:lnTo>
                <a:lnTo>
                  <a:pt x="748" y="1713"/>
                </a:lnTo>
                <a:lnTo>
                  <a:pt x="746" y="1704"/>
                </a:lnTo>
                <a:lnTo>
                  <a:pt x="746" y="1694"/>
                </a:lnTo>
                <a:lnTo>
                  <a:pt x="744" y="1685"/>
                </a:lnTo>
                <a:lnTo>
                  <a:pt x="744" y="1675"/>
                </a:lnTo>
                <a:lnTo>
                  <a:pt x="746" y="1663"/>
                </a:lnTo>
                <a:lnTo>
                  <a:pt x="746" y="1650"/>
                </a:lnTo>
                <a:lnTo>
                  <a:pt x="748" y="1639"/>
                </a:lnTo>
                <a:lnTo>
                  <a:pt x="748" y="1623"/>
                </a:lnTo>
                <a:lnTo>
                  <a:pt x="746" y="1608"/>
                </a:lnTo>
                <a:lnTo>
                  <a:pt x="742" y="1592"/>
                </a:lnTo>
                <a:lnTo>
                  <a:pt x="738" y="1575"/>
                </a:lnTo>
                <a:lnTo>
                  <a:pt x="734" y="1558"/>
                </a:lnTo>
                <a:lnTo>
                  <a:pt x="727" y="1539"/>
                </a:lnTo>
                <a:lnTo>
                  <a:pt x="719" y="1518"/>
                </a:lnTo>
                <a:lnTo>
                  <a:pt x="709" y="1498"/>
                </a:lnTo>
                <a:lnTo>
                  <a:pt x="700" y="1475"/>
                </a:lnTo>
                <a:lnTo>
                  <a:pt x="688" y="1454"/>
                </a:lnTo>
                <a:lnTo>
                  <a:pt x="675" y="1429"/>
                </a:lnTo>
                <a:lnTo>
                  <a:pt x="661" y="1406"/>
                </a:lnTo>
                <a:lnTo>
                  <a:pt x="646" y="1381"/>
                </a:lnTo>
                <a:lnTo>
                  <a:pt x="629" y="1354"/>
                </a:lnTo>
                <a:lnTo>
                  <a:pt x="612" y="1330"/>
                </a:lnTo>
                <a:lnTo>
                  <a:pt x="629" y="1331"/>
                </a:lnTo>
                <a:lnTo>
                  <a:pt x="644" y="1331"/>
                </a:lnTo>
                <a:lnTo>
                  <a:pt x="658" y="1333"/>
                </a:lnTo>
                <a:lnTo>
                  <a:pt x="671" y="1333"/>
                </a:lnTo>
                <a:lnTo>
                  <a:pt x="683" y="1335"/>
                </a:lnTo>
                <a:lnTo>
                  <a:pt x="694" y="1335"/>
                </a:lnTo>
                <a:lnTo>
                  <a:pt x="704" y="1335"/>
                </a:lnTo>
                <a:lnTo>
                  <a:pt x="713" y="1335"/>
                </a:lnTo>
                <a:lnTo>
                  <a:pt x="723" y="1335"/>
                </a:lnTo>
                <a:lnTo>
                  <a:pt x="730" y="1335"/>
                </a:lnTo>
                <a:lnTo>
                  <a:pt x="736" y="1335"/>
                </a:lnTo>
                <a:lnTo>
                  <a:pt x="742" y="1333"/>
                </a:lnTo>
                <a:lnTo>
                  <a:pt x="746" y="1333"/>
                </a:lnTo>
                <a:lnTo>
                  <a:pt x="750" y="1331"/>
                </a:lnTo>
                <a:lnTo>
                  <a:pt x="753" y="1331"/>
                </a:lnTo>
                <a:lnTo>
                  <a:pt x="755" y="1330"/>
                </a:lnTo>
                <a:lnTo>
                  <a:pt x="755" y="1326"/>
                </a:lnTo>
                <a:lnTo>
                  <a:pt x="755" y="1322"/>
                </a:lnTo>
                <a:lnTo>
                  <a:pt x="755" y="1316"/>
                </a:lnTo>
                <a:lnTo>
                  <a:pt x="755" y="1307"/>
                </a:lnTo>
                <a:lnTo>
                  <a:pt x="755" y="1297"/>
                </a:lnTo>
                <a:lnTo>
                  <a:pt x="755" y="1285"/>
                </a:lnTo>
                <a:lnTo>
                  <a:pt x="755" y="1272"/>
                </a:lnTo>
                <a:lnTo>
                  <a:pt x="757" y="1257"/>
                </a:lnTo>
                <a:lnTo>
                  <a:pt x="757" y="1239"/>
                </a:lnTo>
                <a:lnTo>
                  <a:pt x="757" y="1220"/>
                </a:lnTo>
                <a:lnTo>
                  <a:pt x="757" y="1211"/>
                </a:lnTo>
                <a:lnTo>
                  <a:pt x="759" y="1199"/>
                </a:lnTo>
                <a:lnTo>
                  <a:pt x="759" y="1188"/>
                </a:lnTo>
                <a:lnTo>
                  <a:pt x="759" y="1176"/>
                </a:lnTo>
                <a:lnTo>
                  <a:pt x="759" y="1163"/>
                </a:lnTo>
                <a:lnTo>
                  <a:pt x="761" y="1151"/>
                </a:lnTo>
                <a:lnTo>
                  <a:pt x="761" y="1138"/>
                </a:lnTo>
                <a:lnTo>
                  <a:pt x="761" y="1124"/>
                </a:lnTo>
                <a:lnTo>
                  <a:pt x="763" y="1109"/>
                </a:lnTo>
                <a:lnTo>
                  <a:pt x="763" y="1095"/>
                </a:lnTo>
                <a:lnTo>
                  <a:pt x="763" y="1080"/>
                </a:lnTo>
                <a:lnTo>
                  <a:pt x="765" y="1065"/>
                </a:lnTo>
                <a:lnTo>
                  <a:pt x="767" y="1032"/>
                </a:lnTo>
                <a:lnTo>
                  <a:pt x="767" y="1001"/>
                </a:lnTo>
                <a:lnTo>
                  <a:pt x="769" y="971"/>
                </a:lnTo>
                <a:lnTo>
                  <a:pt x="769" y="942"/>
                </a:lnTo>
                <a:lnTo>
                  <a:pt x="771" y="913"/>
                </a:lnTo>
                <a:lnTo>
                  <a:pt x="771" y="884"/>
                </a:lnTo>
                <a:lnTo>
                  <a:pt x="773" y="857"/>
                </a:lnTo>
                <a:lnTo>
                  <a:pt x="773" y="831"/>
                </a:lnTo>
                <a:lnTo>
                  <a:pt x="773" y="806"/>
                </a:lnTo>
                <a:lnTo>
                  <a:pt x="773" y="781"/>
                </a:lnTo>
                <a:lnTo>
                  <a:pt x="773" y="756"/>
                </a:lnTo>
                <a:lnTo>
                  <a:pt x="773" y="733"/>
                </a:lnTo>
                <a:lnTo>
                  <a:pt x="773" y="710"/>
                </a:lnTo>
                <a:lnTo>
                  <a:pt x="773" y="689"/>
                </a:lnTo>
                <a:lnTo>
                  <a:pt x="773" y="667"/>
                </a:lnTo>
                <a:lnTo>
                  <a:pt x="773" y="648"/>
                </a:lnTo>
                <a:lnTo>
                  <a:pt x="773" y="610"/>
                </a:lnTo>
                <a:lnTo>
                  <a:pt x="773" y="573"/>
                </a:lnTo>
                <a:lnTo>
                  <a:pt x="773" y="537"/>
                </a:lnTo>
                <a:lnTo>
                  <a:pt x="773" y="504"/>
                </a:lnTo>
                <a:lnTo>
                  <a:pt x="771" y="472"/>
                </a:lnTo>
                <a:lnTo>
                  <a:pt x="769" y="441"/>
                </a:lnTo>
                <a:lnTo>
                  <a:pt x="767" y="410"/>
                </a:lnTo>
                <a:lnTo>
                  <a:pt x="765" y="382"/>
                </a:lnTo>
                <a:lnTo>
                  <a:pt x="761" y="359"/>
                </a:lnTo>
                <a:lnTo>
                  <a:pt x="759" y="347"/>
                </a:lnTo>
                <a:lnTo>
                  <a:pt x="757" y="336"/>
                </a:lnTo>
                <a:lnTo>
                  <a:pt x="755" y="326"/>
                </a:lnTo>
                <a:lnTo>
                  <a:pt x="753" y="316"/>
                </a:lnTo>
                <a:lnTo>
                  <a:pt x="753" y="307"/>
                </a:lnTo>
                <a:lnTo>
                  <a:pt x="752" y="299"/>
                </a:lnTo>
                <a:lnTo>
                  <a:pt x="750" y="289"/>
                </a:lnTo>
                <a:lnTo>
                  <a:pt x="748" y="282"/>
                </a:lnTo>
                <a:lnTo>
                  <a:pt x="746" y="276"/>
                </a:lnTo>
                <a:lnTo>
                  <a:pt x="744" y="268"/>
                </a:lnTo>
                <a:lnTo>
                  <a:pt x="742" y="263"/>
                </a:lnTo>
                <a:lnTo>
                  <a:pt x="740" y="259"/>
                </a:lnTo>
                <a:lnTo>
                  <a:pt x="740" y="253"/>
                </a:lnTo>
                <a:lnTo>
                  <a:pt x="738" y="249"/>
                </a:lnTo>
                <a:lnTo>
                  <a:pt x="734" y="245"/>
                </a:lnTo>
                <a:lnTo>
                  <a:pt x="729" y="243"/>
                </a:lnTo>
                <a:lnTo>
                  <a:pt x="723" y="240"/>
                </a:lnTo>
                <a:lnTo>
                  <a:pt x="715" y="238"/>
                </a:lnTo>
                <a:lnTo>
                  <a:pt x="706" y="234"/>
                </a:lnTo>
                <a:lnTo>
                  <a:pt x="700" y="234"/>
                </a:lnTo>
                <a:lnTo>
                  <a:pt x="694" y="232"/>
                </a:lnTo>
                <a:lnTo>
                  <a:pt x="688" y="232"/>
                </a:lnTo>
                <a:lnTo>
                  <a:pt x="681" y="232"/>
                </a:lnTo>
                <a:lnTo>
                  <a:pt x="673" y="232"/>
                </a:lnTo>
                <a:lnTo>
                  <a:pt x="665" y="230"/>
                </a:lnTo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0" name="Freeform 21"/>
          <p:cNvSpPr/>
          <p:nvPr/>
        </p:nvSpPr>
        <p:spPr>
          <a:xfrm>
            <a:off x="3995640" y="4941720"/>
            <a:ext cx="720720" cy="216000"/>
          </a:xfrm>
          <a:custGeom>
            <a:avLst/>
            <a:gdLst/>
            <a:ahLst/>
            <a:rect l="l" t="t" r="r" b="b"/>
            <a:pathLst>
              <a:path w="646" h="190">
                <a:moveTo>
                  <a:pt x="476" y="161"/>
                </a:moveTo>
                <a:lnTo>
                  <a:pt x="455" y="165"/>
                </a:lnTo>
                <a:lnTo>
                  <a:pt x="434" y="169"/>
                </a:lnTo>
                <a:lnTo>
                  <a:pt x="411" y="171"/>
                </a:lnTo>
                <a:lnTo>
                  <a:pt x="386" y="175"/>
                </a:lnTo>
                <a:lnTo>
                  <a:pt x="359" y="177"/>
                </a:lnTo>
                <a:lnTo>
                  <a:pt x="332" y="179"/>
                </a:lnTo>
                <a:lnTo>
                  <a:pt x="305" y="181"/>
                </a:lnTo>
                <a:lnTo>
                  <a:pt x="274" y="182"/>
                </a:lnTo>
                <a:lnTo>
                  <a:pt x="244" y="184"/>
                </a:lnTo>
                <a:lnTo>
                  <a:pt x="213" y="186"/>
                </a:lnTo>
                <a:lnTo>
                  <a:pt x="181" y="188"/>
                </a:lnTo>
                <a:lnTo>
                  <a:pt x="146" y="188"/>
                </a:lnTo>
                <a:lnTo>
                  <a:pt x="112" y="188"/>
                </a:lnTo>
                <a:lnTo>
                  <a:pt x="75" y="190"/>
                </a:lnTo>
                <a:lnTo>
                  <a:pt x="39" y="190"/>
                </a:lnTo>
                <a:lnTo>
                  <a:pt x="0" y="190"/>
                </a:lnTo>
                <a:lnTo>
                  <a:pt x="0" y="67"/>
                </a:lnTo>
                <a:lnTo>
                  <a:pt x="29" y="67"/>
                </a:lnTo>
                <a:lnTo>
                  <a:pt x="60" y="65"/>
                </a:lnTo>
                <a:lnTo>
                  <a:pt x="90" y="63"/>
                </a:lnTo>
                <a:lnTo>
                  <a:pt x="123" y="60"/>
                </a:lnTo>
                <a:lnTo>
                  <a:pt x="154" y="54"/>
                </a:lnTo>
                <a:lnTo>
                  <a:pt x="186" y="48"/>
                </a:lnTo>
                <a:lnTo>
                  <a:pt x="219" y="39"/>
                </a:lnTo>
                <a:lnTo>
                  <a:pt x="251" y="29"/>
                </a:lnTo>
                <a:lnTo>
                  <a:pt x="280" y="23"/>
                </a:lnTo>
                <a:lnTo>
                  <a:pt x="311" y="17"/>
                </a:lnTo>
                <a:lnTo>
                  <a:pt x="338" y="12"/>
                </a:lnTo>
                <a:lnTo>
                  <a:pt x="365" y="8"/>
                </a:lnTo>
                <a:lnTo>
                  <a:pt x="389" y="4"/>
                </a:lnTo>
                <a:lnTo>
                  <a:pt x="414" y="2"/>
                </a:lnTo>
                <a:lnTo>
                  <a:pt x="437" y="0"/>
                </a:lnTo>
                <a:lnTo>
                  <a:pt x="458" y="0"/>
                </a:lnTo>
                <a:lnTo>
                  <a:pt x="476" y="0"/>
                </a:lnTo>
                <a:lnTo>
                  <a:pt x="491" y="2"/>
                </a:lnTo>
                <a:lnTo>
                  <a:pt x="508" y="4"/>
                </a:lnTo>
                <a:lnTo>
                  <a:pt x="526" y="8"/>
                </a:lnTo>
                <a:lnTo>
                  <a:pt x="543" y="12"/>
                </a:lnTo>
                <a:lnTo>
                  <a:pt x="558" y="17"/>
                </a:lnTo>
                <a:lnTo>
                  <a:pt x="575" y="23"/>
                </a:lnTo>
                <a:lnTo>
                  <a:pt x="593" y="29"/>
                </a:lnTo>
                <a:lnTo>
                  <a:pt x="606" y="37"/>
                </a:lnTo>
                <a:lnTo>
                  <a:pt x="616" y="44"/>
                </a:lnTo>
                <a:lnTo>
                  <a:pt x="625" y="52"/>
                </a:lnTo>
                <a:lnTo>
                  <a:pt x="633" y="60"/>
                </a:lnTo>
                <a:lnTo>
                  <a:pt x="639" y="67"/>
                </a:lnTo>
                <a:lnTo>
                  <a:pt x="642" y="75"/>
                </a:lnTo>
                <a:lnTo>
                  <a:pt x="646" y="85"/>
                </a:lnTo>
                <a:lnTo>
                  <a:pt x="646" y="96"/>
                </a:lnTo>
                <a:lnTo>
                  <a:pt x="646" y="100"/>
                </a:lnTo>
                <a:lnTo>
                  <a:pt x="644" y="106"/>
                </a:lnTo>
                <a:lnTo>
                  <a:pt x="641" y="110"/>
                </a:lnTo>
                <a:lnTo>
                  <a:pt x="637" y="115"/>
                </a:lnTo>
                <a:lnTo>
                  <a:pt x="631" y="119"/>
                </a:lnTo>
                <a:lnTo>
                  <a:pt x="623" y="123"/>
                </a:lnTo>
                <a:lnTo>
                  <a:pt x="616" y="129"/>
                </a:lnTo>
                <a:lnTo>
                  <a:pt x="604" y="133"/>
                </a:lnTo>
                <a:lnTo>
                  <a:pt x="595" y="136"/>
                </a:lnTo>
                <a:lnTo>
                  <a:pt x="581" y="140"/>
                </a:lnTo>
                <a:lnTo>
                  <a:pt x="568" y="144"/>
                </a:lnTo>
                <a:lnTo>
                  <a:pt x="552" y="148"/>
                </a:lnTo>
                <a:lnTo>
                  <a:pt x="535" y="150"/>
                </a:lnTo>
                <a:lnTo>
                  <a:pt x="516" y="154"/>
                </a:lnTo>
                <a:lnTo>
                  <a:pt x="497" y="158"/>
                </a:lnTo>
                <a:lnTo>
                  <a:pt x="476" y="161"/>
                </a:lnTo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1" name="Freeform 22"/>
          <p:cNvSpPr/>
          <p:nvPr/>
        </p:nvSpPr>
        <p:spPr>
          <a:xfrm rot="336600">
            <a:off x="3927240" y="5667120"/>
            <a:ext cx="1074600" cy="288720"/>
          </a:xfrm>
          <a:custGeom>
            <a:avLst/>
            <a:gdLst/>
            <a:ahLst/>
            <a:rect l="l" t="t" r="r" b="b"/>
            <a:pathLst>
              <a:path w="719" h="107">
                <a:moveTo>
                  <a:pt x="0" y="78"/>
                </a:moveTo>
                <a:lnTo>
                  <a:pt x="33" y="73"/>
                </a:lnTo>
                <a:lnTo>
                  <a:pt x="63" y="67"/>
                </a:lnTo>
                <a:lnTo>
                  <a:pt x="92" y="61"/>
                </a:lnTo>
                <a:lnTo>
                  <a:pt x="121" y="55"/>
                </a:lnTo>
                <a:lnTo>
                  <a:pt x="150" y="50"/>
                </a:lnTo>
                <a:lnTo>
                  <a:pt x="176" y="46"/>
                </a:lnTo>
                <a:lnTo>
                  <a:pt x="203" y="42"/>
                </a:lnTo>
                <a:lnTo>
                  <a:pt x="228" y="36"/>
                </a:lnTo>
                <a:lnTo>
                  <a:pt x="253" y="32"/>
                </a:lnTo>
                <a:lnTo>
                  <a:pt x="276" y="28"/>
                </a:lnTo>
                <a:lnTo>
                  <a:pt x="299" y="27"/>
                </a:lnTo>
                <a:lnTo>
                  <a:pt x="320" y="23"/>
                </a:lnTo>
                <a:lnTo>
                  <a:pt x="341" y="19"/>
                </a:lnTo>
                <a:lnTo>
                  <a:pt x="362" y="17"/>
                </a:lnTo>
                <a:lnTo>
                  <a:pt x="381" y="13"/>
                </a:lnTo>
                <a:lnTo>
                  <a:pt x="399" y="11"/>
                </a:lnTo>
                <a:lnTo>
                  <a:pt x="416" y="9"/>
                </a:lnTo>
                <a:lnTo>
                  <a:pt x="433" y="7"/>
                </a:lnTo>
                <a:lnTo>
                  <a:pt x="449" y="5"/>
                </a:lnTo>
                <a:lnTo>
                  <a:pt x="464" y="5"/>
                </a:lnTo>
                <a:lnTo>
                  <a:pt x="477" y="4"/>
                </a:lnTo>
                <a:lnTo>
                  <a:pt x="491" y="2"/>
                </a:lnTo>
                <a:lnTo>
                  <a:pt x="504" y="2"/>
                </a:lnTo>
                <a:lnTo>
                  <a:pt x="516" y="2"/>
                </a:lnTo>
                <a:lnTo>
                  <a:pt x="525" y="2"/>
                </a:lnTo>
                <a:lnTo>
                  <a:pt x="535" y="0"/>
                </a:lnTo>
                <a:lnTo>
                  <a:pt x="544" y="0"/>
                </a:lnTo>
                <a:lnTo>
                  <a:pt x="552" y="0"/>
                </a:lnTo>
                <a:lnTo>
                  <a:pt x="560" y="2"/>
                </a:lnTo>
                <a:lnTo>
                  <a:pt x="565" y="2"/>
                </a:lnTo>
                <a:lnTo>
                  <a:pt x="571" y="2"/>
                </a:lnTo>
                <a:lnTo>
                  <a:pt x="575" y="4"/>
                </a:lnTo>
                <a:lnTo>
                  <a:pt x="592" y="7"/>
                </a:lnTo>
                <a:lnTo>
                  <a:pt x="610" y="11"/>
                </a:lnTo>
                <a:lnTo>
                  <a:pt x="627" y="17"/>
                </a:lnTo>
                <a:lnTo>
                  <a:pt x="644" y="25"/>
                </a:lnTo>
                <a:lnTo>
                  <a:pt x="661" y="32"/>
                </a:lnTo>
                <a:lnTo>
                  <a:pt x="680" y="40"/>
                </a:lnTo>
                <a:lnTo>
                  <a:pt x="700" y="50"/>
                </a:lnTo>
                <a:lnTo>
                  <a:pt x="719" y="59"/>
                </a:lnTo>
                <a:lnTo>
                  <a:pt x="698" y="59"/>
                </a:lnTo>
                <a:lnTo>
                  <a:pt x="675" y="59"/>
                </a:lnTo>
                <a:lnTo>
                  <a:pt x="652" y="61"/>
                </a:lnTo>
                <a:lnTo>
                  <a:pt x="627" y="61"/>
                </a:lnTo>
                <a:lnTo>
                  <a:pt x="602" y="63"/>
                </a:lnTo>
                <a:lnTo>
                  <a:pt x="577" y="63"/>
                </a:lnTo>
                <a:lnTo>
                  <a:pt x="527" y="65"/>
                </a:lnTo>
                <a:lnTo>
                  <a:pt x="473" y="69"/>
                </a:lnTo>
                <a:lnTo>
                  <a:pt x="418" y="71"/>
                </a:lnTo>
                <a:lnTo>
                  <a:pt x="362" y="75"/>
                </a:lnTo>
                <a:lnTo>
                  <a:pt x="307" y="78"/>
                </a:lnTo>
                <a:lnTo>
                  <a:pt x="278" y="82"/>
                </a:lnTo>
                <a:lnTo>
                  <a:pt x="251" y="86"/>
                </a:lnTo>
                <a:lnTo>
                  <a:pt x="226" y="88"/>
                </a:lnTo>
                <a:lnTo>
                  <a:pt x="203" y="92"/>
                </a:lnTo>
                <a:lnTo>
                  <a:pt x="182" y="94"/>
                </a:lnTo>
                <a:lnTo>
                  <a:pt x="161" y="96"/>
                </a:lnTo>
                <a:lnTo>
                  <a:pt x="142" y="98"/>
                </a:lnTo>
                <a:lnTo>
                  <a:pt x="125" y="99"/>
                </a:lnTo>
                <a:lnTo>
                  <a:pt x="109" y="101"/>
                </a:lnTo>
                <a:lnTo>
                  <a:pt x="96" y="103"/>
                </a:lnTo>
                <a:lnTo>
                  <a:pt x="82" y="103"/>
                </a:lnTo>
                <a:lnTo>
                  <a:pt x="73" y="105"/>
                </a:lnTo>
                <a:lnTo>
                  <a:pt x="63" y="105"/>
                </a:lnTo>
                <a:lnTo>
                  <a:pt x="56" y="107"/>
                </a:lnTo>
                <a:lnTo>
                  <a:pt x="50" y="107"/>
                </a:lnTo>
                <a:lnTo>
                  <a:pt x="46" y="107"/>
                </a:lnTo>
                <a:lnTo>
                  <a:pt x="38" y="107"/>
                </a:lnTo>
                <a:lnTo>
                  <a:pt x="33" y="105"/>
                </a:lnTo>
                <a:lnTo>
                  <a:pt x="25" y="103"/>
                </a:lnTo>
                <a:lnTo>
                  <a:pt x="19" y="99"/>
                </a:lnTo>
                <a:lnTo>
                  <a:pt x="13" y="96"/>
                </a:lnTo>
                <a:lnTo>
                  <a:pt x="10" y="92"/>
                </a:lnTo>
                <a:lnTo>
                  <a:pt x="4" y="86"/>
                </a:lnTo>
                <a:lnTo>
                  <a:pt x="0" y="78"/>
                </a:lnTo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2" name="Oval 23"/>
          <p:cNvSpPr/>
          <p:nvPr/>
        </p:nvSpPr>
        <p:spPr>
          <a:xfrm>
            <a:off x="7956720" y="6381720"/>
            <a:ext cx="576000" cy="287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562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562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000"/>
                            </p:stCondLst>
                            <p:childTnLst>
                              <p:par>
                                <p:cTn id="5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10" descr=""/>
          <p:cNvPicPr/>
          <p:nvPr/>
        </p:nvPicPr>
        <p:blipFill>
          <a:blip r:embed="rId1"/>
          <a:srcRect l="4434" t="2639" r="0" b="0"/>
          <a:stretch/>
        </p:blipFill>
        <p:spPr>
          <a:xfrm>
            <a:off x="9612360" y="6165720"/>
            <a:ext cx="2195640" cy="2195640"/>
          </a:xfrm>
          <a:prstGeom prst="rect">
            <a:avLst/>
          </a:prstGeom>
          <a:ln w="0">
            <a:noFill/>
          </a:ln>
        </p:spPr>
      </p:pic>
      <p:sp>
        <p:nvSpPr>
          <p:cNvPr id="564" name="Text Box 3"/>
          <p:cNvSpPr/>
          <p:nvPr/>
        </p:nvSpPr>
        <p:spPr>
          <a:xfrm>
            <a:off x="6012000" y="4581360"/>
            <a:ext cx="223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日出</a:t>
            </a:r>
            <a:endParaRPr b="0" i="1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900000" y="4653000"/>
            <a:ext cx="2233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日落</a:t>
            </a:r>
            <a:endParaRPr b="0" i="1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6" name="Text Box 4"/>
          <p:cNvSpPr/>
          <p:nvPr/>
        </p:nvSpPr>
        <p:spPr>
          <a:xfrm>
            <a:off x="1763640" y="4653000"/>
            <a:ext cx="100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 u="sng">
                <a:solidFill>
                  <a:srgbClr val="6767ff"/>
                </a:solidFill>
                <a:uFillTx/>
                <a:latin typeface="楷体_GB2312"/>
                <a:ea typeface="楷体_GB2312"/>
              </a:rPr>
              <a:t>落</a:t>
            </a:r>
            <a:endParaRPr b="0" i="1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7" name="Text Box 4"/>
          <p:cNvSpPr/>
          <p:nvPr/>
        </p:nvSpPr>
        <p:spPr>
          <a:xfrm>
            <a:off x="6877080" y="4581360"/>
            <a:ext cx="100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 u="sng">
                <a:solidFill>
                  <a:srgbClr val="6767ff"/>
                </a:solidFill>
                <a:uFillTx/>
                <a:latin typeface="楷体_GB2312"/>
                <a:ea typeface="楷体_GB2312"/>
              </a:rPr>
              <a:t>出</a:t>
            </a:r>
            <a:endParaRPr b="0" i="1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333 -0.24398 C -0.10555 -0.36065 -0.17708 -0.47662 -0.25156 -0.55695 C -0.32674 -0.6375 -0.4125 -0.68727 -0.48264 -0.72639 C -0.55278 -0.76528 -0.61215 -0.77824 -0.67118 -0.78959 E">
                                      <p:cBhvr>
                                        <p:cTn id="65" dur="2000" fill="hold"/>
                                        <p:tgtEl>
                                          <p:spTgt spid="5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7118 -0.78959 C -0.71632 -0.78773 -0.76146 -0.78519 -0.80799 -0.77037 C -0.85486 -0.75556 -0.90069 -0.73426 -0.95087 -0.7 C -1.00104 -0.66551 -1.06302 -0.61181 -1.10955 -0.56435 C -1.15625 -0.51667 -1.19427 -0.47014 -1.23021 -0.41528 C -1.2658 -0.35996 -1.30868 -0.26435 -1.32483 -0.23357 E">
                                      <p:cBhvr>
                                        <p:cTn id="74" dur="2000" fill="hold"/>
                                        <p:tgtEl>
                                          <p:spTgt spid="5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2" descr="20081230121412587_2"/>
          <p:cNvPicPr/>
          <p:nvPr/>
        </p:nvPicPr>
        <p:blipFill>
          <a:blip r:embed="rId1"/>
          <a:srcRect l="-194" t="0" r="0" b="5540"/>
          <a:stretch/>
        </p:blipFill>
        <p:spPr>
          <a:xfrm>
            <a:off x="0" y="0"/>
            <a:ext cx="4427640" cy="3500280"/>
          </a:xfrm>
          <a:prstGeom prst="rect">
            <a:avLst/>
          </a:prstGeom>
          <a:ln w="0">
            <a:noFill/>
          </a:ln>
        </p:spPr>
      </p:pic>
      <p:sp>
        <p:nvSpPr>
          <p:cNvPr id="569" name="Rectangle 3"/>
          <p:cNvSpPr/>
          <p:nvPr/>
        </p:nvSpPr>
        <p:spPr>
          <a:xfrm>
            <a:off x="1547640" y="4724280"/>
            <a:ext cx="230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日出</a:t>
            </a:r>
            <a:endParaRPr b="0" i="1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70" name="Picture 2" descr="8391505_131741699000_2"/>
          <p:cNvPicPr/>
          <p:nvPr/>
        </p:nvPicPr>
        <p:blipFill>
          <a:blip r:embed="rId2"/>
          <a:srcRect l="-194" t="0" r="0" b="5102"/>
          <a:stretch/>
        </p:blipFill>
        <p:spPr>
          <a:xfrm>
            <a:off x="4427640" y="0"/>
            <a:ext cx="4697280" cy="3500280"/>
          </a:xfrm>
          <a:prstGeom prst="rect">
            <a:avLst/>
          </a:prstGeom>
          <a:ln w="0">
            <a:noFill/>
          </a:ln>
        </p:spPr>
      </p:pic>
      <p:sp>
        <p:nvSpPr>
          <p:cNvPr id="571" name="Rectangle 3"/>
          <p:cNvSpPr/>
          <p:nvPr/>
        </p:nvSpPr>
        <p:spPr>
          <a:xfrm>
            <a:off x="5292720" y="4724280"/>
            <a:ext cx="230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日落</a:t>
            </a:r>
            <a:endParaRPr b="0" i="1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2" descr="20081230121412587_2"/>
          <p:cNvPicPr/>
          <p:nvPr/>
        </p:nvPicPr>
        <p:blipFill>
          <a:blip r:embed="rId1"/>
          <a:srcRect l="-194" t="0" r="0" b="5540"/>
          <a:stretch/>
        </p:blipFill>
        <p:spPr>
          <a:xfrm>
            <a:off x="0" y="0"/>
            <a:ext cx="4427640" cy="3500280"/>
          </a:xfrm>
          <a:prstGeom prst="rect">
            <a:avLst/>
          </a:prstGeom>
          <a:ln w="0">
            <a:noFill/>
          </a:ln>
        </p:spPr>
      </p:pic>
      <p:sp>
        <p:nvSpPr>
          <p:cNvPr id="573" name="Rectangle 3"/>
          <p:cNvSpPr/>
          <p:nvPr/>
        </p:nvSpPr>
        <p:spPr>
          <a:xfrm>
            <a:off x="2700360" y="4724280"/>
            <a:ext cx="2303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日出</a:t>
            </a:r>
            <a:endParaRPr b="0" i="1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74" name="Picture 2" descr="8391505_131741699000_2"/>
          <p:cNvPicPr/>
          <p:nvPr/>
        </p:nvPicPr>
        <p:blipFill>
          <a:blip r:embed="rId2"/>
          <a:srcRect l="-194" t="0" r="0" b="5102"/>
          <a:stretch/>
        </p:blipFill>
        <p:spPr>
          <a:xfrm>
            <a:off x="4427640" y="0"/>
            <a:ext cx="4697280" cy="3500280"/>
          </a:xfrm>
          <a:prstGeom prst="rect">
            <a:avLst/>
          </a:prstGeom>
          <a:ln w="0">
            <a:noFill/>
          </a:ln>
        </p:spPr>
      </p:pic>
      <p:sp>
        <p:nvSpPr>
          <p:cNvPr id="575" name="Rectangle 3"/>
          <p:cNvSpPr/>
          <p:nvPr/>
        </p:nvSpPr>
        <p:spPr>
          <a:xfrm>
            <a:off x="4284720" y="4724280"/>
            <a:ext cx="2303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日落</a:t>
            </a:r>
            <a:endParaRPr b="0" i="1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Box 5"/>
          <p:cNvSpPr/>
          <p:nvPr/>
        </p:nvSpPr>
        <p:spPr>
          <a:xfrm>
            <a:off x="1403280" y="2214720"/>
            <a:ext cx="335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今日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9" name="TextBox 6"/>
          <p:cNvSpPr/>
          <p:nvPr/>
        </p:nvSpPr>
        <p:spPr>
          <a:xfrm>
            <a:off x="1547640" y="1643040"/>
            <a:ext cx="122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方正姚体"/>
                <a:ea typeface="方正姚体"/>
              </a:rPr>
              <a:t>jīn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0" name="TextBox 5"/>
          <p:cNvSpPr/>
          <p:nvPr/>
        </p:nvSpPr>
        <p:spPr>
          <a:xfrm>
            <a:off x="5003640" y="2205000"/>
            <a:ext cx="335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明日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1" name="TextBox 6"/>
          <p:cNvSpPr/>
          <p:nvPr/>
        </p:nvSpPr>
        <p:spPr>
          <a:xfrm>
            <a:off x="5076720" y="1773360"/>
            <a:ext cx="1516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方正姚体"/>
                <a:ea typeface="方正姚体"/>
              </a:rPr>
              <a:t>mín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  <a:ea typeface="迷你简彩云"/>
              </a:rPr>
              <a:t>ɡ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9T06:37:23Z</dcterms:created>
  <dc:creator/>
  <dc:description/>
  <dc:language>en-US</dc:language>
  <cp:lastModifiedBy>万润仪器贸易公司</cp:lastModifiedBy>
  <dcterms:modified xsi:type="dcterms:W3CDTF">2020-08-24T01:37:09Z</dcterms:modified>
  <cp:revision>23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